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4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AE2-4E1E-44D4-9A81-C86725EE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22B-5564-4CC4-B098-AEC04E4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B5C-23B4-4DEA-8719-CA239FAE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5DC-9791-43A2-A57E-47EA9794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7B0-C6E2-44DD-8161-14FC1CC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624-116C-4209-90CD-1B291CE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7E3-BDCC-49CD-99E5-5B1DE1EB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669-002C-452D-868D-DCD057F1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E8D-E407-4761-971F-4A4FDEC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777-60D5-4A28-8960-1CD534E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955-3CA5-4196-91BD-218882BD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860-677A-4702-B607-F988A863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BEBF-610D-45DF-8AED-812AA46D9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llday.ru/index.php?newsid=8602" TargetMode="External"/><Relationship Id="rId3" Type="http://schemas.openxmlformats.org/officeDocument/2006/relationships/hyperlink" Target="http://www.samara-photo.ru/browse/cat.16.user.897.html" TargetMode="External"/><Relationship Id="rId4" Type="http://schemas.openxmlformats.org/officeDocument/2006/relationships/hyperlink" Target="http://www.samara-photo.ru/browse/cat.16.user.897.html" TargetMode="External"/><Relationship Id="rId5" Type="http://schemas.openxmlformats.org/officeDocument/2006/relationships/hyperlink" Target="http://www.samara-photo.ru/browse/cat.16.user.897.html" TargetMode="External"/><Relationship Id="rId6" Type="http://schemas.openxmlformats.org/officeDocument/2006/relationships/hyperlink" Target="http://www.samara-photo.ru/browse/cat.16.user.897.html" TargetMode="External"/><Relationship Id="rId7" Type="http://schemas.openxmlformats.org/officeDocument/2006/relationships/hyperlink" Target="http://www.samara-photo.ru/browse/cat.16.user.897.html" TargetMode="External"/><Relationship Id="rId8" Type="http://schemas.openxmlformats.org/officeDocument/2006/relationships/hyperlink" Target="http://www.samara-photo.ru/browse/cat.16.user.897.html" TargetMode="External"/><Relationship Id="rId9" Type="http://schemas.openxmlformats.org/officeDocument/2006/relationships/hyperlink" Target="http://www.pravda34.info/news/30-04-2010/4170" TargetMode="External"/><Relationship Id="rId10" Type="http://schemas.openxmlformats.org/officeDocument/2006/relationships/hyperlink" Target="http://newsweek.m2.ru/blogs/" TargetMode="External"/><Relationship Id="rId11" Type="http://schemas.openxmlformats.org/officeDocument/2006/relationships/hyperlink" Target="http://www.timetolive.ru/p/10/?mygood" TargetMode="External"/><Relationship Id="rId12" Type="http://schemas.openxmlformats.org/officeDocument/2006/relationships/hyperlink" Target="http://www.timetolive.ru/p/10/?mygood" TargetMode="External"/><Relationship Id="rId13" Type="http://schemas.openxmlformats.org/officeDocument/2006/relationships/hyperlink" Target="http://www.timetolive.ru/p/10/?mygood" TargetMode="External"/><Relationship Id="rId14" Type="http://schemas.openxmlformats.org/officeDocument/2006/relationships/hyperlink" Target="http://www.timetolive.ru/p/10/?mygood" TargetMode="External"/><Relationship Id="rId15" Type="http://schemas.openxmlformats.org/officeDocument/2006/relationships/hyperlink" Target="http://www.timetolive.ru/p/10/?mygood" TargetMode="External"/><Relationship Id="rId16" Type="http://schemas.openxmlformats.org/officeDocument/2006/relationships/hyperlink" Target="http://www.vitbichi.by/?p=1697" TargetMode="External"/><Relationship Id="rId17" Type="http://schemas.openxmlformats.org/officeDocument/2006/relationships/hyperlink" Target="http://www.vitbichi.by/?p=1697" TargetMode="External"/><Relationship Id="rId18" Type="http://schemas.openxmlformats.org/officeDocument/2006/relationships/hyperlink" Target="http://www.vitbichi.by/?p=1697" TargetMode="External"/><Relationship Id="rId19" Type="http://schemas.openxmlformats.org/officeDocument/2006/relationships/hyperlink" Target="http://www.vitbichi.by/?p=1697" TargetMode="External"/><Relationship Id="rId20" Type="http://schemas.openxmlformats.org/officeDocument/2006/relationships/hyperlink" Target="http://fotki.yandex.ru/users/gal-zaya/view/114766/" TargetMode="External"/><Relationship Id="rId21" Type="http://schemas.openxmlformats.org/officeDocument/2006/relationships/hyperlink" Target="http://www.paint-best.info/art/clipart/city/" TargetMode="External"/><Relationship Id="rId22" Type="http://schemas.openxmlformats.org/officeDocument/2006/relationships/hyperlink" Target="http://blogs.privet.ru/community/YANA_2008?page=9" TargetMode="External"/><Relationship Id="rId23" Type="http://schemas.openxmlformats.org/officeDocument/2006/relationships/hyperlink" Target="http://www.arendametr.ru/link.php?link=14167" TargetMode="External"/><Relationship Id="rId24" Type="http://schemas.openxmlformats.org/officeDocument/2006/relationships/hyperlink" Target="http://www.arendametr.ru/link.php?link=14167" TargetMode="External"/><Relationship Id="rId25" Type="http://schemas.openxmlformats.org/officeDocument/2006/relationships/hyperlink" Target="http://www.arendametr.ru/link.php?link=14167" TargetMode="External"/><Relationship Id="rId26" Type="http://schemas.openxmlformats.org/officeDocument/2006/relationships/hyperlink" Target="http://www.arendametr.ru/link.php?link=14167" TargetMode="External"/><Relationship Id="rId27" Type="http://schemas.openxmlformats.org/officeDocument/2006/relationships/hyperlink" Target="http://www.beisik.ru/projects/" TargetMode="External"/><Relationship Id="rId28" Type="http://schemas.openxmlformats.org/officeDocument/2006/relationships/hyperlink" Target="http://www.beisik.ru/projects/" TargetMode="External"/><Relationship Id="rId29" Type="http://schemas.openxmlformats.org/officeDocument/2006/relationships/hyperlink" Target="http://www.beisik.ru/projects/" TargetMode="External"/><Relationship Id="rId30" Type="http://schemas.openxmlformats.org/officeDocument/2006/relationships/hyperlink" Target="http://www.beisik.ru/projects/" TargetMode="External"/><Relationship Id="rId31" Type="http://schemas.openxmlformats.org/officeDocument/2006/relationships/hyperlink" Target="http://www.beisik.ru/projects/" TargetMode="External"/><Relationship Id="rId32" Type="http://schemas.openxmlformats.org/officeDocument/2006/relationships/hyperlink" Target="http://www.beisik.ru/projects/" TargetMode="External"/><Relationship Id="rId33" Type="http://schemas.openxmlformats.org/officeDocument/2006/relationships/hyperlink" Target="http://www.photosight.ru/photos/2864458/" TargetMode="External"/><Relationship Id="rId34" Type="http://schemas.openxmlformats.org/officeDocument/2006/relationships/hyperlink" Target="http://www.photosight.ru/photos/2864458/" TargetMode="External"/><Relationship Id="rId35" Type="http://schemas.openxmlformats.org/officeDocument/2006/relationships/hyperlink" Target="http://www.photosight.ru/photos/2864458/" TargetMode="External"/><Relationship Id="rId36" Type="http://schemas.openxmlformats.org/officeDocument/2006/relationships/hyperlink" Target="http://www.photosight.ru/photos/2864458/" TargetMode="External"/><Relationship Id="rId37" Type="http://schemas.openxmlformats.org/officeDocument/2006/relationships/hyperlink" Target="http://www.photosight.ru/photos/2864458/" TargetMode="External"/><Relationship Id="rId38" Type="http://schemas.openxmlformats.org/officeDocument/2006/relationships/hyperlink" Target="http://www.photosight.ru/photos/2864458/" TargetMode="External"/><Relationship Id="rId39" Type="http://schemas.openxmlformats.org/officeDocument/2006/relationships/hyperlink" Target="http://blog.vechnoe.info/?tag=selo" TargetMode="External"/><Relationship Id="rId40" Type="http://schemas.openxmlformats.org/officeDocument/2006/relationships/hyperlink" Target="http://blog.vechnoe.info/?tag=selo" TargetMode="External"/><Relationship Id="rId41" Type="http://schemas.openxmlformats.org/officeDocument/2006/relationships/hyperlink" Target="http://blog.vechnoe.info/?tag=selo" TargetMode="External"/><Relationship Id="rId42" Type="http://schemas.openxmlformats.org/officeDocument/2006/relationships/hyperlink" Target="http://blog.vechnoe.info/?tag=selo" TargetMode="External"/><Relationship Id="rId43" Type="http://schemas.openxmlformats.org/officeDocument/2006/relationships/hyperlink" Target="http://blog.vechnoe.info/?tag=selo" TargetMode="External"/><Relationship Id="rId44" Type="http://schemas.openxmlformats.org/officeDocument/2006/relationships/hyperlink" Target="http://stroymarket.izhtime.ru/news77/" TargetMode="External"/><Relationship Id="rId45" Type="http://schemas.openxmlformats.org/officeDocument/2006/relationships/hyperlink" Target="http://stroymarket.izhtime.ru/news77/" TargetMode="External"/><Relationship Id="rId46" Type="http://schemas.openxmlformats.org/officeDocument/2006/relationships/hyperlink" Target="http://stroymarket.izhtime.ru/news77/" TargetMode="External"/><Relationship Id="rId47" Type="http://schemas.openxmlformats.org/officeDocument/2006/relationships/hyperlink" Target="http://stroymarket.izhtime.ru/news77/" TargetMode="External"/><Relationship Id="rId48" Type="http://schemas.openxmlformats.org/officeDocument/2006/relationships/hyperlink" Target="http://fotki.yandex.ru/users/boris-severyukhin/view/72147/" TargetMode="External"/><Relationship Id="rId49" Type="http://schemas.openxmlformats.org/officeDocument/2006/relationships/hyperlink" Target="http://fotki.yandex.ru/users/boris-severyukhin/view/72147/" TargetMode="External"/><Relationship Id="rId50" Type="http://schemas.openxmlformats.org/officeDocument/2006/relationships/hyperlink" Target="http://fotki.yandex.ru/users/boris-severyukhin/view/72147/" TargetMode="External"/><Relationship Id="rId51" Type="http://schemas.openxmlformats.org/officeDocument/2006/relationships/hyperlink" Target="http://fotki.yandex.ru/users/boris-severyukhin/view/72147/" TargetMode="External"/><Relationship Id="rId52" Type="http://schemas.openxmlformats.org/officeDocument/2006/relationships/hyperlink" Target="http://fotki.yandex.ru/users/boris-severyukhin/view/72147/" TargetMode="External"/><Relationship Id="rId53" Type="http://schemas.openxmlformats.org/officeDocument/2006/relationships/hyperlink" Target="http://fotki.yandex.ru/users/boris-severyukhin/view/72147/" TargetMode="External"/><Relationship Id="rId54" Type="http://schemas.openxmlformats.org/officeDocument/2006/relationships/hyperlink" Target="http://fotki.yandex.ru/users/boris-severyukhin/view/72147/" TargetMode="External"/><Relationship Id="rId55" Type="http://schemas.openxmlformats.org/officeDocument/2006/relationships/hyperlink" Target="http://fotki.yandex.ru/users/boris-severyukhin/view/72147/" TargetMode="External"/><Relationship Id="rId56" Type="http://schemas.openxmlformats.org/officeDocument/2006/relationships/hyperlink" Target="http://fotki.yandex.ru/users/boris-severyukhin/view/72147/" TargetMode="External"/><Relationship Id="rId57" Type="http://schemas.openxmlformats.org/officeDocument/2006/relationships/hyperlink" Target="http://fotki.yandex.ru/users/boris-severyukhin/view/72147/" TargetMode="External"/><Relationship Id="rId5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clipartov.net/show-50-4.html" TargetMode="External"/><Relationship Id="rId3" Type="http://schemas.openxmlformats.org/officeDocument/2006/relationships/hyperlink" Target="http://www.clipartov.net/show-50-4.html" TargetMode="External"/><Relationship Id="rId4" Type="http://schemas.openxmlformats.org/officeDocument/2006/relationships/hyperlink" Target="http://www.clipartov.net/show-50-4.html" TargetMode="External"/><Relationship Id="rId5" Type="http://schemas.openxmlformats.org/officeDocument/2006/relationships/hyperlink" Target="http://www.clipartov.net/show-50-4.html" TargetMode="External"/><Relationship Id="rId6" Type="http://schemas.openxmlformats.org/officeDocument/2006/relationships/hyperlink" Target="http://mcs41.wordpress.com/" TargetMode="External"/><Relationship Id="rId7" Type="http://schemas.openxmlformats.org/officeDocument/2006/relationships/hyperlink" Target="http://mcs41.wordpress.com/" TargetMode="External"/><Relationship Id="rId8" Type="http://schemas.openxmlformats.org/officeDocument/2006/relationships/hyperlink" Target="http://jasonhenle.wordpress.com/2009/03/" TargetMode="External"/><Relationship Id="rId9" Type="http://schemas.openxmlformats.org/officeDocument/2006/relationships/hyperlink" Target="http://jasonhenle.wordpress.com/2009/03/" TargetMode="External"/><Relationship Id="rId10" Type="http://schemas.openxmlformats.org/officeDocument/2006/relationships/hyperlink" Target="http://jasonhenle.wordpress.com/2009/03/" TargetMode="External"/><Relationship Id="rId11" Type="http://schemas.openxmlformats.org/officeDocument/2006/relationships/hyperlink" Target="http://jasonhenle.wordpress.com/2009/03/" TargetMode="External"/><Relationship Id="rId12" Type="http://schemas.openxmlformats.org/officeDocument/2006/relationships/hyperlink" Target="http://www.grafamania.net/vector/978-vektornyjj-klipart-selskie-zarisovki.html" TargetMode="External"/><Relationship Id="rId13" Type="http://schemas.openxmlformats.org/officeDocument/2006/relationships/hyperlink" Target="http://www.grafamania.net/vector/978-vektornyjj-klipart-selskie-zarisovki.html" TargetMode="External"/><Relationship Id="rId14" Type="http://schemas.openxmlformats.org/officeDocument/2006/relationships/hyperlink" Target="http://www.grafamania.net/vector/978-vektornyjj-klipart-selskie-zarisovki.html" TargetMode="External"/><Relationship Id="rId15" Type="http://schemas.openxmlformats.org/officeDocument/2006/relationships/hyperlink" Target="http://www.grafamania.net/vector/978-vektornyjj-klipart-selskie-zarisovki.html" TargetMode="External"/><Relationship Id="rId16" Type="http://schemas.openxmlformats.org/officeDocument/2006/relationships/hyperlink" Target="http://www.grafamania.net/vector/978-vektornyjj-klipart-selskie-zarisovki.html" TargetMode="External"/><Relationship Id="rId17" Type="http://schemas.openxmlformats.org/officeDocument/2006/relationships/hyperlink" Target="http://www.grafamania.net/vector/978-vektornyjj-klipart-selskie-zarisovki.html" TargetMode="External"/><Relationship Id="rId18" Type="http://schemas.openxmlformats.org/officeDocument/2006/relationships/hyperlink" Target="http://www.goodclipart.ru/index.php?cat=16&amp;page=13" TargetMode="External"/><Relationship Id="rId19" Type="http://schemas.openxmlformats.org/officeDocument/2006/relationships/hyperlink" Target="http://www.goodclipart.ru/index.php?cat=16&amp;page=13" TargetMode="External"/><Relationship Id="rId20" Type="http://schemas.openxmlformats.org/officeDocument/2006/relationships/hyperlink" Target="http://www.goodclipart.ru/index.php?cat=16&amp;page=13" TargetMode="External"/><Relationship Id="rId21" Type="http://schemas.openxmlformats.org/officeDocument/2006/relationships/hyperlink" Target="http://www.goodclipart.ru/index.php?cat=16&amp;page=13" TargetMode="External"/><Relationship Id="rId22" Type="http://schemas.openxmlformats.org/officeDocument/2006/relationships/hyperlink" Target="http://www.artsides.ru/?ItemID=2618&amp;SetID=51" TargetMode="External"/><Relationship Id="rId23" Type="http://schemas.openxmlformats.org/officeDocument/2006/relationships/hyperlink" Target="http://www.ukrcommerce.com/board/index.php?id=44875&amp;sub=1&amp;cat=5001" TargetMode="External"/><Relationship Id="rId24" Type="http://schemas.openxmlformats.org/officeDocument/2006/relationships/hyperlink" Target="http://www.ukrcommerce.com/board/index.php?id=44875&amp;sub=1&amp;cat=5001" TargetMode="External"/><Relationship Id="rId25" Type="http://schemas.openxmlformats.org/officeDocument/2006/relationships/hyperlink" Target="http://www.ukrcommerce.com/board/index.php?id=44875&amp;sub=1&amp;cat=5001" TargetMode="External"/><Relationship Id="rId26" Type="http://schemas.openxmlformats.org/officeDocument/2006/relationships/hyperlink" Target="http://www.ukrcommerce.com/board/index.php?id=44875&amp;sub=1&amp;cat=5001" TargetMode="External"/><Relationship Id="rId27" Type="http://schemas.openxmlformats.org/officeDocument/2006/relationships/hyperlink" Target="http://www.ukrcommerce.com/board/index.php?id=44875&amp;sub=1&amp;cat=5001" TargetMode="External"/><Relationship Id="rId28" Type="http://schemas.openxmlformats.org/officeDocument/2006/relationships/hyperlink" Target="http://www.ukrcommerce.com/board/index.php?id=44875&amp;sub=1&amp;cat=5001" TargetMode="External"/><Relationship Id="rId29" Type="http://schemas.openxmlformats.org/officeDocument/2006/relationships/hyperlink" Target="http://www.chelsi.ru/2007/09/page/56/" TargetMode="External"/><Relationship Id="rId30" Type="http://schemas.openxmlformats.org/officeDocument/2006/relationships/hyperlink" Target="http://www.chelsi.ru/2007/09/page/56/" TargetMode="External"/><Relationship Id="rId31" Type="http://schemas.openxmlformats.org/officeDocument/2006/relationships/hyperlink" Target="http://www.chelsi.ru/2007/09/page/56/" TargetMode="External"/><Relationship Id="rId32" Type="http://schemas.openxmlformats.org/officeDocument/2006/relationships/hyperlink" Target="http://www.chelsi.ru/2007/09/page/56/" TargetMode="External"/><Relationship Id="rId33" Type="http://schemas.openxmlformats.org/officeDocument/2006/relationships/hyperlink" Target="http://www.chelsi.ru/2007/09/page/56/" TargetMode="External"/><Relationship Id="rId34" Type="http://schemas.openxmlformats.org/officeDocument/2006/relationships/hyperlink" Target="http://www.chelsi.ru/2007/09/page/56/" TargetMode="External"/><Relationship Id="rId35" Type="http://schemas.openxmlformats.org/officeDocument/2006/relationships/hyperlink" Target="http://pwww.uralweb.ru/news/2010-07-8.html" TargetMode="External"/><Relationship Id="rId36" Type="http://schemas.openxmlformats.org/officeDocument/2006/relationships/hyperlink" Target="http://pwww.uralweb.ru/news/2010-07-8.html" TargetMode="External"/><Relationship Id="rId37" Type="http://schemas.openxmlformats.org/officeDocument/2006/relationships/hyperlink" Target="http://pwww.uralweb.ru/news/2010-07-8.html" TargetMode="External"/><Relationship Id="rId38" Type="http://schemas.openxmlformats.org/officeDocument/2006/relationships/hyperlink" Target="http://pwww.uralweb.ru/news/2010-07-8.html" TargetMode="External"/><Relationship Id="rId39" Type="http://schemas.openxmlformats.org/officeDocument/2006/relationships/hyperlink" Target="http://pwww.uralweb.ru/news/2010-07-8.html" TargetMode="External"/><Relationship Id="rId40" Type="http://schemas.openxmlformats.org/officeDocument/2006/relationships/hyperlink" Target="http://pwww.uralweb.ru/news/2010-07-8.html" TargetMode="External"/><Relationship Id="rId41" Type="http://schemas.openxmlformats.org/officeDocument/2006/relationships/hyperlink" Target="http://www.upper.metromost.com/37081/" TargetMode="External"/><Relationship Id="rId42" Type="http://schemas.openxmlformats.org/officeDocument/2006/relationships/hyperlink" Target="http://www.upper.metromost.com/37081/" TargetMode="External"/><Relationship Id="rId43" Type="http://schemas.openxmlformats.org/officeDocument/2006/relationships/hyperlink" Target="http://www.upper.metromost.com/37081/" TargetMode="External"/><Relationship Id="rId44" Type="http://schemas.openxmlformats.org/officeDocument/2006/relationships/hyperlink" Target="http://www.upper.metromost.com/37081/" TargetMode="External"/><Relationship Id="rId45" Type="http://schemas.openxmlformats.org/officeDocument/2006/relationships/hyperlink" Target="http://novynar.com.ua/konkurs/blog/7714/a40054" TargetMode="External"/><Relationship Id="rId46" Type="http://schemas.openxmlformats.org/officeDocument/2006/relationships/hyperlink" Target="http://novynar.com.ua/konkurs/blog/7714/a40054" TargetMode="External"/><Relationship Id="rId47" Type="http://schemas.openxmlformats.org/officeDocument/2006/relationships/hyperlink" Target="http://novynar.com.ua/konkurs/blog/7714/a40054" TargetMode="External"/><Relationship Id="rId48" Type="http://schemas.openxmlformats.org/officeDocument/2006/relationships/hyperlink" Target="http://novynar.com.ua/konkurs/blog/7714/a40054" TargetMode="External"/><Relationship Id="rId49" Type="http://schemas.openxmlformats.org/officeDocument/2006/relationships/hyperlink" Target="http://novynar.com.ua/konkurs/blog/7714/a40054" TargetMode="External"/><Relationship Id="rId50" Type="http://schemas.openxmlformats.org/officeDocument/2006/relationships/hyperlink" Target="http://novynar.com.ua/konkurs/blog/7714/a40054" TargetMode="External"/><Relationship Id="rId51" Type="http://schemas.openxmlformats.org/officeDocument/2006/relationships/hyperlink" Target="http://novynar.com.ua/konkurs/blog/7714/a40054" TargetMode="External"/><Relationship Id="rId52" Type="http://schemas.openxmlformats.org/officeDocument/2006/relationships/hyperlink" Target="http://novynar.com.ua/konkurs/blog/7714/a40054" TargetMode="External"/><Relationship Id="rId53" Type="http://schemas.openxmlformats.org/officeDocument/2006/relationships/hyperlink" Target="http://baikal-eco.ru/dolsayany.htm" TargetMode="External"/><Relationship Id="rId54" Type="http://schemas.openxmlformats.org/officeDocument/2006/relationships/hyperlink" Target="http://baikal-eco.ru/dolsayany.htm" TargetMode="External"/><Relationship Id="rId55" Type="http://schemas.openxmlformats.org/officeDocument/2006/relationships/hyperlink" Target="http://baikal-eco.ru/dolsayany.htm" TargetMode="External"/><Relationship Id="rId56" Type="http://schemas.openxmlformats.org/officeDocument/2006/relationships/hyperlink" Target="http://baikal-eco.ru/dolsayany.htm" TargetMode="External"/><Relationship Id="rId57" Type="http://schemas.openxmlformats.org/officeDocument/2006/relationships/hyperlink" Target="http://baikal-eco.ru/dolsayany.htm" TargetMode="External"/><Relationship Id="rId58" Type="http://schemas.openxmlformats.org/officeDocument/2006/relationships/hyperlink" Target="http://fotki.yandex.ru/users/andreev-alexander/view/5629/" TargetMode="External"/><Relationship Id="rId59" Type="http://schemas.openxmlformats.org/officeDocument/2006/relationships/hyperlink" Target="http://fotki.yandex.ru/users/andreev-alexander/view/5629/" TargetMode="External"/><Relationship Id="rId60" Type="http://schemas.openxmlformats.org/officeDocument/2006/relationships/hyperlink" Target="http://fotki.yandex.ru/users/andreev-alexander/view/5629/" TargetMode="External"/><Relationship Id="rId61" Type="http://schemas.openxmlformats.org/officeDocument/2006/relationships/hyperlink" Target="http://fotki.yandex.ru/users/andreev-alexander/view/5629/" TargetMode="External"/><Relationship Id="rId62" Type="http://schemas.openxmlformats.org/officeDocument/2006/relationships/hyperlink" Target="http://fotki.yandex.ru/users/andreev-alexander/view/5629/" TargetMode="External"/><Relationship Id="rId63" Type="http://schemas.openxmlformats.org/officeDocument/2006/relationships/hyperlink" Target="http://fotki.yandex.ru/users/andreev-alexander/view/5629/" TargetMode="External"/><Relationship Id="rId64" Type="http://schemas.openxmlformats.org/officeDocument/2006/relationships/hyperlink" Target="http://fotki.yandex.ru/users/andreev-alexander/view/5629/" TargetMode="External"/><Relationship Id="rId65" Type="http://schemas.openxmlformats.org/officeDocument/2006/relationships/hyperlink" Target="http://fotki.yandex.ru/users/andreev-alexander/view/5629/" TargetMode="External"/><Relationship Id="rId66" Type="http://schemas.openxmlformats.org/officeDocument/2006/relationships/hyperlink" Target="http://fotki.yandex.ru/users/andreev-alexander/view/5629/" TargetMode="External"/><Relationship Id="rId67" Type="http://schemas.openxmlformats.org/officeDocument/2006/relationships/hyperlink" Target="http://fotki.yandex.ru/users/andreev-alexander/view/5629/" TargetMode="External"/><Relationship Id="rId68" Type="http://schemas.openxmlformats.org/officeDocument/2006/relationships/hyperlink" Target="http://fdfr31.free.fr/lettre/2004_11/lt0411.htm" TargetMode="External"/><Relationship Id="rId69" Type="http://schemas.openxmlformats.org/officeDocument/2006/relationships/hyperlink" Target="http://www.spb-guide.ru/page_8037_13.htm" TargetMode="External"/><Relationship Id="rId70" Type="http://schemas.openxmlformats.org/officeDocument/2006/relationships/hyperlink" Target="http://www.spb-guide.ru/page_8037_13.htm" TargetMode="External"/><Relationship Id="rId71" Type="http://schemas.openxmlformats.org/officeDocument/2006/relationships/hyperlink" Target="http://www.spb-guide.ru/page_8037_13.htm" TargetMode="External"/><Relationship Id="rId72" Type="http://schemas.openxmlformats.org/officeDocument/2006/relationships/hyperlink" Target="http://www.spb-guide.ru/page_8037_13.htm" TargetMode="External"/><Relationship Id="rId73" Type="http://schemas.openxmlformats.org/officeDocument/2006/relationships/hyperlink" Target="http://starostag.ya.ru/posts.xml?tb=80" TargetMode="External"/><Relationship Id="rId74" Type="http://schemas.openxmlformats.org/officeDocument/2006/relationships/hyperlink" Target="http://starostag.ya.ru/posts.xml?tb=80" TargetMode="External"/><Relationship Id="rId75" Type="http://schemas.openxmlformats.org/officeDocument/2006/relationships/hyperlink" Target="http://starostag.ya.ru/posts.xml?tb=80" TargetMode="External"/><Relationship Id="rId76" Type="http://schemas.openxmlformats.org/officeDocument/2006/relationships/hyperlink" Target="http://starostag.ya.ru/posts.xml?tb=80" TargetMode="External"/><Relationship Id="rId77" Type="http://schemas.openxmlformats.org/officeDocument/2006/relationships/hyperlink" Target="http://velotogliatti.ru/forum/viewtopic.php?f=4&amp;t=1367&amp;start=75" TargetMode="External"/><Relationship Id="rId78" Type="http://schemas.openxmlformats.org/officeDocument/2006/relationships/hyperlink" Target="http://velotogliatti.ru/forum/viewtopic.php?f=4&amp;t=1367&amp;start=75" TargetMode="External"/><Relationship Id="rId79" Type="http://schemas.openxmlformats.org/officeDocument/2006/relationships/hyperlink" Target="http://velotogliatti.ru/forum/viewtopic.php?f=4&amp;t=1367&amp;start=75" TargetMode="External"/><Relationship Id="rId80" Type="http://schemas.openxmlformats.org/officeDocument/2006/relationships/hyperlink" Target="http://velotogliatti.ru/forum/viewtopic.php?f=4&amp;t=1367&amp;start=75" TargetMode="External"/><Relationship Id="rId81" Type="http://schemas.openxmlformats.org/officeDocument/2006/relationships/hyperlink" Target="http://velotogliatti.ru/forum/viewtopic.php?f=4&amp;t=1367&amp;start=75" TargetMode="External"/><Relationship Id="rId82" Type="http://schemas.openxmlformats.org/officeDocument/2006/relationships/hyperlink" Target="http://velotogliatti.ru/forum/viewtopic.php?f=4&amp;t=1367&amp;start=75" TargetMode="External"/><Relationship Id="rId83" Type="http://schemas.openxmlformats.org/officeDocument/2006/relationships/hyperlink" Target="http://survinat.ru/tag/zhivotnoe/page/11/" TargetMode="External"/><Relationship Id="rId84" Type="http://schemas.openxmlformats.org/officeDocument/2006/relationships/hyperlink" Target="http://survinat.ru/tag/zhivotnoe/page/11/" TargetMode="External"/><Relationship Id="rId85" Type="http://schemas.openxmlformats.org/officeDocument/2006/relationships/hyperlink" Target="http://survinat.ru/tag/zhivotnoe/page/11/" TargetMode="External"/><Relationship Id="rId86" Type="http://schemas.openxmlformats.org/officeDocument/2006/relationships/hyperlink" Target="http://survinat.ru/tag/zhivotnoe/page/11/" TargetMode="External"/><Relationship Id="rId87" Type="http://schemas.openxmlformats.org/officeDocument/2006/relationships/hyperlink" Target="http://survinat.ru/tag/zhivotnoe/page/11/" TargetMode="External"/><Relationship Id="rId88" Type="http://schemas.openxmlformats.org/officeDocument/2006/relationships/hyperlink" Target="http://survinat.ru/tag/zhivotnoe/page/11/" TargetMode="External"/><Relationship Id="rId89" Type="http://schemas.openxmlformats.org/officeDocument/2006/relationships/hyperlink" Target="http://survinat.ru/tag/zhivotnoe/page/11/" TargetMode="External"/><Relationship Id="rId90" Type="http://schemas.openxmlformats.org/officeDocument/2006/relationships/hyperlink" Target="http://survinat.ru/tag/zhivotnoe/page/11/" TargetMode="External"/><Relationship Id="rId91" Type="http://schemas.openxmlformats.org/officeDocument/2006/relationships/hyperlink" Target="http://survinat.ru/tag/zhivotnoe/page/11/" TargetMode="External"/><Relationship Id="rId92" Type="http://schemas.openxmlformats.org/officeDocument/2006/relationships/hyperlink" Target="http://survinat.ru/tag/zhivotnoe/page/11/" TargetMode="External"/><Relationship Id="rId93" Type="http://schemas.openxmlformats.org/officeDocument/2006/relationships/hyperlink" Target="http://v7n7.ya.ru/replies.xml?item_no=186" TargetMode="External"/><Relationship Id="rId94" Type="http://schemas.openxmlformats.org/officeDocument/2006/relationships/hyperlink" Target="http://v7n7.ya.ru/replies.xml?item_no=186" TargetMode="External"/><Relationship Id="rId95" Type="http://schemas.openxmlformats.org/officeDocument/2006/relationships/hyperlink" Target="http://planeta.rambler.ru/users/sergeeva137/29221668.html" TargetMode="External"/><Relationship Id="rId96" Type="http://schemas.openxmlformats.org/officeDocument/2006/relationships/hyperlink" Target="http://planeta.rambler.ru/users/sergeeva137/29221668.html" TargetMode="External"/><Relationship Id="rId97" Type="http://schemas.openxmlformats.org/officeDocument/2006/relationships/hyperlink" Target="http://planeta.rambler.ru/users/sergeeva137/29221668.html" TargetMode="External"/><Relationship Id="rId98" Type="http://schemas.openxmlformats.org/officeDocument/2006/relationships/hyperlink" Target="http://planeta.rambler.ru/users/sergeeva137/29221668.html" TargetMode="External"/><Relationship Id="rId99" Type="http://schemas.openxmlformats.org/officeDocument/2006/relationships/hyperlink" Target="http://planeta.rambler.ru/users/sergeeva137/29221668.html" TargetMode="External"/><Relationship Id="rId100" Type="http://schemas.openxmlformats.org/officeDocument/2006/relationships/hyperlink" Target="http://planeta.rambler.ru/users/sergeeva137/29221668.html" TargetMode="External"/><Relationship Id="rId101" Type="http://schemas.openxmlformats.org/officeDocument/2006/relationships/hyperlink" Target="http://www.samara-photo.ru/browse/cat.16.user.897.html" TargetMode="External"/><Relationship Id="rId102" Type="http://schemas.openxmlformats.org/officeDocument/2006/relationships/hyperlink" Target="http://www.samara-photo.ru/browse/cat.16.user.897.html" TargetMode="External"/><Relationship Id="rId103" Type="http://schemas.openxmlformats.org/officeDocument/2006/relationships/hyperlink" Target="http://www.samara-photo.ru/browse/cat.16.user.897.html" TargetMode="External"/><Relationship Id="rId104" Type="http://schemas.openxmlformats.org/officeDocument/2006/relationships/hyperlink" Target="http://www.samara-photo.ru/browse/cat.16.user.897.html" TargetMode="External"/><Relationship Id="rId105" Type="http://schemas.openxmlformats.org/officeDocument/2006/relationships/hyperlink" Target="http://www.samara-photo.ru/browse/cat.16.user.897.html" TargetMode="External"/><Relationship Id="rId106" Type="http://schemas.openxmlformats.org/officeDocument/2006/relationships/hyperlink" Target="http://www.samara-photo.ru/browse/cat.16.user.897.html" TargetMode="External"/><Relationship Id="rId107" Type="http://schemas.openxmlformats.org/officeDocument/2006/relationships/hyperlink" Target="http://www.pravda34.info/news/30-04-2010/4170" TargetMode="External"/><Relationship Id="rId108" Type="http://schemas.openxmlformats.org/officeDocument/2006/relationships/hyperlink" Target="http://www.pravda34.info/news/30-04-2010/4170" TargetMode="External"/><Relationship Id="rId109" Type="http://schemas.openxmlformats.org/officeDocument/2006/relationships/hyperlink" Target="http://www.pravda34.info/news/30-04-2010/4170" TargetMode="External"/><Relationship Id="rId110" Type="http://schemas.openxmlformats.org/officeDocument/2006/relationships/hyperlink" Target="http://www.pravda34.info/news/30-04-2010/4170" TargetMode="External"/><Relationship Id="rId111" Type="http://schemas.openxmlformats.org/officeDocument/2006/relationships/hyperlink" Target="http://newsweek.m2.ru/blogs/" TargetMode="External"/><Relationship Id="rId112" Type="http://schemas.openxmlformats.org/officeDocument/2006/relationships/hyperlink" Target="http://newsweek.m2.ru/blogs/" TargetMode="External"/><Relationship Id="rId113" Type="http://schemas.openxmlformats.org/officeDocument/2006/relationships/hyperlink" Target="http://newsweek.m2.ru/blogs/" TargetMode="External"/><Relationship Id="rId114" Type="http://schemas.openxmlformats.org/officeDocument/2006/relationships/hyperlink" Target="http://newsweek.m2.ru/blogs/" TargetMode="External"/><Relationship Id="rId1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omic Sans MS"/>
              </a:rPr>
              <a:t>Город и се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2369880" cy="177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84720" y="692280"/>
            <a:ext cx="2441880" cy="18316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348000" y="692280"/>
            <a:ext cx="2425680" cy="1819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798120" y="2565360"/>
            <a:ext cx="75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городе множество памятников, музе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нотеатров и теа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2427120" cy="18208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348000" y="3573360"/>
            <a:ext cx="2584440" cy="1800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156360" y="3573360"/>
            <a:ext cx="25192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941760" y="5516640"/>
            <a:ext cx="71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ёла окружены лесом, в котором 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ибов, ягод, т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96480" y="2565360"/>
            <a:ext cx="54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умай, чего много в го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чем окружены сё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754360" cy="367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2867040" cy="374328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54200" y="515772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ло зел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газованный возд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09880" y="5157720"/>
            <a:ext cx="34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истый возд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кологически чист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дукты 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4920" y="47628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3800" y="47628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4640" y="5157720"/>
            <a:ext cx="773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ты можешь сказать о воздухе и зе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городе и се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ГОРО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крупный населённый пункт, где много улиц и высоких домов, работают фабрики и заводы, музеи и театры, много магазинов и  авто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2952720" cy="23274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59280" y="1413000"/>
            <a:ext cx="3025440" cy="242568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24360" y="2349360"/>
            <a:ext cx="2976840" cy="229392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2881440" cy="220644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С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СЕЛО (ДЕРЕВНЯ)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небольшой населённый пункт, жители которого занимаются выращиванием культурных растений и разведением домашни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87640" y="1484280"/>
            <a:ext cx="3017880" cy="22636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68360" y="549360"/>
            <a:ext cx="2755800" cy="20509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57160" y="4070520"/>
            <a:ext cx="1154160" cy="216684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1854360" cy="244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2265120" y="1730520"/>
            <a:ext cx="69886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крой учебник на стр. 98-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Рассмотри на рисунках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В чём сходство и различие гор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ого и сельского дом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Что в них сделано для удоб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ите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Городской 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58760" y="1628640"/>
            <a:ext cx="513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городском доме всё сделано для удобства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агазин на первом этаж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алко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нтральное отоп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дельные помещения для кухни и спальн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166920" cy="33242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Сельский 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ельском доме е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двальное помещение для хранения овощей и запасов на зи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ердак - где также по-хозяйски можно оборудовать место для сушки белья и хранения фр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211560" cy="4032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             </a:t>
            </a: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йдите по три плюса и минуса в квартирах города и сельских до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2448000" cy="1500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219640" y="3355920"/>
            <a:ext cx="235116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116000" y="3573360"/>
            <a:ext cx="30290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llday.ru/index.php?newsid=8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amara-photo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rows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cat.16.user.89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pravda34.info/news/30-04-2010/4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newsweek.m2.ru/blog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timetoliv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p/10/?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my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vitbichi.b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?p=16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fotki.yandex.ru/users/gal-zaya/view/11476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paint-best.info/art/clipart/cit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blogs.privet.ru/community/YANA_2008?page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arendametr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link.php?link=14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ww.beisik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project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www.photosigh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photo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2864458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blog.vechnoe.inf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?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tag=s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stroymarket.izhtime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/news7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fotki.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users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boris-severyukhi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vie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/72147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7pd.ru/product.php?id=97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ib2.ru/category/1/2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aint-best.info/art/clipart/cit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oodclipart.ru/index.php?clipart_id=93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lipartov.ne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show-50-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mcs41.wordpres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jasonhenle.wordpress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2009/0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grafamania.ne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vecto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978-vektornyjj-klipart-selskie-zarisovk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goodclipart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index.php?cat=16&amp;page=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artsides.ru/?ItemID=2618&amp;SetID=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.ukrcommerce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board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index.php?id=44875&amp;sub=1&amp;cat=5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ww.chels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2007/09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p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56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pwww.uralweb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ne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/2010-07-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www.upper.metromost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/3708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novynar.com.u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konku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blo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/7714/a400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baikal-eco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dolsayan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fotki.yandex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use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andreev-alexand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view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/56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http://fdfr31.free.fr/lettre/2004_11/lt041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www.spb-guide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/page_8037_13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starostag.ya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/posts.xml?tb=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velotogliatt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foru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/viewtopic.php?f=4&amp;t=1367&amp;start=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survinat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ta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zhivotno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pag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2"/>
              </a:rPr>
              <a:t>/1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4"/>
              </a:rPr>
              <a:t>://v7n7.ya.ru/replies.xml?item_no=1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6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7"/>
              </a:rPr>
              <a:t>planeta.ramble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9"/>
              </a:rPr>
              <a:t>use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0"/>
              </a:rPr>
              <a:t>/sergeeva137/29221668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3"/>
              </a:rPr>
              <a:t>www.samara-photo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5"/>
              </a:rPr>
              <a:t>brows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6"/>
              </a:rPr>
              <a:t>/cat.16.user.89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8"/>
              </a:rPr>
              <a:t>://www.pravda34.info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9"/>
              </a:rPr>
              <a:t>new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0"/>
              </a:rPr>
              <a:t>/30-04-2010/4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2"/>
              </a:rPr>
              <a:t>://newsweek.m2.ru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3"/>
              </a:rPr>
              <a:t>blog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4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timetolive.ru/p/10/?my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vitbichi.by/?p=16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ki.yandex.ru/users/gal-zaya/view/114766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Расшифруй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79640" y="1657440"/>
          <a:ext cx="4978440" cy="1339920"/>
        </p:xfrm>
        <a:graphic>
          <a:graphicData uri="http://schemas.openxmlformats.org/drawingml/2006/table">
            <a:tbl>
              <a:tblPr/>
              <a:tblGrid>
                <a:gridCol w="711000"/>
                <a:gridCol w="711360"/>
                <a:gridCol w="711360"/>
                <a:gridCol w="711000"/>
                <a:gridCol w="711360"/>
                <a:gridCol w="711000"/>
                <a:gridCol w="711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55640" y="3645000"/>
          <a:ext cx="3456000" cy="1157040"/>
        </p:xfrm>
        <a:graphic>
          <a:graphicData uri="http://schemas.openxmlformats.org/drawingml/2006/table">
            <a:tbl>
              <a:tblPr/>
              <a:tblGrid>
                <a:gridCol w="692280"/>
                <a:gridCol w="690480"/>
                <a:gridCol w="690480"/>
                <a:gridCol w="69048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867280" y="3645000"/>
          <a:ext cx="2328840" cy="1157040"/>
        </p:xfrm>
        <a:graphic>
          <a:graphicData uri="http://schemas.openxmlformats.org/drawingml/2006/table">
            <a:tbl>
              <a:tblPr/>
              <a:tblGrid>
                <a:gridCol w="582840"/>
                <a:gridCol w="582480"/>
                <a:gridCol w="581040"/>
                <a:gridCol w="582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dff"/>
                    </a:solidFill>
                  </a:tcPr>
                </a:tc>
              </a:tr>
            </a:tbl>
          </a:graphicData>
        </a:graphic>
      </p:graphicFrame>
      <p:grpSp>
        <p:nvGrpSpPr>
          <p:cNvPr id="47" name=""/>
          <p:cNvGrpSpPr/>
          <p:nvPr/>
        </p:nvGrpSpPr>
        <p:grpSpPr>
          <a:xfrm>
            <a:off x="913680" y="4005360"/>
            <a:ext cx="3261600" cy="831240"/>
            <a:chOff x="913680" y="4005360"/>
            <a:chExt cx="3261600" cy="831240"/>
          </a:xfrm>
        </p:grpSpPr>
        <p:sp>
          <p:nvSpPr>
            <p:cNvPr id="48" name=""/>
            <p:cNvSpPr/>
            <p:nvPr/>
          </p:nvSpPr>
          <p:spPr>
            <a:xfrm>
              <a:off x="913680" y="4005360"/>
              <a:ext cx="44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760" y="40053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16960" y="400536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85480" y="401148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41040" y="4011480"/>
              <a:ext cx="53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951880" y="4005360"/>
            <a:ext cx="2262600" cy="825120"/>
            <a:chOff x="5951880" y="4005360"/>
            <a:chExt cx="2262600" cy="825120"/>
          </a:xfrm>
        </p:grpSpPr>
        <p:sp>
          <p:nvSpPr>
            <p:cNvPr id="54" name=""/>
            <p:cNvSpPr/>
            <p:nvPr/>
          </p:nvSpPr>
          <p:spPr>
            <a:xfrm>
              <a:off x="5951880" y="4005360"/>
              <a:ext cx="47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12760" y="40053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15400" y="4005360"/>
              <a:ext cx="532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л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65120" y="400536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08000" y="5157720"/>
            <a:ext cx="5953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Панова Оксана Владими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учитель начальных класс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МАОУ «Гимназия №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г. Великого Новг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Где изображён горо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557440" cy="201636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2616480" cy="198144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2611440" cy="19432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084720" y="4149720"/>
            <a:ext cx="2519640" cy="192888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348000" y="4133880"/>
            <a:ext cx="2514600" cy="195912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203640" y="1341360"/>
            <a:ext cx="2657520" cy="1994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676960" y="2849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4280" y="2849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25720" y="2849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9000" y="5516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4280" y="5586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81360" y="5586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          </a:t>
            </a: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Работа в па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5300280"/>
            <a:ext cx="7632720" cy="825480"/>
          </a:xfrm>
          <a:prstGeom prst="rect">
            <a:avLst/>
          </a:prstGeom>
          <a:solidFill>
            <a:srgbClr val="99ff66"/>
          </a:solidFill>
          <a:ln w="381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Обсудите, чем отличается город от с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2274840"/>
            <a:ext cx="4032360" cy="27385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43280" y="2249640"/>
            <a:ext cx="3961080" cy="274788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39800" y="549360"/>
            <a:ext cx="21765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До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676680" cy="2759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3959280" cy="276372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618920" y="134136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6880" y="134136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80200" y="5300640"/>
            <a:ext cx="325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ногоэтаж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ома из кирпи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3880" y="5373720"/>
            <a:ext cx="27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ревя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астные д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Дор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097080" cy="223200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12720" y="3573360"/>
            <a:ext cx="3095640" cy="2303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402920" y="54936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2880" y="54612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292720" y="1125360"/>
            <a:ext cx="3160800" cy="230040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51880" y="5950080"/>
            <a:ext cx="38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крыты асфаль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3600" y="595008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ёлоч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292720" y="3573360"/>
            <a:ext cx="3166920" cy="23194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Comic Sans MS"/>
              </a:rPr>
              <a:t>Чем занимаются городские жители, а чем - сельск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1638360" cy="201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354400" cy="15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139860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68360" y="1628640"/>
            <a:ext cx="2011320" cy="170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227640" y="4292640"/>
            <a:ext cx="2381400" cy="153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556000" y="4221000"/>
            <a:ext cx="1820880" cy="190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132732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2627280" y="2060640"/>
            <a:ext cx="20160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2859120" cy="1901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2951280" cy="19065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258560" y="1265400"/>
            <a:ext cx="13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3800" y="1265400"/>
            <a:ext cx="11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960" y="4606920"/>
            <a:ext cx="3231720" cy="825480"/>
          </a:xfrm>
          <a:prstGeom prst="rect">
            <a:avLst/>
          </a:prstGeom>
          <a:solidFill>
            <a:srgbClr val="dddddd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город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водов и фаб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8800" y="4292640"/>
            <a:ext cx="4394520" cy="1557000"/>
          </a:xfrm>
          <a:prstGeom prst="rect">
            <a:avLst/>
          </a:prstGeom>
          <a:solidFill>
            <a:srgbClr val="ffcc66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селе люди заним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ращиванием культу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тений и раз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машн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Comic Sans MS"/>
              </a:rPr>
              <a:t>Тран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160720" cy="1621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348000" y="1268280"/>
            <a:ext cx="2265480" cy="165276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253960" cy="16732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11280" y="3933720"/>
            <a:ext cx="2303280" cy="163836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084720" y="3933720"/>
            <a:ext cx="2448000" cy="17049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276720" y="3933720"/>
            <a:ext cx="2469960" cy="172728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79080" y="2900520"/>
            <a:ext cx="77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городе развит общественный транспор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тобусы, троллейбусы, трамв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5840" y="5589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ёлах для передвижения использ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тобусы, велосипеды, лоша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7:45:23Z</dcterms:created>
  <dc:creator>мама</dc:creator>
  <dc:description/>
  <dc:language>en-US</dc:language>
  <cp:lastModifiedBy>мама</cp:lastModifiedBy>
  <dcterms:modified xsi:type="dcterms:W3CDTF">2010-11-09T16:08:05Z</dcterms:modified>
  <cp:revision>11</cp:revision>
  <dc:subject/>
  <dc:title>Город и село.</dc:title>
</cp:coreProperties>
</file>