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B60-5253-44BE-AC1B-13AE5597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7A7-C223-409D-9FF5-3AB3CD05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9AE-66B5-4BE9-8D5A-13C826FC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666-8A75-4605-8AFA-A8D1B1B6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8386-691D-4B26-AF8E-01A4EAE0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ABA4-F418-4B60-8A06-9425310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3983-C3EA-49F4-8ED1-C69F8535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4ED1-A1D9-4C7C-AEC2-4C214AAC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878A-810C-40EE-AC7C-03515789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A763-4D35-4FF6-BC9F-5B270BA1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DA61-E841-4518-9747-A60A49F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307-49B4-4B9B-833D-A7A32C4A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47DC-8987-45E3-8074-75F078FD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F9D7-8899-4550-BA34-CE1E3DEA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6502-E9AE-4FFC-AA5E-49E9E674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6F22-12A7-4115-AA0B-6947FC82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45A1-734A-4754-9584-94799ED5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CE0-1ABE-4D3D-98E7-C5EF8FF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AD1-3164-452E-ABDA-7A37591C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262-E391-4BA0-941F-3245AA65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BE0-8DA6-4D65-BE3C-4033F11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E2C-AAAF-4BF8-9C58-5366BC3C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067-0C48-4137-948A-C2B5685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6C0-24B2-4893-9DD4-BE3B36B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e7"/>
            </a:gs>
            <a:gs pos="100000">
              <a:srgbClr val="e9f7f7">
                <a:alpha val="60000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DF4-77B7-423F-8079-A1D2ED0853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e7"/>
            </a:gs>
            <a:gs pos="100000">
              <a:srgbClr val="e9f7f7">
                <a:alpha val="60000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9D7-DDEF-4635-AA99-A60ED0EB3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Дидактическая игра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360" y="3566880"/>
            <a:ext cx="61912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bb0af"/>
                </a:solidFill>
                <a:latin typeface="Arial"/>
              </a:rPr>
              <a:t>Пространственныепредло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002-002-V"/>
          <p:cNvPicPr/>
          <p:nvPr/>
        </p:nvPicPr>
        <p:blipFill>
          <a:blip r:embed="rId1"/>
          <a:stretch/>
        </p:blipFill>
        <p:spPr>
          <a:xfrm>
            <a:off x="401760" y="692280"/>
            <a:ext cx="82738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едло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Picture 4" descr="0003-003-V-na"/>
          <p:cNvPicPr/>
          <p:nvPr/>
        </p:nvPicPr>
        <p:blipFill>
          <a:blip r:embed="rId1"/>
          <a:stretch/>
        </p:blipFill>
        <p:spPr>
          <a:xfrm>
            <a:off x="324000" y="476280"/>
            <a:ext cx="843120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Picture 4" descr="0004-004-Na-nad"/>
          <p:cNvPicPr/>
          <p:nvPr/>
        </p:nvPicPr>
        <p:blipFill>
          <a:blip r:embed="rId1"/>
          <a:stretch/>
        </p:blipFill>
        <p:spPr>
          <a:xfrm>
            <a:off x="279360" y="549360"/>
            <a:ext cx="8604360" cy="532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006-006-Za"/>
          <p:cNvPicPr/>
          <p:nvPr/>
        </p:nvPicPr>
        <p:blipFill>
          <a:blip r:embed="rId1"/>
          <a:stretch/>
        </p:blipFill>
        <p:spPr>
          <a:xfrm>
            <a:off x="468360" y="420840"/>
            <a:ext cx="8136000" cy="572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008-008-Pod"/>
          <p:cNvPicPr/>
          <p:nvPr/>
        </p:nvPicPr>
        <p:blipFill>
          <a:blip r:embed="rId1"/>
          <a:stretch/>
        </p:blipFill>
        <p:spPr>
          <a:xfrm>
            <a:off x="539640" y="407880"/>
            <a:ext cx="8136000" cy="5770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009-009-Iz-pod"/>
          <p:cNvPicPr/>
          <p:nvPr/>
        </p:nvPicPr>
        <p:blipFill>
          <a:blip r:embed="rId1"/>
          <a:stretch/>
        </p:blipFill>
        <p:spPr>
          <a:xfrm>
            <a:off x="539640" y="404640"/>
            <a:ext cx="8062920" cy="5780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011-011-Mezhdu"/>
          <p:cNvPicPr/>
          <p:nvPr/>
        </p:nvPicPr>
        <p:blipFill>
          <a:blip r:embed="rId1"/>
          <a:stretch/>
        </p:blipFill>
        <p:spPr>
          <a:xfrm>
            <a:off x="611280" y="333360"/>
            <a:ext cx="7848360" cy="5853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зентацию подготовила Изотова Оль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оспитатель ГБДОУ№ 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анкт-Петербург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5:50:02Z</dcterms:created>
  <dc:creator>Ольга</dc:creator>
  <dc:description/>
  <dc:language>en-US</dc:language>
  <cp:lastModifiedBy>Ольга</cp:lastModifiedBy>
  <dcterms:modified xsi:type="dcterms:W3CDTF">2012-10-26T18:07:06Z</dcterms:modified>
  <cp:revision>5</cp:revision>
  <dc:subject/>
  <dc:title>Предлоги</dc:title>
</cp:coreProperties>
</file>