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910-2B66-4987-A241-589174A4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345-01CF-4D17-9367-9B51A9F3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FAEA-87A6-4EF9-BFE5-923DADCF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743D-92F4-4CFA-B4A4-BCAA433D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017-3CC3-4EFB-AA3C-50CA1A90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8C5-3EBB-41BA-8961-C17FA8CA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2F2B-F23A-4041-8FA5-D5E32075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6B3-2FEF-4F31-A3A7-061AC4E7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7EEA-DF23-48A0-9974-FDB53459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112-0742-4DF2-8652-AD0CE2D6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20E-89AA-4D35-B113-49518B42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53F-0B97-4F21-843A-8B48B851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D51F-604C-4DDD-836F-E3FDFB6F27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оздание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eb-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ай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ограммирование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eb-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TIT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gt;Компьютер&lt;/TIT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FONT COLOR="GREEN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H1 ALIGN="CE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о компьюте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/FO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H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P ALIGN="LEFT"&gt;На этом сайте вы сможете получить различную информацию о компьютере, его программном обеспечении и ценах на компьютерные комплектующие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/FO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H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P ALIGN="RIGHT"&gt;Терминологический словарь познакомит вас с  компьютерными терминами, а также вы сможете заполнить анкету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ставка рису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а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.GIF, .JPG, .PNG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эг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&lt;IMG&gt;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атрибутом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RC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, который указывает место хранения файла (путь к файл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оложение рисунка относительно текста –атрибут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LIG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D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O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66"/>
                </a:solidFill>
                <a:latin typeface="Arial"/>
              </a:rPr>
              <a:t>Вставить рисунок в контейнер перед абзацем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Вставка рису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&lt;IMG SRC=«Комп.gif" alt=«компьютер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LIGN="RIGHT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&lt;IMG SRC="D:\Мои документы\Школа 32\Комп.gif" alt=" компьютер 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ALIGN="RIGHT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оздание других страниц сай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435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TIT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Заголовок страниц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&lt;/TIT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Создайте страницы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Программы</a:t>
            </a: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ловарь</a:t>
            </a: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омплектующие</a:t>
            </a: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,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Анк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храните их в файлах с  названиями: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software.htm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glossary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hardware.htm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nketa.html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Гиперссы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ерссыл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оят из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казателя ссыл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дресной части ссыл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дресная часть – </a:t>
            </a: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URL – </a:t>
            </a:r>
            <a:r>
              <a:rPr b="0" i="1" lang="ru-RU" sz="2800" spc="-1" strike="noStrike">
                <a:solidFill>
                  <a:srgbClr val="cc0066"/>
                </a:solidFill>
                <a:latin typeface="Arial"/>
              </a:rPr>
              <a:t>адрес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докум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о размещать гиперссылки в нижней части титульной страницы, поэтому разместим их после введенного текста в новом абза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честве указателя гиперссылок выберем названия страниц нашего сайта: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рограммы</a:t>
            </a:r>
            <a:r>
              <a:rPr b="1" i="1" lang="ru-RU" sz="2800" spc="-1" strike="noStrike">
                <a:solidFill>
                  <a:srgbClr val="cc0066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ловарь</a:t>
            </a:r>
            <a:r>
              <a:rPr b="1" i="1" lang="ru-RU" sz="2800" spc="-1" strike="noStrike">
                <a:solidFill>
                  <a:srgbClr val="cc0066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омплектующие</a:t>
            </a:r>
            <a:r>
              <a:rPr b="1" i="1" lang="ru-RU" sz="2800" spc="-1" strike="noStrike">
                <a:solidFill>
                  <a:srgbClr val="cc0066"/>
                </a:solidFill>
                <a:latin typeface="Arial"/>
              </a:rPr>
              <a:t>,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Анк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азатели гиперссылок разделяются пробелами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nbsp) . Для каждой гиперссылки определим адрес перехода, (контейне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A&gt;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/A&gt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атрибуто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REF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чением которого является </a:t>
            </a:r>
            <a:r>
              <a:rPr b="0" i="1" lang="en-US" sz="2800" spc="-1" strike="noStrike">
                <a:solidFill>
                  <a:srgbClr val="cc0066"/>
                </a:solidFill>
                <a:latin typeface="Arial"/>
              </a:rPr>
              <a:t>URL – </a:t>
            </a:r>
            <a:r>
              <a:rPr b="0" i="1" lang="ru-RU" sz="2800" spc="-1" strike="noStrike">
                <a:solidFill>
                  <a:srgbClr val="cc0066"/>
                </a:solidFill>
                <a:latin typeface="Arial"/>
              </a:rPr>
              <a:t>адрес.</a:t>
            </a: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Гиперссыл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P  ALI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"CENT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[&lt;A HREF="software.html"&gt;Программы&lt;/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&amp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nbs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[&lt;A HREF="glossary.html"&gt;Словарь&lt;/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amp;nbs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[&lt;A HREF="hardware.html"&gt;Комплектующие&lt;/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] &amp;nbs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[&lt;A HREF="anketa.html"&gt;Анкета&lt;/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/P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Адрес электронной почты вставляется та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езно на странице помещать ссылку на адрес электронной почты, по которому посетители могут связаться с администрацией сай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ADRES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A HREF="mailto:mailbox@provaider.ru"&gt;E-mai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lbox@provaider.ru&lt;/A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ADRES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щелчку мыши по ссылке на адрес электронной почты будет открываться программ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look Express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в стро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дет указан заданный в ссылке адр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оздание списка нумерован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располагается внутри контейне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&lt;OL&gt; &lt;/OL&gt;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каждый элемент списка – тэг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мощью атрибут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эг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&lt;ОL&gt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ть вид нумерации: арабские цифры по умолчанию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I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имские цифры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трочные букв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ь в Блокноте фай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обавить следующий HTML-код, задающий спис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O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LI&gt;Системны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LI&gt;Прикладные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LI&gt;Системы программ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/O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оздание списка маркирован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ди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перь вложенный маркированный список для одного из элементов основного списка. Список располагается внутри контейнер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L&gt; &lt;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U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L&gt;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каждый элемент списка определяется также тэго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С помощью атрибут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эг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L&gt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ть вид маркера списк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диск)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q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квадрат)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r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кружност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бави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ML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д, задающий вложенный список для элемент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LI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рикладные програм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901800" y="2346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труктура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eb-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ай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587600" y="4102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Создание нумерованного спи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FONT COLOR="GREEN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H2 ALIGN="LEFT"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OL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LI&gt;Систем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LI&gt;Приклад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LI&gt;Системы программ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/OL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66"/>
                </a:solidFill>
                <a:latin typeface="Arial"/>
              </a:rPr>
              <a:t>Создание вложенного спи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UL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LI TYPE="DISC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ОВЫЕ РЕДА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LI&gt;  ГРАФИЧЕСКИЕ РЕДАК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LI&gt;  ЭЛЕКТРОННЫЕ ТАБЛ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LI&gt;  СИСТЕМЫ УПРАВЛЕНИЯ БАЗАМИ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/UL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Словарь компьютерных термин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ейнер списка определени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L&gt;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 нег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рм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тэг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&lt;D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&lt;DT&gt;Проц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&lt;FONT COLOR="BRAUN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&lt;H4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&lt;DD&gt;Центральный процессор, производящий вычисления в двоичном к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&lt;/H4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&lt;FONT COLOR="GREE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&lt;DT&gt;Оперативная 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&lt;FONT COLOR="BRAU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&lt;H4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&lt;DD&gt;Устройство, в котором хранятся программы и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&lt;/H4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&lt;/D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абл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13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блица задается контейнеро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TABLE&gt;&lt;/TABLE&gt;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 которого содержится описание структуры таблицы и ее содержи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13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ая таблица состоит из строк, которые задаются контейнеро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TR&gt;&lt;/TR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который помещается описание ячей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13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т ячейки и ее содержание помещается в контейне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TD&gt;&lt;/TD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заголовки ячеек в контейне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TH&gt;&lt;/TH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SzPct val="13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лщина разделительных линий задается атрибуто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для выравнивания информации - атрибу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IG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ставить таблицу в файл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hardware .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6868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TABLE border="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TH&gt;&lt;FONT COLOR="BLUE"&gt;НАИМЕНОВАНИЕ&lt;/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TH&gt;&lt;FONT COLOR="CYAN"&gt;ТИП&lt;/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TH&gt;&lt;FONT COLOR="LIME"&gt;ИЗГОТОВИТЕЛЬ&lt;/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TH&gt;&lt;FONT COLOR="MAGENTA"&gt;ЦЕНА&lt;/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TD ALIGN="CENTER"&gt;ПРОЦЕССОР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TD ALIGN="CENTER"&gt;PENTIUM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TD ALIGN="CENTER"&gt;INTEL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TD ALIGN="CENTER"&gt;2500 РУБЛЕЙ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TD ALIGN="CENTER"&gt;МАТЕРИНСКАЯ ПЛАТА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TD ALIGN="CENTER"&gt;Abit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TD ALIGN="CENTER"&gt;GIGABAIT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TD ALIGN="CENTER"&gt;2700 РУБЛЕЙ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/TABLE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рмы на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Web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- страниц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ор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ключают в себ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кстовые поля, раскрывающиеся списки, флажки, переключат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т.д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Фор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ключаются в контейне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FORM&gt; &lt;/FORM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екстовые по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даются тэго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INPUT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значением атрибут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=“text”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трибу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ется обязательным и служит для идентификации полученной информации, Атрибу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дает длину поля ввода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того, чтобы анкета читалась необходимо разделять строки с помощью тэга перевода строк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BR&gt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ткрыть в Блокноте файл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keta.html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и добавить следующий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HTML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-код, задающий текстовые поля для ввода данных. Просмотреть результат в браузере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915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FORM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FONT COLOR="GREEN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H2 ALIGN="LEFT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жалуйста, введите ваше имя: &lt;BR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INPUT TYPE="текст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AME="name" SIZE=30&gt; &lt;BR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-mail: &lt;BR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INPUT TYPE="текст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="e-mail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=30&gt; &lt;BR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Контейнер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Код страниц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&lt;HTML&gt;&lt;/HTML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Заголово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&lt;HEAD&gt;&lt;/HEAD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Название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Web-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страниц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&lt;TIT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gt;&lt;/TIT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Основное содержание страниц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&lt;BODY&gt;&lt;/BODY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ереключатели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ьзователю предоставляется возможность отнести себя к одной из групп пользователей: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чащийся, студент, учите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ключатели создается тэго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INPUT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значением атрибут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=“radio”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элементы в группе должны иметь одинаковые значения атрибут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=“Gro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им обязательным атрибутом должно бы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имающий, в нашем случае, знач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schoolboy“, "student“, "teacher"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ткрыть в Блокноте файл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keta.html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и добавить следующий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HTML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-код, задающий группу переключателей. Просмотреть результат в браузере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ажите, к какой группе пользователей вы себя относите: &lt;B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INPUT TYPE="radio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NAME="group" value="schoolboy"&gt;учащийся&lt;B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INPUT TYPE="radio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NAME="group" value="student"&gt;студент&lt;B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INPUT TYPE="radio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NAME="group" value="teacher"&gt;учитель&lt;B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Флажки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лажк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ются тэго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INPUT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 значением атрибут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=“checkbo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лаж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ен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группу могут иметь одинаковые значения атрибут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=“Gro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им обязательным атрибутом должно бы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имающий, в нашем случае, знач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www“, “e-mail“, “ftp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Добавить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HTML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-код, задающий флажки для выбора нескольких  элементов. Просмотреть результат в браузе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имер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из сервисов Интернета вы используете наиболее час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INPUT TYPE="checkbox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AME="group" value="www"&gt;www&lt;BR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INPUT TYPE="checkbox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AME="group" value="e-mail"&gt;e-mail&lt;BR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INPUT TYPE="checkbox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NAME="group" value="ftp"&gt;FTP&lt;BR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оля спи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перь выясним, какой из браузеров предпочитает посетитель сайта. Перечень браузеров представим в виде раскрывающегося списка, из которого можно выбрать только один вариант. Используется контейне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SELECT&gt; &lt;/SELECT&gt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тором каждый элемент списка определен тэго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OPTION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Выбираемый по умолчанию элемент задается атрибуто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C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ткрыть в Блокноте файл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keta.html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и добавить следующий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HTML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-код, задающий раскрывающий список. Просмотреть результат в браузере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SELECT NAME="browsers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OPTION SELECTED&gt; Internet Expl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OPTION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scape Navig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OPTION&gt; Op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OPTION&gt; Neo Pl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/SELEC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екстовая обла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ется с помощью тэг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lt;TEXTAREA&gt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обязательными атрибутами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адающим имя области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число стро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столбц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обавить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HTML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-код, создающий текстовую область. Просмотреть результат в браузере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еще информацию вы хотели бы видеть на нашем сай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B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TEXTAREA NAME="resum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OWS=4 COLS=30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/TEXT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B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Отправка 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правка введенной в форму информации, а также очистка полей от уже введенной информации осуществляется кнопками. Для создания кн., отправляющей инф-ю, атрибуту TYPE=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тправи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создания кн., очищающую инф-ю, атрибуту TYPE=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чистит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добавить HTML-код, создающий текстовую область. Просмотреть результат в браузер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INPUT TYPE="SUBMI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alue="Отправить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INPUT TYPE="RESE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alue="Очистить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755640" y="620640"/>
            <a:ext cx="80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того, чтобы при щелчке по кн. «Отправить» данные из формы передавались на сервер и там обрабатывались необходимо указать адрес и программу обработки. Для этого используется атрибут ACTION контейнера &lt;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lt;FORM ACTION=http:/www.mycompany.ru/ogi-bin/bd.ex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азовем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Web-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траницу «Компьютер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TIT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Компьют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/TIT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местим на страницу текс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0066"/>
                </a:solidFill>
                <a:latin typeface="Arial"/>
              </a:rPr>
              <a:t>«Все о компьютера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Все о компьюте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Текст програм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TIT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gt;Компьютер&lt;/TIT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 о компьюте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охранять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eb-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траницы нужно с расширение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ht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Мой сайт 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ято сохранять титульный файл сайта под имен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Index.html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Форматирование текс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мер шрифта в заголовках задается тэгами от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Н1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Н6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&lt;H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о компьюте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&lt;/H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выравнивания заголовка задает атрибу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L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&lt;H1 ALIGN="CENT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”&gt;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се о компьютер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&lt;/H1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эг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FONT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задает параметры форматирования любого фрагмента текста. Атрибут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FAC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ет тип шрифта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CE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Arial”)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IZ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– размер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SIZE=10)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COLO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– цвет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COLOR=“blue”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66"/>
                </a:solidFill>
                <a:latin typeface="Arial"/>
              </a:rPr>
              <a:t>Для отделения заголовка от остального содержания страницы горизонтальной линией используется тэг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&lt;H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9999"/>
                </a:solidFill>
                <a:latin typeface="Arial"/>
              </a:rPr>
              <a:t>Задать синий цвет заголов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FONT COLOR=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U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H1 ALIGN="CEN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 о компьюте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/H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/FONT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H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Абзацы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еление текста на абзацы производится контейнеро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/P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каждого абзаца можно применить свой тип выравнивания. Поместим на титульную страницу текст, разбитый на абзацы с различным выравнивани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&lt;P ALIGN="LEFT"&gt;На этом сайте вы сможете получить различную информацию о компьютере, его программном обеспечении и ценах на компьютерные комплектующие.&lt;/P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66"/>
                </a:solidFill>
                <a:latin typeface="Arial"/>
              </a:rPr>
              <a:t>&lt;P ALIGN="RIGHT"&gt;Терминологический словарь познакомит вас с  компьютерными терминами, а также вы сможете заполнить анкету.&lt;/P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8T16:22:26Z</dcterms:created>
  <dc:creator>Nemo</dc:creator>
  <dc:description/>
  <dc:language>en-US</dc:language>
  <cp:lastModifiedBy>Алёна</cp:lastModifiedBy>
  <dcterms:modified xsi:type="dcterms:W3CDTF">2011-10-17T09:06:44Z</dcterms:modified>
  <cp:revision>60</cp:revision>
  <dc:subject/>
  <dc:title>Создание Web-сайта</dc:title>
</cp:coreProperties>
</file>