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4EA-3582-4181-9FDA-2CE7DBCACF33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290-CFBB-4BFC-9DF6-C9A93BE122ED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9B99-BBF6-422C-BECA-36076A2F07DD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7AD-E719-4D41-A667-9737515B9D0A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5FC5-40BA-43DE-84D7-9487C3F8B38C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3600-B4B8-41A8-8D35-7CCFE71899A6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129-51CE-49B4-A737-FBA0E621C94E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D94-BBD7-4D3A-812A-E037A6499FDA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93C1-0A48-410B-BF71-A324CCB488F1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489-E9A1-42C8-A53A-A08D0F58CBA7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6DBF-FB96-48A3-8839-1075D7E9676B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401-5661-46CC-A8DE-D9B4620BB32C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2D90-77AF-4D89-8E7F-61C8B112E60C}" type="slidenum">
              <a:rPr b="0" i="1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847-B5EA-4D7B-B87F-D6AD041A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086-7513-4D88-827E-0AEC3F2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C9B-2419-4F2B-A2DA-4ACB1499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86F-07BD-445F-918E-C1D4A241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73B5-00C3-46B2-B47C-8C844FC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5F2-B22D-457A-9C64-6C368CDB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42D-D81C-46A8-94FF-ADB47C5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8289-8CC2-405A-ACB4-A671F596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2AD5-FA11-4864-A83A-C81B2ED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1E30-A0DF-4E4F-8776-F867AB53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183E-52C2-481E-8848-9EBD4C4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85D-B201-42BF-9A52-7A9425B7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01D8-0C7E-4CEC-99B4-A4C4033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8AC-4E7E-4A79-96D1-9D095AC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6952-6891-4722-8556-2818AA8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94C-C91D-48B5-ACE6-310C00DA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B759-E02B-4F05-A3E4-FBE66568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999-3504-4DB4-ADE7-6C8D05D7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BE1-E779-4EC8-8145-CDD96F9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488-CFDE-4B01-BD0E-7413E77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D4E-4D37-4EAB-9A77-001348F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460-7670-4006-8F1A-BE2AB6A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2D9-6D97-4D2C-BA79-3AAAF85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52A-61D2-434F-884A-F227AE4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206960"/>
            <a:ext cx="9166320" cy="2639880"/>
            <a:chOff x="0" y="4206960"/>
            <a:chExt cx="9166320" cy="2639880"/>
          </a:xfrm>
        </p:grpSpPr>
        <p:sp>
          <p:nvSpPr>
            <p:cNvPr id="1" name="Rectangle 2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grpSp>
          <p:nvGrpSpPr>
            <p:cNvPr id="2" name="Group 12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163440" y="5075280"/>
                <a:ext cx="255600" cy="175896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353880" y="5792760"/>
                <a:ext cx="409680" cy="98748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0" y="4822920"/>
                <a:ext cx="896760" cy="110304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grpSp>
            <p:nvGrpSpPr>
              <p:cNvPr id="6" name="Group 10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733320" y="5958000"/>
                  <a:ext cx="131760" cy="54612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103320" y="5657760"/>
                  <a:ext cx="579240" cy="13968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76320" y="5740560"/>
                  <a:ext cx="600120" cy="5868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</p:grpSp>
          <p:sp>
            <p:nvSpPr>
              <p:cNvPr id="11" name="Freeform 11"/>
              <p:cNvSpPr/>
              <p:nvPr/>
            </p:nvSpPr>
            <p:spPr>
              <a:xfrm>
                <a:off x="19080" y="4206960"/>
                <a:ext cx="884160" cy="105876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grpSp>
          <p:nvGrpSpPr>
            <p:cNvPr id="12" name="Group 24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Group 15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Freeform 13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prstGeom prst="pie">
                  <a:avLst/>
                </a:pr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</p:grpSp>
          <p:grpSp>
            <p:nvGrpSpPr>
              <p:cNvPr id="16" name="Group 23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Freeform 16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prstGeom prst="pie">
                  <a:avLst/>
                </a:pr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grpSp>
              <p:nvGrpSpPr>
                <p:cNvPr id="19" name="Group 22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Freeform 18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sp>
                <p:nvSpPr>
                  <p:cNvPr id="21" name="Freeform 19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sp>
                <p:nvSpPr>
                  <p:cNvPr id="22" name="Freeform 20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sp>
                <p:nvSpPr>
                  <p:cNvPr id="23" name="Freeform 21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</p:grpSp>
          </p:grpSp>
        </p:grpSp>
        <p:sp>
          <p:nvSpPr>
            <p:cNvPr id="24" name="Arc 25"/>
            <p:cNvSpPr/>
            <p:nvPr/>
          </p:nvSpPr>
          <p:spPr>
            <a:xfrm>
              <a:off x="3240" y="6627960"/>
              <a:ext cx="9132840" cy="218880"/>
            </a:xfrm>
            <a:prstGeom prst="pie">
              <a:avLst/>
            </a:pr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sp>
          <p:nvSpPr>
            <p:cNvPr id="25" name="Line 26"/>
            <p:cNvSpPr/>
            <p:nvPr/>
          </p:nvSpPr>
          <p:spPr>
            <a:xfrm>
              <a:off x="1440" y="6845400"/>
              <a:ext cx="912996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ad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sp>
          <p:nvSpPr>
            <p:cNvPr id="27" name="Freeform 28"/>
            <p:cNvSpPr/>
            <p:nvPr/>
          </p:nvSpPr>
          <p:spPr>
            <a:xfrm>
              <a:off x="4097160" y="6191280"/>
              <a:ext cx="912960" cy="4064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6AE-E7C0-4E02-B57C-C151993E8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3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70" name="Rectangle 2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Freeform 3"/>
              <p:cNvSpPr/>
              <p:nvPr/>
            </p:nvSpPr>
            <p:spPr>
              <a:xfrm>
                <a:off x="317520" y="2112840"/>
                <a:ext cx="376200" cy="474516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3" name="Freeform 4"/>
              <p:cNvSpPr/>
              <p:nvPr/>
            </p:nvSpPr>
            <p:spPr>
              <a:xfrm>
                <a:off x="598320" y="3417840"/>
                <a:ext cx="603360" cy="3438720"/>
              </a:xfrm>
              <a:prstGeom prst="pie">
                <a:avLst/>
              </a:pr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4" name="Freeform 5"/>
              <p:cNvSpPr/>
              <p:nvPr/>
            </p:nvSpPr>
            <p:spPr>
              <a:xfrm>
                <a:off x="0" y="1730520"/>
                <a:ext cx="1322280" cy="200484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grpSp>
            <p:nvGrpSpPr>
              <p:cNvPr id="75" name="Group 10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Freeform 6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77" name="Freeform 7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72960" y="3171960"/>
                  <a:ext cx="692280" cy="25236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  <p:sp>
              <p:nvSpPr>
                <p:cNvPr id="79" name="Freeform 9"/>
                <p:cNvSpPr/>
                <p:nvPr/>
              </p:nvSpPr>
              <p:spPr>
                <a:xfrm>
                  <a:off x="341280" y="3322800"/>
                  <a:ext cx="716040" cy="106200"/>
                </a:xfrm>
                <a:prstGeom prst="pie">
                  <a:avLst/>
                </a:pr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Cyr"/>
                  </a:endParaRPr>
                </a:p>
              </p:txBody>
            </p:sp>
          </p:grpSp>
          <p:sp>
            <p:nvSpPr>
              <p:cNvPr id="80" name="Freeform 11"/>
              <p:cNvSpPr/>
              <p:nvPr/>
            </p:nvSpPr>
            <p:spPr>
              <a:xfrm>
                <a:off x="104760" y="533520"/>
                <a:ext cx="1303200" cy="192564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sp>
          <p:nvSpPr>
            <p:cNvPr id="81" name="Arc 13"/>
            <p:cNvSpPr/>
            <p:nvPr/>
          </p:nvSpPr>
          <p:spPr>
            <a:xfrm>
              <a:off x="3240" y="6627960"/>
              <a:ext cx="9132840" cy="218880"/>
            </a:xfrm>
            <a:prstGeom prst="pie">
              <a:avLst/>
            </a:pr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1440" y="6845400"/>
              <a:ext cx="912996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Oval 15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ad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5" name="Freeform 16"/>
              <p:cNvSpPr/>
              <p:nvPr/>
            </p:nvSpPr>
            <p:spPr>
              <a:xfrm>
                <a:off x="3581280" y="6180120"/>
                <a:ext cx="1817640" cy="4856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grpSp>
          <p:nvGrpSpPr>
            <p:cNvPr id="86" name="Group 32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Group 29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Group 20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Freeform 18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prstGeom prst="pie">
                    <a:avLst/>
                  </a:pr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sp>
                <p:nvSpPr>
                  <p:cNvPr id="90" name="Freeform 19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</p:grpSp>
            <p:grpSp>
              <p:nvGrpSpPr>
                <p:cNvPr id="91" name="Group 28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Freeform 21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prstGeom prst="pie">
                    <a:avLst/>
                  </a:pr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sp>
                <p:nvSpPr>
                  <p:cNvPr id="93" name="Freeform 22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prstGeom prst="pie">
                    <a:avLst/>
                  </a:pr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 Cyr"/>
                    </a:endParaRPr>
                  </a:p>
                </p:txBody>
              </p:sp>
              <p:grpSp>
                <p:nvGrpSpPr>
                  <p:cNvPr id="94" name="Group 27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Freeform 23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p:txBody>
                </p:sp>
                <p:sp>
                  <p:nvSpPr>
                    <p:cNvPr id="96" name="Freeform 24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p:txBody>
                </p:sp>
                <p:sp>
                  <p:nvSpPr>
                    <p:cNvPr id="97" name="Freeform 25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p:txBody>
                </p:sp>
                <p:sp>
                  <p:nvSpPr>
                    <p:cNvPr id="98" name="Freeform 26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prstGeom prst="pie">
                      <a:avLst/>
                    </a:pr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p:txBody>
                </p:sp>
              </p:grpSp>
            </p:grpSp>
          </p:grpSp>
          <p:sp>
            <p:nvSpPr>
              <p:cNvPr id="99" name="Freeform 30"/>
              <p:cNvSpPr/>
              <p:nvPr/>
            </p:nvSpPr>
            <p:spPr>
              <a:xfrm>
                <a:off x="8388360" y="4495680"/>
                <a:ext cx="789120" cy="124308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0" name="Freeform 31"/>
              <p:cNvSpPr/>
              <p:nvPr/>
            </p:nvSpPr>
            <p:spPr>
              <a:xfrm>
                <a:off x="7942320" y="2760840"/>
                <a:ext cx="1219320" cy="1699920"/>
              </a:xfrm>
              <a:prstGeom prst="pie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BE8-3CE1-4F60-B2BC-B7D591E4AC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werpt.ru/prezentacii-po-istorii/1439-zavoevatelnye-pohody-faraonov.html" TargetMode="External"/><Relationship Id="rId2" Type="http://schemas.openxmlformats.org/officeDocument/2006/relationships/hyperlink" Target="http://www.uchportal.ru/load/54-1-0-4551" TargetMode="External"/><Relationship Id="rId3" Type="http://schemas.openxmlformats.org/officeDocument/2006/relationships/hyperlink" Target="http://nsportal.ru/shkola/istoriya/library/urok-voennye-pokhody-faraono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172360" cy="52308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звание сайта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Сообщество взаимопомощи учителей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dsovet.su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3200"/>
            </a:b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втор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Одинцова Екатерина Викторовна, учитель истории и обществознания, 1 категория.</a:t>
            </a:r>
            <a:br>
              <a:rPr sz="3200"/>
            </a:b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овательное учреждение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ГБОУ СОШ №2 «Образовательный Центр» с. Кинель-Черкассы, Самарской области.</a:t>
            </a:r>
            <a:br>
              <a:rPr sz="3200"/>
            </a:b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звание презентации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Военные походы фараонов.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929120" y="1285560"/>
            <a:ext cx="4176720" cy="5000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Экипаж колесницы состоит из двух человек: возницы и во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У возницы в руках хлыст, у воина лук и стелы в колчане и десятки дротиков в колч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Колесница опиралась прямо на ось, сзади она открыта. Когда ее разбивало, возница и воин спешили выпрячь лошадей и спасаться верх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9288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Боевые колесниц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27960" y="1217520"/>
            <a:ext cx="204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рийц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ставляют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шадей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колесницы.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енная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спись.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2"/>
          <a:srcRect l="0" t="0" r="1678" b="8233"/>
          <a:stretch/>
        </p:blipFill>
        <p:spPr>
          <a:xfrm>
            <a:off x="109440" y="1335240"/>
            <a:ext cx="4176720" cy="48798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лесница была главной силой фараона и представляла собой грозную силу для врагов в военных походах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714680" y="1967040"/>
            <a:ext cx="5616360" cy="4176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979280" y="1700280"/>
            <a:ext cx="5257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к пехотин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уб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анд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ряд колес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еначаль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ряд колесниц и фара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я армия  (пехотинцы, колесниц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02560" cy="10558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 Войско в поход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716360" y="26370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4716360" y="321300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716360" y="42210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4716360" y="472428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00720" y="1192320"/>
            <a:ext cx="4643280" cy="566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Arial"/>
              </a:rPr>
              <a:t>В 1750 году до н.э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Arial"/>
              </a:rPr>
              <a:t>Египет подвергся нападению кочевников, но египетская армия разбила противника и защитила стра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Arial"/>
              </a:rPr>
              <a:t>Укрепив армию, фараоны стали обращать внимание на соседние богатые государства, пытаясь подчинить их своей вл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0004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 Военные походы фараон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Picture 11" descr="3"/>
          <p:cNvPicPr/>
          <p:nvPr/>
        </p:nvPicPr>
        <p:blipFill>
          <a:blip r:embed="rId2"/>
          <a:stretch/>
        </p:blipFill>
        <p:spPr>
          <a:xfrm>
            <a:off x="71280" y="1231920"/>
            <a:ext cx="4429440" cy="55548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80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С помощью карты и текста в задание №3(рабочий лист) заполните таблиц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0099"/>
                </a:solidFill>
                <a:latin typeface="Arial"/>
              </a:rPr>
              <a:t>К 1500 г.до н.э. при фараоне Тутмосе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</a:rPr>
              <a:t> III</a:t>
            </a:r>
            <a:r>
              <a:rPr b="1" lang="ru-RU" sz="2200" spc="-1" strike="noStrike">
                <a:solidFill>
                  <a:srgbClr val="330099"/>
                </a:solidFill>
                <a:latin typeface="Arial"/>
              </a:rPr>
              <a:t> египтяне завоевывают Сирию, Палестину, Синайский полуостров, Ливию, Нубию, Финик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0099"/>
                </a:solidFill>
                <a:latin typeface="Arial"/>
              </a:rPr>
              <a:t>Из каждого похода армия возвращалась с богатой добычей. Заполните в таблице трофеи, которые привозило с собой войско фараона из этих стран. А также постарайтесь найти завоеванные страны в атласе и показать их на большой карте на дос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9" descr="Египетское царство ок"/>
          <p:cNvPicPr/>
          <p:nvPr/>
        </p:nvPicPr>
        <p:blipFill>
          <a:blip r:embed="rId2"/>
          <a:stretch/>
        </p:blipFill>
        <p:spPr>
          <a:xfrm>
            <a:off x="71280" y="71280"/>
            <a:ext cx="4429440" cy="67168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Египетское царство ок"/>
          <p:cNvPicPr/>
          <p:nvPr/>
        </p:nvPicPr>
        <p:blipFill>
          <a:blip r:embed="rId1"/>
          <a:stretch/>
        </p:blipFill>
        <p:spPr>
          <a:xfrm>
            <a:off x="71280" y="0"/>
            <a:ext cx="5081760" cy="6786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7143840" y="2643120"/>
            <a:ext cx="571320" cy="857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8286840" y="2500200"/>
            <a:ext cx="527040" cy="71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4"/>
          <a:stretch/>
        </p:blipFill>
        <p:spPr>
          <a:xfrm>
            <a:off x="5715000" y="1500120"/>
            <a:ext cx="792000" cy="596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5"/>
          <a:stretch/>
        </p:blipFill>
        <p:spPr>
          <a:xfrm>
            <a:off x="5786280" y="3643200"/>
            <a:ext cx="857520" cy="56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6"/>
          <a:stretch/>
        </p:blipFill>
        <p:spPr>
          <a:xfrm>
            <a:off x="6858000" y="500040"/>
            <a:ext cx="714240" cy="739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7"/>
          <a:stretch/>
        </p:blipFill>
        <p:spPr>
          <a:xfrm>
            <a:off x="8143920" y="1000080"/>
            <a:ext cx="576360" cy="714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5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7000920" y="1785960"/>
            <a:ext cx="863640" cy="573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"/>
          <p:cNvPicPr/>
          <p:nvPr/>
        </p:nvPicPr>
        <p:blipFill>
          <a:blip r:embed="rId9"/>
          <a:stretch/>
        </p:blipFill>
        <p:spPr>
          <a:xfrm>
            <a:off x="6500880" y="4857840"/>
            <a:ext cx="853920" cy="642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9"/>
          <p:cNvSpPr/>
          <p:nvPr/>
        </p:nvSpPr>
        <p:spPr>
          <a:xfrm>
            <a:off x="3786120" y="13572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2d8a"/>
                </a:solidFill>
                <a:latin typeface="Arial"/>
                <a:ea typeface="Arial"/>
              </a:rPr>
              <a:t>финикия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0046 C -0.21858 0.16767 -0.40781 0.33603 -0.48351 0.40356 E">
                                      <p:cBhvr>
                                        <p:cTn id="15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43 0.00323 C -0.28837 -0.09413 -0.52014 -0.19126 -0.61285 -0.22988 E">
                                      <p:cBhvr>
                                        <p:cTn id="15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9806E-006 C -0.25417 0.09412 -0.50764 0.18894 -0.6092 0.2271 E">
                                      <p:cBhvr>
                                        <p:cTn id="15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56 -0.00092 C -0.25226 0.0229 -0.47396 0.04695 -0.56198 0.05666 E">
                                      <p:cBhvr>
                                        <p:cTn id="16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95 -0.01364 C -0.14566 -0.16327 -0.23715 -0.31174 -0.27344 -0.37025 E">
                                      <p:cBhvr>
                                        <p:cTn id="16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6 -4.50509E-006 C -0.16406 0.0044 -0.28316 0.00879 -0.33038 0.01018 E">
                                      <p:cBhvr>
                                        <p:cTn id="17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3.88529E-006 C -0.23351 -0.02752 -0.41979 -0.05434 -0.49393 -0.06452 E">
                                      <p:cBhvr>
                                        <p:cTn id="17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8002E-006 C -0.21528 0.01619 -0.43056 0.03261 -0.51649 0.03955 E">
                                      <p:cBhvr>
                                        <p:cTn id="17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608280" y="3355560"/>
            <a:ext cx="4964400" cy="228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99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99"/>
                </a:solidFill>
                <a:latin typeface="Arial"/>
              </a:rPr>
              <a:t>Сила и могу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99"/>
                </a:solidFill>
                <a:latin typeface="Arial"/>
              </a:rPr>
              <a:t>Поддержание по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99"/>
                </a:solidFill>
                <a:latin typeface="Arial"/>
              </a:rPr>
              <a:t>Завоевательные п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99"/>
                </a:solidFill>
                <a:latin typeface="Arial"/>
              </a:rPr>
              <a:t>Добыча, трофеи, 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785520" y="219240"/>
            <a:ext cx="7775640" cy="2852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Клянусь любовью отца моего, бога Амона-Ра, мне по душе кратчайший путь. Сам встану впереди воинов. Да сокрушим врага внезапным нападением. И только так мы станем сильными»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1116000" y="4076640"/>
            <a:ext cx="20001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Arial"/>
              </a:rPr>
              <a:t>Армия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85010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оценку «3» знать основные понятия, конспект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оценку «4» выписать результаты п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получ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раон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начальники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овые воины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оценку «5». Напишите  эсс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оход египетского войска в ___________________ ». От лица простого воина. Или фараона, или вельможи, или жителя страны завоевания. Тебе предоставляется право выбора, во-первых, страны завоевания, во-вторых, участника события. Попробуй высказать свое отношение к описываемому событ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Использованная литератур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Интернет-ресурсы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010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Уколова В.И. Маринович Л.П. История древнего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игасин А.А. Годер Г.И. История древнего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powerpt.ru/prezentacii-po-istorii/1439-zavoevatelnye-pohody-faraonov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uchportal.ru/load/54-1-0-45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8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http://nsportal.ru/shkola/istoriya/library/urok-voennye-pokhody-faraon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http://historyc.ucoz.ru/load/14_voennye_pokhody_faraonov/1-1-0-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60120" y="4142880"/>
            <a:ext cx="51116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рао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тмо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походом войска в Азию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1320" y="285480"/>
            <a:ext cx="8172360" cy="3671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«Клянусь любовью отца моего, бога Амона-Ра, мне по душе кратчайший путь. Сам встану впереди воинов. Да сокрушим врага внезапным нападением. И только так мы станем сильными»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929200" y="3571920"/>
            <a:ext cx="2087640" cy="2303280"/>
          </a:xfrm>
          <a:prstGeom prst="rect">
            <a:avLst/>
          </a:prstGeom>
          <a:ln w="76320">
            <a:solidFill>
              <a:srgbClr val="66ccff">
                <a:alpha val="9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1071720"/>
            <a:ext cx="5542200" cy="42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ОЕННЫЕ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ПОХОДЫ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АРАОН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0" t="0" r="0" b="5394"/>
          <a:stretch/>
        </p:blipFill>
        <p:spPr>
          <a:xfrm>
            <a:off x="5072040" y="857160"/>
            <a:ext cx="3780000" cy="442908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790640"/>
            <a:ext cx="94298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Состав египетского войс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Войско в пох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Завоевания египетских фараон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02760" cy="112536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28760" y="1761840"/>
            <a:ext cx="4000320" cy="41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Кто возглавлял войско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ФАРА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4920" y="189000"/>
            <a:ext cx="8317080" cy="112536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 Состав египетского войска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3792600" cy="39290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8240" y="4933440"/>
            <a:ext cx="8897760" cy="156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Arial"/>
              </a:rPr>
              <a:t>К какому роду войск относятся изображенные воины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Arial"/>
              </a:rPr>
              <a:t>Пехотинц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2960" y="285840"/>
            <a:ext cx="7958160" cy="7142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Состав египетского войс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12" descr="4"/>
          <p:cNvPicPr/>
          <p:nvPr/>
        </p:nvPicPr>
        <p:blipFill>
          <a:blip r:embed="rId2"/>
          <a:stretch/>
        </p:blipFill>
        <p:spPr>
          <a:xfrm>
            <a:off x="2286000" y="1224000"/>
            <a:ext cx="6697800" cy="32767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63" name="Text Box 13"/>
          <p:cNvSpPr/>
          <p:nvPr/>
        </p:nvSpPr>
        <p:spPr>
          <a:xfrm>
            <a:off x="313200" y="173340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гипетское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йско.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енная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спись.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91440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РУЖИЕ ПЕХОТИНЦЕВ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379600" y="1357200"/>
            <a:ext cx="4264200" cy="482436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66" name="AutoShape 5"/>
          <p:cNvSpPr/>
          <p:nvPr/>
        </p:nvSpPr>
        <p:spPr>
          <a:xfrm>
            <a:off x="5143680" y="1989000"/>
            <a:ext cx="2071440" cy="297000"/>
          </a:xfrm>
          <a:prstGeom prst="leftArrow">
            <a:avLst>
              <a:gd name="adj1" fmla="val 50000"/>
              <a:gd name="adj2" fmla="val 173298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7" name="AutoShape 6"/>
          <p:cNvSpPr/>
          <p:nvPr/>
        </p:nvSpPr>
        <p:spPr>
          <a:xfrm rot="10800000">
            <a:off x="1999800" y="1980720"/>
            <a:ext cx="1405080" cy="304920"/>
          </a:xfrm>
          <a:prstGeom prst="leftArrow">
            <a:avLst>
              <a:gd name="adj1" fmla="val 50000"/>
              <a:gd name="adj2" fmla="val 173782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8" name="AutoShape 7"/>
          <p:cNvSpPr/>
          <p:nvPr/>
        </p:nvSpPr>
        <p:spPr>
          <a:xfrm rot="10800000">
            <a:off x="1714680" y="4214520"/>
            <a:ext cx="2506320" cy="274680"/>
          </a:xfrm>
          <a:prstGeom prst="leftArrow">
            <a:avLst>
              <a:gd name="adj1" fmla="val 50000"/>
              <a:gd name="adj2" fmla="val 174168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4981680" y="3500280"/>
            <a:ext cx="2305080" cy="285840"/>
          </a:xfrm>
          <a:prstGeom prst="leftArrow">
            <a:avLst>
              <a:gd name="adj1" fmla="val 50000"/>
              <a:gd name="adj2" fmla="val 173754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71280" y="150012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 Cyr"/>
              </a:rPr>
              <a:t>Длинные копья</a:t>
            </a:r>
            <a:endParaRPr b="0" lang="en-US" sz="28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7288920" y="1571760"/>
            <a:ext cx="128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 Cyr"/>
              </a:rPr>
              <a:t>Меч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7072200" y="335772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 Cyr"/>
              </a:rPr>
              <a:t>Боевые топорики </a:t>
            </a:r>
            <a:endParaRPr b="0" lang="en-US" sz="28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285840" y="359892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 Cyr"/>
              </a:rPr>
              <a:t>Большой щит</a:t>
            </a:r>
            <a:endParaRPr b="0" lang="en-US" sz="28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1620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 какому роду войск относятся изображенные воины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452600" y="1623960"/>
            <a:ext cx="6191280" cy="394812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620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УЧНИК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809880" cy="368784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  <p:sp>
        <p:nvSpPr>
          <p:cNvPr id="178" name="AutoShape 5"/>
          <p:cNvSpPr/>
          <p:nvPr/>
        </p:nvSpPr>
        <p:spPr>
          <a:xfrm>
            <a:off x="1071720" y="2500200"/>
            <a:ext cx="4357440" cy="285840"/>
          </a:xfrm>
          <a:prstGeom prst="leftArrow">
            <a:avLst>
              <a:gd name="adj1" fmla="val 50000"/>
              <a:gd name="adj2" fmla="val 173757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4357800" y="3571920"/>
            <a:ext cx="1357200" cy="285840"/>
          </a:xfrm>
          <a:prstGeom prst="leftArrow">
            <a:avLst>
              <a:gd name="adj1" fmla="val 50000"/>
              <a:gd name="adj2" fmla="val 173768"/>
            </a:avLst>
          </a:prstGeom>
          <a:solidFill>
            <a:srgbClr val="cc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857920" y="34290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2d8a"/>
                </a:solidFill>
                <a:latin typeface="Arial Cyr"/>
              </a:rPr>
              <a:t>Лук и стрелы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5500800" y="2344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2d8a"/>
                </a:solidFill>
                <a:latin typeface="Arial Cyr"/>
              </a:rPr>
              <a:t>Колчан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17:05:26Z</dcterms:created>
  <dc:creator>ЧЕРНОВ АЛЕКСЕЙ</dc:creator>
  <dc:description/>
  <dc:language>en-US</dc:language>
  <cp:lastModifiedBy>катёнок</cp:lastModifiedBy>
  <dcterms:modified xsi:type="dcterms:W3CDTF">2012-06-04T19:03:42Z</dcterms:modified>
  <cp:revision>50</cp:revision>
  <dc:subject/>
  <dc:title>ЗАВОЕВАТЕЛЬНЫЕ ПОХОДЫ ФАРАОНОВ</dc:title>
</cp:coreProperties>
</file>