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6EE97-C99F-47A1-972D-9D01E4C575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6D27F-7A5D-445D-B9CE-DB46D77F32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84C6E-C4E2-4043-93E2-85FF7CA34E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7A0D2-57A9-452F-A72C-BB6D55CC7B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7A72E-2065-436E-9618-2496F24047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2521A-1AD3-402C-A4E9-BB033401B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48863-C561-4A8A-A8CB-016DA8B9D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0258A-B564-460D-87B3-7DFDA38964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0D6D1-547D-46BC-852F-CE7B1BA163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16665-EADA-41CC-9505-348E838FC7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06BF1-C5ED-4077-A139-FF721F5A65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F6DC8-671B-41F1-8989-6D35F45D9D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712B-E133-4EE8-8A37-D93987604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1849-A976-4804-86E4-F4299A4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BC82-1673-4183-AFA6-B349074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C306-6132-4934-A8C8-46417A04A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DD37-6055-4ECC-BC62-450DFE9F1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C0723-8697-4F63-91EC-F6C55AE6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031DE-2E9F-4C6F-AC84-C27D5B2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0D18-B0A3-492A-99CC-98B5DFD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FE21-3C3C-4AFD-A88D-8ECED9DB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C919E-3FE3-4B05-89D0-47992291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0A47E-7654-4012-8E2A-4C719AD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6AEF-2389-4E32-8D55-69B13D4B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48F20-3988-495B-AFB4-69F0DD1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F7E3-B650-4CBC-BD33-6E3C32D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5845D-272C-4108-B072-8BE9A3BD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B416C-A972-4872-8632-02A5C66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40CE4-678B-4237-ACD2-05396D3D3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D63B-9A52-41AF-9E1C-00471845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8955-3D36-4A58-B4E3-2A5101D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5302-2ECD-4AB2-B43B-A8019045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A849-0158-450F-8CD2-E90DE0C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E1D7-904B-403E-9CBE-9145276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3986-EAB1-493A-A352-6BA7598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BF77-4EDA-47D3-AF7D-60DE485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7.11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A37C88-C46C-49BD-87A0-699426DC599F}" type="slidenum"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7.11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0CDE3F-99CF-4018-9D6D-30F90E8D465B}" type="slidenum"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 урока: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ыть личностью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8520" y="3168720"/>
            <a:ext cx="4113000" cy="308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032440" y="3735360"/>
            <a:ext cx="390204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643200" y="3500280"/>
            <a:ext cx="23529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такое счастье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0" y="785880"/>
            <a:ext cx="9144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428920" y="1357200"/>
            <a:ext cx="4486320" cy="3357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286680" y="4643280"/>
            <a:ext cx="2857320" cy="221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0" y="988920"/>
            <a:ext cx="2571840" cy="386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0" y="4714920"/>
            <a:ext cx="3174840" cy="214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3214800" y="4572000"/>
            <a:ext cx="3301920" cy="228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6"/>
          <a:stretch/>
        </p:blipFill>
        <p:spPr>
          <a:xfrm>
            <a:off x="6286680" y="928800"/>
            <a:ext cx="2571480" cy="37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1 – уч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 из рубрики «В классе и дома» на стр. 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 – подготовить рассказ о сильной личности. (кратк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42908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ь письменно на вопрос «Кто ты?» столько раз, сколько сумеешь за минуту. Проанализируй признаки, которые ты выделяешь, каким отдаешь предпочтение, ставя их на первое место, какие менее важны для тебя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143680" y="1214280"/>
            <a:ext cx="4000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2580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 (individuum - отдельный человек) - это человек, как один из многих себе подобных представителей человеческого рода.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935000"/>
            <a:ext cx="82580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5102280" cy="392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715000" y="1928880"/>
            <a:ext cx="2841480" cy="4022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168000" y="5934240"/>
            <a:ext cx="296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уальность - неповторимое своеобразие человека, набор его уникальных качеств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0" y="1935000"/>
            <a:ext cx="9144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1928880"/>
            <a:ext cx="2575080" cy="255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85840" y="4359240"/>
            <a:ext cx="3132000" cy="2498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643120" y="1785960"/>
            <a:ext cx="1736640" cy="253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2643120" y="3857760"/>
            <a:ext cx="2857680" cy="212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7078680" y="4060800"/>
            <a:ext cx="2065320" cy="27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6"/>
          <a:stretch/>
        </p:blipFill>
        <p:spPr>
          <a:xfrm>
            <a:off x="4500720" y="2000160"/>
            <a:ext cx="2357280" cy="295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7"/>
          <a:stretch/>
        </p:blipFill>
        <p:spPr>
          <a:xfrm>
            <a:off x="6429240" y="2143080"/>
            <a:ext cx="2714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8"/>
          <a:stretch/>
        </p:blipFill>
        <p:spPr>
          <a:xfrm>
            <a:off x="4214880" y="4964040"/>
            <a:ext cx="2857320" cy="18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580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чность – человек, обладающий совокупностью социально значимых черт, свойств и качеств, которые он реализует в общественной жиз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0" y="1935000"/>
            <a:ext cx="9144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1643040"/>
            <a:ext cx="3390840" cy="2255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087960" y="2000160"/>
            <a:ext cx="3056040" cy="203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1928880" y="3286080"/>
            <a:ext cx="51800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й древнегреческий баснописец Эзоп был рабом Ксанфа. Однажды Ксанф отправил Эзопа посмотреть, много ли народу в бане. Вернувшись, Эзоп сказал, что в бане один человек. Ксанф пришел в баню и усидел, что там мно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ты обманул меня? - закричал он на Эз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згляни на этот камень, - ответил Эзоп. - Он лежал у порога, все спотыкались ругались, но никто не убрал его. Нашелся лишь один, который, споткнувшись, откинул его подальше. Вот я и решил, что он единственный человек в этой б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полните пропуски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Ксанф употреблял понятие  «человек» в значении__________________, а Эзоп - в значении __________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е особенности личности Эзопа проявились в этой ситу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цесс становления личности - социализация.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2060640"/>
            <a:ext cx="82296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ботайте с текстом на стр. 11 и заполните табли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57160" y="2643120"/>
          <a:ext cx="7574040" cy="3968640"/>
        </p:xfrm>
        <a:graphic>
          <a:graphicData uri="http://schemas.openxmlformats.org/drawingml/2006/table">
            <a:tbl>
              <a:tblPr/>
              <a:tblGrid>
                <a:gridCol w="3787920"/>
                <a:gridCol w="3786120"/>
              </a:tblGrid>
              <a:tr h="93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становления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, иллюстрирующие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31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, познавая мир, осваивает его, приспосабливается к н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ок переосмысливает полученные знания и опыт, формирует свои принципы и уб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9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396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находит своих единомышленников по взглядам, увлечениям, объединяется с н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30" name="Rectangle 20"/>
          <p:cNvSpPr/>
          <p:nvPr/>
        </p:nvSpPr>
        <p:spPr>
          <a:xfrm>
            <a:off x="857160" y="3500280"/>
            <a:ext cx="7572600" cy="3143520"/>
          </a:xfrm>
          <a:prstGeom prst="rect">
            <a:avLst/>
          </a:prstGeom>
          <a:solidFill>
            <a:srgbClr val="59aaf2"/>
          </a:solidFill>
          <a:ln w="25560">
            <a:solidFill>
              <a:srgbClr val="0b52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азовые жизненные ценност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-сам (внешний вид, поведение, способности, перспектив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мысла жиз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выбо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отнесите пять типов профессий с иллюстрациями, объясните на основе выбора каждый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ип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к –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к – тех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к – при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к – зн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к – художественный обр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4000680"/>
            <a:ext cx="3517920" cy="263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7000920" y="1428840"/>
            <a:ext cx="2143080" cy="321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5483160" y="150012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3143160" y="392904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6275520" y="4429080"/>
            <a:ext cx="28684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07T18:03:52Z</dcterms:modified>
  <cp:revision>1</cp:revision>
  <dc:subject/>
  <dc:title>Тема урока:  Быть личностью</dc:title>
</cp:coreProperties>
</file>