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2858-FEB3-4E70-AAAE-6735C99FF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43F5-4E13-4897-A3E4-01EB9300B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8FF4-55D3-4E75-9F81-1BB52B867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B01D-8052-4EB2-ABF3-69FD05486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DF9F0-EBF5-46E7-B858-9E0200E19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D59CA-97D0-4D2A-A853-0D77C2AAF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8AA8B-9329-41CE-957D-782C5E573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E1873-59B5-4628-85E5-1128D8240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55170-A62E-48CE-99E2-4A472EC16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296FD-65DB-493A-807D-76CD3E91F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F767D-4118-4591-83B6-91222BD8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D9AC-1E09-42EB-9061-39A0BF045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88166-881B-4459-A34A-20631CB4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BFB31-37E6-48BA-A392-739FB40A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A842F-B9A9-4DAD-9C10-9B508B7CF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A0DFC-B5EC-4C7B-BDC4-0AA291F46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E6D23-A2DE-4529-9BF2-7F28737FA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3350-E53D-4514-AB43-E26CC4ABF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999C-219E-498D-8497-D0960456C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0D2D-58E4-4190-8BFB-62F3E5D6B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1B1F-1502-4A11-8608-FE01FF652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9626-09F2-4A8C-807E-95335049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B92A-9976-4F60-88E5-BDD29C97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9FE8-9C5A-446E-9FF6-FC407A95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46AB0-A94C-483D-B517-8691FAD406D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B445D-C0E8-47E0-8C2D-26CC2343269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086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Правовые основы предпринимательской деятельности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43000" y="2743200"/>
            <a:ext cx="6400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то такое предпринимательств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авовые основы предпринимательст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рганизационно-правовые формы предпринимательст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ак открыть свое дел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382840" y="666720"/>
            <a:ext cx="4510440" cy="520560"/>
          </a:xfrm>
          <a:prstGeom prst="rect">
            <a:avLst/>
          </a:prstGeom>
          <a:noFill/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Предприниматель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1828800" y="1295280"/>
            <a:ext cx="2286000" cy="685800"/>
          </a:xfrm>
          <a:prstGeom prst="line">
            <a:avLst/>
          </a:prstGeom>
          <a:ln w="8892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34120" y="1295280"/>
            <a:ext cx="2514600" cy="762120"/>
          </a:xfrm>
          <a:prstGeom prst="line">
            <a:avLst/>
          </a:prstGeom>
          <a:ln w="8892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2057400"/>
            <a:ext cx="3124080" cy="9144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Субъек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91320" y="2133720"/>
            <a:ext cx="3124080" cy="9144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Объек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3352680"/>
            <a:ext cx="4038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частные ли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различные ассоци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(акционерные обществ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кооперативы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государ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68800" y="3583080"/>
            <a:ext cx="4851360" cy="26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любые виды хозяйственн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деятель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коммерческое посредниче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торгово-закупочная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инновационная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консультационная деятельность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операции с ценными бумага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022920" y="533520"/>
            <a:ext cx="3725640" cy="520560"/>
          </a:xfrm>
          <a:prstGeom prst="rect">
            <a:avLst/>
          </a:prstGeom>
          <a:noFill/>
          <a:ln w="63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Предпринимате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2666520" y="1143000"/>
            <a:ext cx="1752840" cy="762120"/>
          </a:xfrm>
          <a:prstGeom prst="line">
            <a:avLst/>
          </a:prstGeom>
          <a:ln w="63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34120" y="1143000"/>
            <a:ext cx="1828800" cy="762120"/>
          </a:xfrm>
          <a:prstGeom prst="line">
            <a:avLst/>
          </a:prstGeom>
          <a:ln w="63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7280" y="2058840"/>
            <a:ext cx="4653720" cy="167940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Юридические ли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рганизация, учреждение, фирм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ыступающие в качестве единого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амостоятельного носителя прав 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бязанност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91480" y="2133720"/>
            <a:ext cx="3850560" cy="350892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Физические ли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Человек, участвующий в эко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омической деятельности 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ачестве ее полноценног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убъекта. Он действует о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обственного имени, мож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заниматься предпринима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тельством с момента госу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дерственной регистрации 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ачестве индивидуальног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едпринимател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762120" y="3809880"/>
            <a:ext cx="1218960" cy="609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95480" y="3809880"/>
            <a:ext cx="114300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1120" y="4495680"/>
            <a:ext cx="2520000" cy="642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Коммерческ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юридические лиц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43200" y="4419720"/>
            <a:ext cx="2286000" cy="1191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Некоммерческ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юридические лиц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Юридическим лицом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ризнается организация, которая:</a:t>
            </a:r>
            <a:br>
              <a:rPr sz="2800"/>
            </a:b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меет обособленное имущество (в собственности, хозяйственном ведении, оперативном управлени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твечает этим имуществом по своим обязательства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ожет от своего имени приобретать имущественные и личные неимущественные права, нести обязан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ожет быть истцом и ответчиком в суд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Юридическое лицо должно иметь самостоятельный баланс или смет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523880" y="380880"/>
            <a:ext cx="5486400" cy="914400"/>
          </a:xfrm>
          <a:prstGeom prst="rect">
            <a:avLst/>
          </a:prstGeom>
          <a:noFill/>
          <a:ln w="889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69960" y="-2728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36640" y="565200"/>
            <a:ext cx="48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Формы юридических ли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361960" y="1371600"/>
            <a:ext cx="1066680" cy="380880"/>
          </a:xfrm>
          <a:prstGeom prst="line">
            <a:avLst/>
          </a:prstGeom>
          <a:ln w="889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05520" y="1371600"/>
            <a:ext cx="990360" cy="380880"/>
          </a:xfrm>
          <a:prstGeom prst="line">
            <a:avLst/>
          </a:prstGeom>
          <a:ln w="889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2057400"/>
            <a:ext cx="4267080" cy="4495680"/>
          </a:xfrm>
          <a:prstGeom prst="rect">
            <a:avLst/>
          </a:prstGeom>
          <a:noFill/>
          <a:ln w="889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1981080"/>
            <a:ext cx="4724280" cy="4572000"/>
          </a:xfrm>
          <a:prstGeom prst="rect">
            <a:avLst/>
          </a:prstGeom>
          <a:noFill/>
          <a:ln w="889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2133720"/>
            <a:ext cx="4267080" cy="25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Коммерческие организ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реследуют извлечение прибыли в качестве основной цели своей деятель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должны иметь фирменное наименова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133720"/>
            <a:ext cx="4343400" cy="43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Некоммерческие организ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не имеют основной целью своей деятельности извлечение прибыли и не распределяют полученную прибыль между участниками (учредителями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могут осуществлять предпринимательскую деятельность лишь постольку это служит достижению целей, ради которых они созданы, и соответствующую этим целя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362320" y="152280"/>
            <a:ext cx="4572000" cy="914400"/>
          </a:xfrm>
          <a:prstGeom prst="rect">
            <a:avLst/>
          </a:prstGeom>
          <a:noFill/>
          <a:ln w="889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14600" y="228600"/>
            <a:ext cx="428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иды коммерческих организац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648320" y="1066680"/>
            <a:ext cx="0" cy="304920"/>
          </a:xfrm>
          <a:prstGeom prst="line">
            <a:avLst/>
          </a:prstGeom>
          <a:ln w="889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1371600"/>
            <a:ext cx="7239240" cy="0"/>
          </a:xfrm>
          <a:prstGeom prst="line">
            <a:avLst/>
          </a:prstGeom>
          <a:ln w="889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38080" y="1295280"/>
            <a:ext cx="0" cy="533520"/>
          </a:xfrm>
          <a:prstGeom prst="line">
            <a:avLst/>
          </a:prstGeom>
          <a:ln w="889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352680" y="1447920"/>
            <a:ext cx="0" cy="457200"/>
          </a:xfrm>
          <a:prstGeom prst="line">
            <a:avLst/>
          </a:prstGeom>
          <a:ln w="889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562720" y="1371600"/>
            <a:ext cx="0" cy="457200"/>
          </a:xfrm>
          <a:prstGeom prst="line">
            <a:avLst/>
          </a:prstGeom>
          <a:ln w="889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1371600"/>
            <a:ext cx="0" cy="533520"/>
          </a:xfrm>
          <a:prstGeom prst="line">
            <a:avLst/>
          </a:prstGeom>
          <a:ln w="889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1828800"/>
            <a:ext cx="2057400" cy="990720"/>
          </a:xfrm>
          <a:prstGeom prst="rect">
            <a:avLst/>
          </a:prstGeom>
          <a:noFill/>
          <a:ln w="889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133720" y="1905120"/>
            <a:ext cx="2057400" cy="990360"/>
          </a:xfrm>
          <a:prstGeom prst="rect">
            <a:avLst/>
          </a:prstGeom>
          <a:noFill/>
          <a:ln w="889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343400" y="1905120"/>
            <a:ext cx="2514600" cy="990360"/>
          </a:xfrm>
          <a:prstGeom prst="rect">
            <a:avLst/>
          </a:prstGeom>
          <a:noFill/>
          <a:ln w="889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934320" y="1828800"/>
            <a:ext cx="2209680" cy="1295280"/>
          </a:xfrm>
          <a:prstGeom prst="rect">
            <a:avLst/>
          </a:prstGeom>
          <a:noFill/>
          <a:ln w="889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8288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Хозяйственные товарище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33720" y="1981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Хозяйственные обще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343400" y="190512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роизводственные кооперативы (артели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010280" y="1828800"/>
            <a:ext cx="2133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Государственные и муниципальные унитарные предприят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90720" y="2819520"/>
            <a:ext cx="0" cy="380880"/>
          </a:xfrm>
          <a:prstGeom prst="line">
            <a:avLst/>
          </a:prstGeom>
          <a:ln w="889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3200400"/>
            <a:ext cx="2438280" cy="0"/>
          </a:xfrm>
          <a:prstGeom prst="line">
            <a:avLst/>
          </a:prstGeom>
          <a:ln w="889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3200400"/>
            <a:ext cx="0" cy="457200"/>
          </a:xfrm>
          <a:prstGeom prst="line">
            <a:avLst/>
          </a:prstGeom>
          <a:ln w="889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438280" y="3200400"/>
            <a:ext cx="0" cy="457200"/>
          </a:xfrm>
          <a:prstGeom prst="line">
            <a:avLst/>
          </a:prstGeom>
          <a:ln w="889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62520" y="2971800"/>
            <a:ext cx="0" cy="609480"/>
          </a:xfrm>
          <a:prstGeom prst="line">
            <a:avLst/>
          </a:prstGeom>
          <a:ln w="889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62520" y="3581280"/>
            <a:ext cx="5181480" cy="0"/>
          </a:xfrm>
          <a:prstGeom prst="line">
            <a:avLst/>
          </a:prstGeom>
          <a:ln w="889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62520" y="3581280"/>
            <a:ext cx="0" cy="381240"/>
          </a:xfrm>
          <a:prstGeom prst="line">
            <a:avLst/>
          </a:prstGeom>
          <a:ln w="889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095880" y="3581280"/>
            <a:ext cx="0" cy="381240"/>
          </a:xfrm>
          <a:prstGeom prst="line">
            <a:avLst/>
          </a:prstGeom>
          <a:ln w="889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136080" y="3657600"/>
            <a:ext cx="0" cy="380880"/>
          </a:xfrm>
          <a:prstGeom prst="line">
            <a:avLst/>
          </a:prstGeom>
          <a:ln w="889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3657600"/>
            <a:ext cx="1676520" cy="129528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52480" y="3657600"/>
            <a:ext cx="1676520" cy="129528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73392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олные товарище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52480" y="365760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оварищества на вер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429000" y="3962520"/>
            <a:ext cx="1523880" cy="114300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238880" y="3962520"/>
            <a:ext cx="1905120" cy="129528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29200" y="3962520"/>
            <a:ext cx="2133720" cy="121896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29000" y="40384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кционерные обществ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952880" y="403848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бщества с ограниченной ответственность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315200" y="4038480"/>
            <a:ext cx="1828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щества с до-полнительной ответственнос-ть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114800" y="5181480"/>
            <a:ext cx="0" cy="304920"/>
          </a:xfrm>
          <a:prstGeom prst="line">
            <a:avLst/>
          </a:prstGeom>
          <a:ln w="889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219320" y="5486400"/>
            <a:ext cx="5867280" cy="0"/>
          </a:xfrm>
          <a:prstGeom prst="line">
            <a:avLst/>
          </a:prstGeom>
          <a:ln w="889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19320" y="5562720"/>
            <a:ext cx="0" cy="457200"/>
          </a:xfrm>
          <a:prstGeom prst="line">
            <a:avLst/>
          </a:prstGeom>
          <a:ln w="889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010280" y="5562720"/>
            <a:ext cx="0" cy="457200"/>
          </a:xfrm>
          <a:prstGeom prst="line">
            <a:avLst/>
          </a:prstGeom>
          <a:ln w="889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6019920"/>
            <a:ext cx="4114800" cy="83808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724280" y="6019920"/>
            <a:ext cx="4114800" cy="83808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2280" y="617220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Открытые акционерные обще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724280" y="61722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Закрытые акционерные обще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062440" y="304920"/>
            <a:ext cx="559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Виды предприниматель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228600" y="914400"/>
          <a:ext cx="8740800" cy="5155920"/>
        </p:xfrm>
        <a:graphic>
          <a:graphicData uri="http://schemas.openxmlformats.org/drawingml/2006/table">
            <a:tbl>
              <a:tblPr/>
              <a:tblGrid>
                <a:gridCol w="2776680"/>
                <a:gridCol w="5964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Ви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Сущнос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Tahoma"/>
                        </a:rPr>
                        <a:t>Производственное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Tahoma"/>
                        </a:rPr>
                        <a:t>предпринимательств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существляется производство товаров, услуг, информации, духовных ценност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Tahoma"/>
                        </a:rPr>
                        <a:t>Коммерческое предпринимательств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стоит в операциях и сделках по перепродаже товаров, услуг и не связано с производством продук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Tahoma"/>
                        </a:rPr>
                        <a:t>Финансовое предпринимательств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Является разновидностью коммерческого предпринимательства. Объектом купли-продажи здесь выступают деньги, валюта, ценные бумаг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Tahoma"/>
                        </a:rPr>
                        <a:t>Посредническое предпринимательств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оявляется в деятельности, соединяющей заинтересованные во взаимной сделке стороны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Tahoma"/>
                        </a:rPr>
                        <a:t>Страховое предпринимательств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собая форма финансового предпринимательства, заключающаяся в том, что предприниматель получает страховой взнос, которые возвращается только при наступлении страхового случая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372760" y="0"/>
            <a:ext cx="51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Формы предприниматель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304920" y="457200"/>
          <a:ext cx="8458200" cy="6265800"/>
        </p:xfrm>
        <a:graphic>
          <a:graphicData uri="http://schemas.openxmlformats.org/drawingml/2006/table">
            <a:tbl>
              <a:tblPr/>
              <a:tblGrid>
                <a:gridCol w="2819160"/>
                <a:gridCol w="5639040"/>
              </a:tblGrid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Тип фир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Сущнос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Tahoma"/>
                        </a:rPr>
                        <a:t>Индивидуальное или частное предпринимательств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изнес, владельцем которого является один человек. Он несет неограниченную имущественную ответственность, и у него невелик капитал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Tahoma"/>
                        </a:rPr>
                        <a:t>Товарищество или партнерств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изнес, которым владеют два и более человек. Они принимают совместные решения и несут личную имущественную ответственность за ведение дел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Tahoma"/>
                        </a:rPr>
                        <a:t>Кооперати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хож на партнерство, но имеет большее число пайщиков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Tahoma"/>
                        </a:rPr>
                        <a:t>Корпорац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вокупность лиц, объединенных для совместной предпринимательской деятельности. Право на собственность корпорации разделено на части по акциям, поэтому владельцы корпораций называются держателями акций, а сама корпорация – </a:t>
                      </a: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акционерным обществом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688240" cy="6324480"/>
          </a:xfrm>
          <a:prstGeom prst="rect">
            <a:avLst/>
          </a:prstGeom>
          <a:ln w="889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Как открыть свое дело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Этапы.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66320" y="144792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Обоснование предпринимательских идей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выявление экономического интереса и мотивов будущей предпринимательской деятельност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Определение состава учредителей и организационно-правовой формы будущей организа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Разработка наименования коммерческой организации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Ст. 54 Гражданского кодекса РФ говорит о том, что юридическое лицо должно иметь свое наименование, в котором обязательно указывается его организационно-правовая форм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6840" y="0"/>
            <a:ext cx="85345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ahoma"/>
              </a:rPr>
              <a:t>4. Оформление учредительных документов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ahoma"/>
              </a:rPr>
              <a:t>Устав -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свод норм и правил, включающий такие разделы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ahoma"/>
              </a:rPr>
              <a:t>Общие положения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ahoma"/>
              </a:rPr>
              <a:t>Цели и предмет деятельности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ahoma"/>
              </a:rPr>
              <a:t>Характеризует материально-техническую базу и средства предприятия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ahoma"/>
              </a:rPr>
              <a:t>Органы управления и контроля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ahoma"/>
              </a:rPr>
              <a:t>Описывает производственную, финансово-хозяйственную деятельность предприятия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ahoma"/>
              </a:rPr>
              <a:t>Предусматривает условия реорганизации и прекращения деятельности создаваемой организации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ahoma"/>
              </a:rPr>
              <a:t>Учредительный договор -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соглашение двух и более сторон, закрепляющее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ahoma"/>
              </a:rPr>
              <a:t>Юридический статус создаваемого предприятия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ahoma"/>
              </a:rPr>
              <a:t>Фиксирует уставный капитал и порядок его формирования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ahoma"/>
              </a:rPr>
              <a:t>Устанавливает порядок распределения доходов, обязанности сторон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Согласно статье 34 Конституции РФ за каждым гражданином закреплено право на свободное использование своих способностей и имущества для предпринимательской и иной не запрещенной законом экономической деятельности.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28600" y="1981080"/>
          <a:ext cx="8610480" cy="4494240"/>
        </p:xfrm>
        <a:graphic>
          <a:graphicData uri="http://schemas.openxmlformats.org/drawingml/2006/table">
            <a:tbl>
              <a:tblPr/>
              <a:tblGrid>
                <a:gridCol w="4038480"/>
                <a:gridCol w="457200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Бизне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ccff"/>
                      </a:solidFill>
                    </a:lnL>
                    <a:lnR w="18720">
                      <a:solidFill>
                        <a:srgbClr val="66ccff"/>
                      </a:solidFill>
                    </a:lnR>
                    <a:lnT w="18720">
                      <a:solidFill>
                        <a:srgbClr val="66ccff"/>
                      </a:solidFill>
                    </a:lnT>
                    <a:lnB w="18720">
                      <a:solidFill>
                        <a:srgbClr val="66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Предпринимательств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ccff"/>
                      </a:solidFill>
                    </a:lnL>
                    <a:lnR w="18720">
                      <a:solidFill>
                        <a:srgbClr val="66ccff"/>
                      </a:solidFill>
                    </a:lnR>
                    <a:lnT w="18720">
                      <a:solidFill>
                        <a:srgbClr val="66ccff"/>
                      </a:solidFill>
                    </a:lnT>
                    <a:lnB w="18720">
                      <a:solidFill>
                        <a:srgbClr val="66ccff"/>
                      </a:solidFill>
                    </a:lnB>
                    <a:noFill/>
                  </a:tcPr>
                </a:tc>
              </a:tr>
              <a:tr h="381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Экономическая деятельность людей, целью которой является прибыль, доход или иные личные выгоды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анная деловая активность направлена в конечном счете на совершение коммерческих операций по обмену товарами или услугам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ccff"/>
                      </a:solidFill>
                    </a:lnL>
                    <a:lnR w="18720">
                      <a:solidFill>
                        <a:srgbClr val="66ccff"/>
                      </a:solidFill>
                    </a:lnR>
                    <a:lnT w="18720">
                      <a:solidFill>
                        <a:srgbClr val="66ccff"/>
                      </a:solidFill>
                    </a:lnT>
                    <a:lnB w="18720">
                      <a:solidFill>
                        <a:srgbClr val="66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ициативная самостоятельная деятельность людей, осуществляемая от своего имени, на свой риск и направленная на получение дохода, прибыли от пользования имуществом, продажи товаров, оказания услуг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вязана с риском, инициативой, предприимчивостью, самостоятельностью, ответственностью, активным поиском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66ccff"/>
                      </a:solidFill>
                    </a:lnL>
                    <a:lnR w="18720">
                      <a:solidFill>
                        <a:srgbClr val="66ccff"/>
                      </a:solidFill>
                    </a:lnR>
                    <a:lnT w="18720">
                      <a:solidFill>
                        <a:srgbClr val="66ccff"/>
                      </a:solidFill>
                    </a:lnT>
                    <a:lnB w="18720">
                      <a:solidFill>
                        <a:srgbClr val="66c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5. Государственная регистрац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се юридические лица подлежат регистрации в Федеральной налоговой служб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окументы, необходимые для регистраци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Заявление о государственной регистрации по утвержденной форм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ешение о создании юридического лица (например протокол собрания учредителей и.т.п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чредительные документы юридического ли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окумент об уплате государственной пошлин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цесс государственной регистрации не должен занимать более 5 рабочих дней со дня предоставления документов. Данные о вновь созданном юридическом лице вносят в государственный реестр, после чего выдается 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Свидетельство о регистра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066320" y="380520"/>
            <a:ext cx="7543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6.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ля отдельных видов предпринимательства требуется особый государственный контроль, тогда необходимо получить </a:t>
            </a: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лицензию -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пециальное разрешение на осуществление определенного виды деятельности при обязательном соблюдении требований и услов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По Закону РФ «О лицензировании отдельных видов деятельности» лицензированию подлежат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бразователь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иржев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траховая и иные виды деятель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Практическая работа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240" y="205740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Прочитайте извлечения из Гражданского кодекса РФ и заполните таблиц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Решите познавательную задачу, пользуясь памятк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Установите соответствия между организационно-правовыми видами предприятий и характеристиками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рочитайте извлечения из Гражданского кодекса РФ, касающиеся правового статуса предприятий различных видов. Сопоставьте признаки, присущие этим видам предприятий. Заполните сравнительную таблицу.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0" y="2286000"/>
          <a:ext cx="8943840" cy="4211640"/>
        </p:xfrm>
        <a:graphic>
          <a:graphicData uri="http://schemas.openxmlformats.org/drawingml/2006/table">
            <a:tbl>
              <a:tblPr/>
              <a:tblGrid>
                <a:gridCol w="2117880"/>
                <a:gridCol w="2338200"/>
                <a:gridCol w="1798560"/>
                <a:gridCol w="2689200"/>
              </a:tblGrid>
              <a:tr h="144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Линии сравн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Общество с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ограниченной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ответственностью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Акционерное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обществ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Производственный кооперати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тветственность по обязательствам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рганы управл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организация и ликвидац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533520" y="0"/>
            <a:ext cx="7924680" cy="71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Решите познавательную задачу, пользуясь памятк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онстантин Викторович много лет проработал механиком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предприятии «Восход». Как владелец ценных бумаг он получал часть прибыли предприятия; участвовал в ежегодных собраниях, на которых обсуждались вопросы повышения эффективности работы предприятия. Право на доход сохранилось за ним и после ухода на пенс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Какую форму собственности иллюстрирует этот пример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Какие еще права есть у его работников? Назовите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ahoma"/>
              </a:rPr>
              <a:t>два 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таких пра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ahoma"/>
              </a:rPr>
              <a:t>Установите соответствие между организационно-правовыми видами предприятий и их характеристиками: к каждой позиции, данной в первом столбце, подберите соответствующую позицию из второго столбца. Результаты занесите в таблицу.</a:t>
            </a:r>
            <a:endParaRPr b="1" lang="en-US" sz="2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               </a:t>
            </a: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ХАРАКТЕРИСТИКИ</a:t>
            </a: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         ВИД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А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 при выходе участник получает стоимость  </a:t>
            </a: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 Акционерно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воего пая                                                        обществ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Б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ставный капитал образуется                     </a:t>
            </a: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2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оизводственн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з стоимости вкладов участников                       кооперати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В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сполнительными органами                        </a:t>
            </a: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3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бщество с ограниченной являются правление и председатель              ответственностью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Г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число членов не может быть менее 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Д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и числе членов более 50 создаетс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овет директор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533520" y="5562720"/>
          <a:ext cx="7691400" cy="790560"/>
        </p:xfrm>
        <a:graphic>
          <a:graphicData uri="http://schemas.openxmlformats.org/drawingml/2006/table">
            <a:tbl>
              <a:tblPr/>
              <a:tblGrid>
                <a:gridCol w="1538280"/>
                <a:gridCol w="1538280"/>
                <a:gridCol w="1538280"/>
                <a:gridCol w="1538280"/>
                <a:gridCol w="15382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Условия успешного развития предпринимательской деятельности в государственном масштабе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кономическая свобо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ддержание конкурентной среды в экономик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здание правового поля для развития предприниматель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66320" y="762120"/>
            <a:ext cx="7543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Предпринимательски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правоотношения -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щественные отношения в сфере предпринимательской деятельности, а также связанные с ними некоммерческие отношения и отношения по государственному регулированию рыночной экономи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Источники предпринимательского права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5238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онституция РФ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Гражданский кодек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алоговый кодек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Бюджетный кодек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одекс об административных правонарушения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головный кодек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Законы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«О государственной регистрации юридических лиц и индивидуальных предпринимателей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«О лицензировании отдельных видов деятельности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«Об акционерных обществах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«О производственных кооперативах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«О финансово-промышленных группах»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 т.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Согласно п. 1 ст. 2 Гражданского кодекса РФ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предпринимательской деятельностью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ризнается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«самостоятельная, осуществляемая на свой риск деятельность, направленная на систематическое получение прибыли от пользования имуществом, продажи товаров, выполнения работ или оказания услуг лицами, зарегистрированными в этом качестве в установленном законом порядке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Принципы правового регулирования предпринимательства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990360"/>
            <a:ext cx="7543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вобода предпринимательской деятель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нициативная и самостоятельная деятельн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лучение прибыли как главная цель предпринимательской деятель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Юридическое равенство различных форм собственности, используемых в предпринимательской деятель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Законность в предпринимательской деятель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вобода конкуренции и ограничение монополистической деятель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Государственное регулирование предпринимательской деятель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523880" y="533520"/>
            <a:ext cx="6096240" cy="914400"/>
          </a:xfrm>
          <a:prstGeom prst="rect">
            <a:avLst/>
          </a:prstGeom>
          <a:noFill/>
          <a:ln w="889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Государственное регулирова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редпринимательской деятель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74880" y="2013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057400" y="1523880"/>
            <a:ext cx="1905120" cy="762120"/>
          </a:xfrm>
          <a:prstGeom prst="line">
            <a:avLst/>
          </a:prstGeom>
          <a:ln w="889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57800" y="1523880"/>
            <a:ext cx="1905120" cy="838440"/>
          </a:xfrm>
          <a:prstGeom prst="line">
            <a:avLst/>
          </a:prstGeom>
          <a:ln w="889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2362320"/>
            <a:ext cx="3276720" cy="914400"/>
          </a:xfrm>
          <a:prstGeom prst="rect">
            <a:avLst/>
          </a:prstGeom>
          <a:noFill/>
          <a:ln w="889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10080" y="2438280"/>
            <a:ext cx="3276720" cy="914400"/>
          </a:xfrm>
          <a:prstGeom prst="rect">
            <a:avLst/>
          </a:prstGeom>
          <a:noFill/>
          <a:ln w="889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18840" y="2592360"/>
            <a:ext cx="140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рям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98760" y="266868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Косвенн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6720" y="3740040"/>
            <a:ext cx="47404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еобходимость государственн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егистрации предпринимателе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олучение лицензии как услов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существления лицензируемог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ида деятельности, получ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ертификата в случае обязатель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ой сертификации продукци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товаров и услу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186160" y="3733920"/>
            <a:ext cx="379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едоставление льготны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редитов, льгот по налого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бложени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68580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Функции предпринимательства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1066320" y="990720"/>
            <a:ext cx="2057400" cy="76176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990720"/>
            <a:ext cx="0" cy="114300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400800" y="990720"/>
            <a:ext cx="2057400" cy="91440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828800"/>
            <a:ext cx="2819520" cy="9144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Ресурс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48120" y="2133720"/>
            <a:ext cx="2971800" cy="9144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Организацион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24480" y="1981080"/>
            <a:ext cx="2819520" cy="9144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Творческ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20" y="3327480"/>
            <a:ext cx="2806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Соедине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естественных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инвестиционных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трудовых ресурсо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 единое цел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50840" y="2013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03040" y="3359160"/>
            <a:ext cx="3129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Использова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редпринимателям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своих способност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для получ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ысокого дох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357240" y="3359160"/>
            <a:ext cx="2280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Использова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новаторства 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деятельност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ver</cp:lastModifiedBy>
  <dcterms:modified xsi:type="dcterms:W3CDTF">2011-10-17T13:08:01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