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6D2-2204-4F82-9A19-0636745B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625-1456-4AEB-83E0-ACBD161F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910-4CF7-4083-809F-C86CD651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F61-104B-4C5F-B9AF-2CA20F36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426-8C38-4022-A7E0-733182C9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420-C98F-498A-A485-75A8E425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573-36EA-4085-9233-F12CD380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B3C-87FA-4E07-9238-B2EDACAF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247-A6D1-424C-801B-A46A5E1C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1B5-74CD-4CAA-B862-1430520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DD5-599B-48E2-83D7-280D4E9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134-4D39-44B4-8E28-63A0E32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352C-866B-4503-BADF-AE9A42F03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9.png"/><Relationship Id="rId13" Type="http://schemas.openxmlformats.org/officeDocument/2006/relationships/image" Target="../media/image10.gif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miart.ru/forum/index.php?showtopic=30535&amp;st=15" TargetMode="External"/><Relationship Id="rId3" Type="http://schemas.openxmlformats.org/officeDocument/2006/relationships/hyperlink" Target="http://shkolazhizni.ru/archive/0/n-21336/" TargetMode="External"/><Relationship Id="rId4" Type="http://schemas.openxmlformats.org/officeDocument/2006/relationships/hyperlink" Target="http://fotki.yandex.ru/users/vibpxhgglzd/view/191218/" TargetMode="External"/><Relationship Id="rId5" Type="http://schemas.openxmlformats.org/officeDocument/2006/relationships/hyperlink" Target="http://ru.wikipedia.org/wiki/Salamandra_salamandra" TargetMode="External"/><Relationship Id="rId6" Type="http://schemas.openxmlformats.org/officeDocument/2006/relationships/hyperlink" Target="http://iguinho.ig.com.br/canalnatureza/anfibios-imagens.html" TargetMode="External"/><Relationship Id="rId7" Type="http://schemas.openxmlformats.org/officeDocument/2006/relationships/hyperlink" Target="http://salamand.ru/yadovitaya-salamandra/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98100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ламандр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012000" y="4941720"/>
            <a:ext cx="2766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а 3 класса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У СОШ № 4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лпи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ибиряева Дани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 rot="1866000">
            <a:off x="2410920" y="34286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 rot="15474000">
            <a:off x="0" y="34995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 rot="9331800">
            <a:off x="1258200" y="522936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германской мифологии саламандра -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ух ог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696000" cy="4902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24280"/>
            <a:ext cx="4038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Рас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падная Украина, Карпаты, Северная Америка, запад Малой 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9280" y="4723920"/>
            <a:ext cx="40384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едпочитает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ляны, луга, влажные лиственные и смешанные леса, реже 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35280" y="358920"/>
            <a:ext cx="5905440" cy="428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8208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тается, в основном, дождевыми червями, которых выкапывает из почвы. Но может охотится и на крупны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6624720" cy="4416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6408720" cy="4807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ина тела – 25 см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олжительность жизни – 20-25 лет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орд в неволе  более 5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нистая или  огненная саламандра имеет околоушные железы, которые  выделяют токсичный яд,  который в химии назвал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ламанд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5832360" cy="4227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тественными врагами в природе  для саламандр являются зме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обыкновенный и водяной уж), хищные рыбы, птицы и каб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5976720" cy="4083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9616800">
            <a:off x="1978920" y="263700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15474000">
            <a:off x="3924000" y="13406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500720" y="350028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rot="13020000">
            <a:off x="-181080" y="-458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 rot="18616800">
            <a:off x="7235640" y="-458640"/>
            <a:ext cx="2087280" cy="2087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 rot="1102200">
            <a:off x="7056000" y="4770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 rot="5986200">
            <a:off x="0" y="5013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 rot="15474000">
            <a:off x="2842920" y="170028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 rot="17715600">
            <a:off x="5435280" y="-2475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 rot="17333400">
            <a:off x="7056000" y="-25480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2411280" y="1125360"/>
            <a:ext cx="11797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35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45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70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8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96532E-006 L 1.07101 -0.9963 E">
                                      <p:cBhvr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2000"/>
                            </p:stCondLst>
                            <p:childTnLst>
                              <p:par>
                                <p:cTn id="154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4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1481E-006 L -0.45261 1.35949 E">
                                      <p:cBhvr>
                                        <p:cTn id="159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96296E-006 C -0.03784 0.00486 -0.07569 0.00995 -0.11336 0.01389 C -0.1335 0.02662 -0.15625 0.02615 -0.17777 0.03102 C -0.19982 0.03565 -0.21979 0.05254 -0.24201 0.05833 C -0.25138 0.06921 -0.25642 0.0824 -0.26632 0.09259 C -0.26961 0.1 -0.27448 0.10532 -0.27743 0.11319 C -0.2875 0.14074 -0.27239 0.11597 -0.2842 0.13356 C -0.29201 0.18287 -0.29496 0.23356 -0.2842 0.28356 C -0.27882 0.3581 -0.26441 0.45972 -0.29513 0.52268 C -0.3059 0.57407 -0.33645 0.57546 -0.36632 0.57754 C -0.38628 0.57893 -0.40607 0.57986 -0.42604 0.58102 C -0.42691 0.58102 -0.44965 0.58356 -0.45503 0.58773 C -0.46701 0.59722 -0.47048 0.61805 -0.47934 0.6324 C -0.48211 0.65463 -0.48854 0.67546 -0.4927 0.69745 C -0.49027 0.74305 -0.49253 0.80347 -0.475 0.84398 C -0.47343 0.85069 -0.47204 0.85787 -0.47048 0.86458 C -0.46996 0.86805 -0.46909 0.87152 -0.46805 0.87477 C -0.46753 0.87824 -0.46597 0.88495 -0.46597 0.88541 C -0.46371 0.9125 -0.46111 0.93958 -0.45937 0.96736 C -0.45954 0.97407 -0.45295 1.06203 -0.46805 1.0868 C -0.47187 1.11273 -0.47795 1.12569 -0.49027 1.14467 C -0.50677 1.17014 -0.48836 1.1493 -0.50364 1.16527 C -0.51736 1.19652 -0.5809 1.18541 -0.59027 1.18588 C -0.59895 1.18703 -0.60798 1.18703 -0.61684 1.18935 C -0.62135 1.19027 -0.6302 1.19606 -0.6302 1.19652 C -0.63732 1.21296 -0.6401 1.22291 -0.64566 1.24051 C -0.6434 1.2875 -0.63923 1.33356 -0.63923 1.38078 E">
                                      <p:cBhvr>
                                        <p:cTn id="161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9000"/>
                            </p:stCondLst>
                            <p:childTnLst>
                              <p:par>
                                <p:cTn id="1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пользуемые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emiart.ru/forum/index.php?showtopic=30535&amp;st=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hkolazhizni.ru/archive/0/n-21336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otki.yandex.ru/users/vibpxhgglzd/view/191218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.wikipedia.org/wiki/Salamandra_salamandr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allphoto.narod.ru/wall/animals/amfib/16a.s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guinho.ig.com.br/canalnatureza/anfibios-imagens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alamand.ru/yadovitaya-salamandra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dic.academic.ru/dic.nsf/ruwiki/4116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orldclass.net/ecoart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pesikot.org/forum.archive/index.php?showtopic=411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ki.yandex.ru/users/koci-mariya/view/34343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ki.yandex.ru/users/evelinalina/view/218655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esese.narod.ru/2009_karpaty.ht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7:51:20Z</dcterms:created>
  <dc:creator>Хруцкая Т.В. (Чибиряев Даниил)</dc:creator>
  <dc:description/>
  <dc:language>en-US</dc:language>
  <cp:lastModifiedBy>XXX</cp:lastModifiedBy>
  <dcterms:modified xsi:type="dcterms:W3CDTF">2011-03-08T01:22:56Z</dcterms:modified>
  <cp:revision>14</cp:revision>
  <dc:subject/>
  <dc:title>Пятнистая саламандра</dc:title>
</cp:coreProperties>
</file>