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E2C-FA75-4801-BA5A-FD399DBC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FC6-09CE-412B-A9B0-2C49A6D8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C18-A2D8-42DC-968A-56EAED38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225-3BD5-452F-958E-FD42E00D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B5600-AE04-44BE-A6B9-7DC73B4C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864BA-5530-4673-80FA-81EACBB0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18053-7A7A-425C-9822-24A90F1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4D363-4766-4ADA-B80E-D41022F1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0ACF3-3957-46F1-95B8-41D0FE6E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B9CA3-16EF-4C26-BA34-08D8DE6A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685BC-2E73-44C6-8F65-BC4A940C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A44-5921-4FB7-AB2E-844655E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F3AA4-1178-4636-AEC1-42AC958C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C4C88-2835-48F9-ACB3-9487515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F7B92-5C5E-47CB-8411-44185FD5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347ED-5BCE-41A7-920E-3DE6D049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C36CB-3AE9-4EB2-A1A7-673B6913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118-D05E-428C-B47F-C65EF8D1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84B-5A05-4A48-93C4-11382938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9DD-11C2-4932-B785-A4CA0EAF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9A3-C956-426F-93D7-A88285FF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714-3BB2-494D-AD4E-3A5209E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F88-006E-4273-8556-18EA6E0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DB8-68BF-4774-8ECB-3264B71C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9B34-0FC2-4119-8064-9A9706F2C8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A993-6475-4A9E-B2E2-65359F3891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38224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Comic Sans MS"/>
              </a:rPr>
              <a:t>Сказка </a:t>
            </a:r>
            <a:br>
              <a:rPr sz="5400"/>
            </a:br>
            <a:r>
              <a:rPr b="1" lang="ru-RU" sz="5400" spc="-1" strike="noStrike">
                <a:solidFill>
                  <a:srgbClr val="e3e3ff"/>
                </a:solidFill>
                <a:latin typeface="Comic Sans MS"/>
              </a:rPr>
              <a:t>«Тысяча и одна ночь» </a:t>
            </a:r>
            <a:br>
              <a:rPr sz="5400"/>
            </a:br>
            <a:r>
              <a:rPr b="1" lang="ru-RU" sz="5400" spc="-1" strike="noStrike">
                <a:solidFill>
                  <a:srgbClr val="e3e3ff"/>
                </a:solidFill>
                <a:latin typeface="Comic Sans MS"/>
              </a:rPr>
              <a:t>как исторический источник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45684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Чаще остальных в сказке встречаются купцы. Это доказывает, что на Востоке большая роль отводилась торговле. Например, город Мекка – крупный торговый город того вре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img61"/>
          <p:cNvPicPr/>
          <p:nvPr/>
        </p:nvPicPr>
        <p:blipFill>
          <a:blip r:embed="rId1"/>
          <a:stretch/>
        </p:blipFill>
        <p:spPr>
          <a:xfrm>
            <a:off x="4419720" y="457200"/>
            <a:ext cx="4352760" cy="2867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bIhxaz0kjvhOj8vwq7Di1K90xZB"/>
          <p:cNvPicPr/>
          <p:nvPr/>
        </p:nvPicPr>
        <p:blipFill>
          <a:blip r:embed="rId2"/>
          <a:stretch/>
        </p:blipFill>
        <p:spPr>
          <a:xfrm>
            <a:off x="4419720" y="3657600"/>
            <a:ext cx="44607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ростой житель Халифата был не защищён. Законы того времени оправдывали любой произвол властей. Вот почему на Востоке  часты были социальные восст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67730-vyshivka-krestom-shemy-vostochnyy-stil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тыд – черта мусульманской морали. Случай играет большую роль в жизни главного героя, а значит на Востоке верили в судьбу, в волю всемогущего Алла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95464_html_72889e27"/>
          <p:cNvPicPr/>
          <p:nvPr/>
        </p:nvPicPr>
        <p:blipFill>
          <a:blip r:embed="rId1"/>
          <a:stretch/>
        </p:blipFill>
        <p:spPr>
          <a:xfrm>
            <a:off x="4843440" y="1523880"/>
            <a:ext cx="3571920" cy="4962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67730-vyshivka-krestom-shemy-vostochnyy-stil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езбрачие – тяжкий грех. Женщин избыток, мужчин недостаток, отсюда многожёнство. Неравноправие мужчин и женщин. Считается, что «рай только под ногами матерей». Поощряется многодетность. Намеренная бездетность – гре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67730-vyshivka-krestom-shemy-vostochnyy-stil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Хотя крестьяне занимали на Востоке низкое общественное положение, главный герой, всё таки богатый, а значит отношение к богатству спокойн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normal_vntzu"/>
          <p:cNvPicPr/>
          <p:nvPr/>
        </p:nvPicPr>
        <p:blipFill>
          <a:blip r:embed="rId1"/>
          <a:stretch/>
        </p:blipFill>
        <p:spPr>
          <a:xfrm>
            <a:off x="5029200" y="1828800"/>
            <a:ext cx="3378240" cy="396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67730-vyshivka-krestom-shemy-vostochnyy-stil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0852070"/>
          <p:cNvPicPr/>
          <p:nvPr/>
        </p:nvPicPr>
        <p:blipFill>
          <a:blip r:embed="rId1"/>
          <a:stretch/>
        </p:blipFill>
        <p:spPr>
          <a:xfrm>
            <a:off x="457200" y="1144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ществует много способов изучать историю. Одним из них является национальный фольклор. Так, например, сказку «Тысяча и одна ночь» можно рассматривать в качестве  исторического источника о развитии Вос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1" descr="67730-vyshivka-krestom-shemy-vostochnyy-stil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Народы Востока постоянно переселялись, смешивались, вытесняли друг друга. В сказке наиболее подробно рассматривается Арабский Халифат во время его расс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kak-vyibrat-otel-v-egipte"/>
          <p:cNvPicPr/>
          <p:nvPr/>
        </p:nvPicPr>
        <p:blipFill>
          <a:blip r:embed="rId1"/>
          <a:stretch/>
        </p:blipFill>
        <p:spPr>
          <a:xfrm>
            <a:off x="4419720" y="1600200"/>
            <a:ext cx="4343400" cy="449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67730-vyshivka-krestom-shemy-vostochnyy-stil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Это территории от Ин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о Пирин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от Кавказских гор до Южных границ Саха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2%20%28227%29"/>
          <p:cNvPicPr/>
          <p:nvPr/>
        </p:nvPicPr>
        <p:blipFill>
          <a:blip r:embed="rId1"/>
          <a:stretch/>
        </p:blipFill>
        <p:spPr>
          <a:xfrm>
            <a:off x="4419720" y="1600200"/>
            <a:ext cx="4419360" cy="472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67730-vyshivka-krestom-shemy-vostochnyy-stil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ольклор народов Востока – это его историческая память, потерять которую, значит умере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i?id=1de0729f5354e1e887e0494fbe3458fb&amp;n=33&amp;h=190&amp;w=142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5086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67730-vyshivka-krestom-shemy-vostochnyy-stil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казка – хранилище исторической памяти, мировоззрения, т.е. национального характера. К народам  Востока относятся арабы, персы, инду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desert-prince-arabian-costume-15614"/>
          <p:cNvPicPr/>
          <p:nvPr/>
        </p:nvPicPr>
        <p:blipFill>
          <a:blip r:embed="rId1"/>
          <a:stretch/>
        </p:blipFill>
        <p:spPr>
          <a:xfrm>
            <a:off x="4952880" y="1523880"/>
            <a:ext cx="2035440" cy="2713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76184024"/>
          <p:cNvPicPr/>
          <p:nvPr/>
        </p:nvPicPr>
        <p:blipFill>
          <a:blip r:embed="rId2"/>
          <a:stretch/>
        </p:blipFill>
        <p:spPr>
          <a:xfrm>
            <a:off x="4800600" y="4419720"/>
            <a:ext cx="2178000" cy="225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124051850_00"/>
          <p:cNvPicPr/>
          <p:nvPr/>
        </p:nvPicPr>
        <p:blipFill>
          <a:blip r:embed="rId3"/>
          <a:stretch/>
        </p:blipFill>
        <p:spPr>
          <a:xfrm>
            <a:off x="7315200" y="2133720"/>
            <a:ext cx="1590840" cy="3722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67730-vyshivka-krestom-shemy-vostochnyy-stil"/>
          <p:cNvPicPr/>
          <p:nvPr/>
        </p:nvPicPr>
        <p:blipFill>
          <a:blip r:embed="rId4"/>
          <a:stretch/>
        </p:blipFill>
        <p:spPr>
          <a:xfrm>
            <a:off x="152280" y="228600"/>
            <a:ext cx="8839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Большинство героев сказки – мужчины. Социальные типажи: купцы, ремесленники, султаны, путешественн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67730-vyshivka-krestom-shemy-vostochnyy-stil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vostocinyi_kostium_1_1"/>
          <p:cNvPicPr/>
          <p:nvPr/>
        </p:nvPicPr>
        <p:blipFill>
          <a:blip r:embed="rId2"/>
          <a:stretch/>
        </p:blipFill>
        <p:spPr>
          <a:xfrm>
            <a:off x="4267080" y="2666880"/>
            <a:ext cx="1947960" cy="2922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b_51755ee5658b8"/>
          <p:cNvPicPr/>
          <p:nvPr/>
        </p:nvPicPr>
        <p:blipFill>
          <a:blip r:embed="rId3"/>
          <a:stretch/>
        </p:blipFill>
        <p:spPr>
          <a:xfrm>
            <a:off x="6629400" y="1828800"/>
            <a:ext cx="20923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Герой в сказке меняет своё социальное положение. Например, Аладдин из сына портного становится зятем султана, Али-Баба из дровосека превращается в куп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97093059-255e54d7d889a4d7478b578350c33f57"/>
          <p:cNvPicPr/>
          <p:nvPr/>
        </p:nvPicPr>
        <p:blipFill>
          <a:blip r:embed="rId1"/>
          <a:stretch/>
        </p:blipFill>
        <p:spPr>
          <a:xfrm>
            <a:off x="5791320" y="1447920"/>
            <a:ext cx="2232000" cy="2895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39"/>
          <p:cNvPicPr/>
          <p:nvPr/>
        </p:nvPicPr>
        <p:blipFill>
          <a:blip r:embed="rId2"/>
          <a:stretch/>
        </p:blipFill>
        <p:spPr>
          <a:xfrm>
            <a:off x="5257800" y="4572000"/>
            <a:ext cx="2631960" cy="2049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67730-vyshivka-krestom-shemy-vostochnyy-stil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o</cp:lastModifiedBy>
  <dcterms:modified xsi:type="dcterms:W3CDTF">2016-10-13T07:34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