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132F-BA4B-4881-90AB-368FB247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4D07-5E7B-4CE1-8ABA-CD4C69F6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7139-11AF-4F4F-828E-717B3123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5B06-CD7E-4B38-9CCF-E2972C3B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CD62-1CBE-490C-B268-8D1B568A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5A9E-8505-47BD-9C29-FA1CD602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AAC6-86B2-468B-848F-98AC6D22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9E88-0DD0-4DA2-A13C-C2F9C77E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D6F0-17EB-416E-9F94-A5D0EC1A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9B4F-6E79-47F3-A083-1A136B71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3F67-BE37-4424-B3EE-48C06B72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7DC4-81F9-4EF7-96E6-09322AFE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F5A2-E1EB-4644-A72A-B2AA69C4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F669-484A-4FE9-A4A0-78EF4628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783F-FC3B-4E12-A0BB-A97F4DE3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24F9-641E-428E-8CD3-E5748003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1D26-54D4-43A7-8D6C-D6E3EA64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CA21-10A4-466C-8771-A88655B6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17EC-581F-4478-A05A-BFA6C7D3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7893-3393-4E0F-91D8-1E23A7E5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361-B9B9-4FF8-A2E8-475B72A4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2BE-ED72-404A-8BFA-3661DCFF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AC52-71C8-4666-B00A-64351922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C28-BBE9-4459-BCA1-D95E5D63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E8AE-11F1-4584-9F22-3C5D32E01C8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EDC7-AC05-440B-AAF7-275DA6F81F3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384_&#1076;&#1086;_&#1085;._&#1101;." TargetMode="External"/><Relationship Id="rId2" Type="http://schemas.openxmlformats.org/officeDocument/2006/relationships/hyperlink" Target="https://ru.wikipedia.org/wiki/322_&#1076;&#1086;_&#1085;._&#1101;.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Великие </a:t>
            </a:r>
            <a:br>
              <a:rPr sz="4800"/>
            </a:b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естествоиспытатели.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Кирюшкина М.Г.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МБОУ – СОШ с.Росташи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итератур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иология 5 класс учебник для учащихся общеобразовательных учреждений/ И.Н.Пономарева, И.В.Николаев, О.А.Корнилова, - М:Вентана-Граф, 201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https://yandex.ru/images/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72680" y="337680"/>
            <a:ext cx="813672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Аристо́тель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 ( </a:t>
            </a:r>
            <a:r>
              <a:rPr b="0" lang="ru-RU" sz="3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384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— </a:t>
            </a:r>
            <a:r>
              <a:rPr b="0" lang="ru-RU" sz="36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322 гг.до н. э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140000" y="2361960"/>
            <a:ext cx="4390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дин из основателей биологии, исследовал внешнее и внутреннее строение животных, первым обобщил биологические знания, накопившиеся до него человечеством, разработал систематику животных и определил в ней место человек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36385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41000" y="882360"/>
            <a:ext cx="8478000" cy="6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Теофраст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371 - 287 гг. до н.э. (84 года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716360" y="2349360"/>
            <a:ext cx="380376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здал первую систему ботанических понятий, первым обощил знания орастениях, объединив свои наблюдения с практическими знаниями земледельцев и врач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10159" t="0" r="7250" b="0"/>
          <a:stretch/>
        </p:blipFill>
        <p:spPr>
          <a:xfrm>
            <a:off x="179280" y="1700280"/>
            <a:ext cx="4608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арл Линней (1707 – 1778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1640" y="2361960"/>
            <a:ext cx="4321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Шведский натуралис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оздал классификацию организмов, которая используется на протяжении многих ле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4537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43840" y="415440"/>
            <a:ext cx="7760520" cy="11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арлз Дарвин (1809 – 188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0" y="2362320"/>
            <a:ext cx="42480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нглийский натуралис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оздал эволюционное учение, объясняющее возникновение современных видов живых организм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2562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ладимир Иванович Вернадский.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1863 – 1945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95280" y="3068280"/>
            <a:ext cx="453564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усский ученый, создатель учений о биосфере - живой оболочке нашей планет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591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0160" y="328320"/>
            <a:ext cx="778788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иколай Иванович Вавил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11280" y="2361960"/>
            <a:ext cx="46083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1887 – 194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усский ученый, путешественник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брал крупнейшую в мире коллекцию семян культурных растений. Он установил очаги возникновения культурных растений, то есть определил, где был выведен тот или иной сорт культурного растения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23840" y="1268280"/>
            <a:ext cx="347976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4257720" cy="5442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820800" y="392040"/>
            <a:ext cx="7806600" cy="8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ечников Илья Ильич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00720" y="2707920"/>
            <a:ext cx="4319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усский эмбриолог, бактериолог и иммунолог. основоположник иммунологии. Определил, как наш организм борется с инфекцией и чужеродными телами, создал теорию происхождения многоклеточных организмов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авлов Иван Петрович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(1849 – 1936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усский физиолог, создатель учения о высшей нервной деятельности. Изучал рефлекс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46560" y="2362320"/>
            <a:ext cx="29988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0T07:50:27Z</dcterms:created>
  <dc:creator>Марина</dc:creator>
  <dc:description/>
  <dc:language>en-US</dc:language>
  <cp:lastModifiedBy>Марина</cp:lastModifiedBy>
  <dcterms:modified xsi:type="dcterms:W3CDTF">2016-02-23T19:32:32Z</dcterms:modified>
  <cp:revision>3</cp:revision>
  <dc:subject/>
  <dc:title>Великие  естествоиспытатели.</dc:title>
</cp:coreProperties>
</file>