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BFD-BED6-4F87-BEA5-AA1223E0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94B-02A8-482C-A79B-A45D1591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538-577C-4482-A441-E4958DC4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CFD-051A-4DDE-8F48-8D4CF369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329-BDDF-4814-935E-838035D8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597-6D5A-4CBE-95FC-DD7FC94A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608-3FC2-4ECB-BFAD-336E1951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B68-AC04-4639-965A-9D75B9D2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7B4-65F6-4DE4-8434-5B9E4392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D0E-5568-4F05-89B1-11B9642D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FAD-5677-4EE0-94F4-39BD21CE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3C00-806A-470C-8D2A-D69CCD8A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6711-0B72-4072-A818-DA7F33CAE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63600" y="263520"/>
            <a:ext cx="8423280" cy="6321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36480" y="563400"/>
            <a:ext cx="7775640" cy="5731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928800" y="843120"/>
            <a:ext cx="7238880" cy="5189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0320" y="801720"/>
            <a:ext cx="7772400" cy="1249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ff00"/>
                </a:solidFill>
                <a:uFillTx/>
                <a:latin typeface="Baskerville Old Face"/>
              </a:rPr>
              <a:t>30 СТРАН МИ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8839080" y="-4334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MAP084"/>
          <p:cNvPicPr/>
          <p:nvPr/>
        </p:nvPicPr>
        <p:blipFill>
          <a:blip r:embed="rId2"/>
          <a:stretch/>
        </p:blipFill>
        <p:spPr>
          <a:xfrm>
            <a:off x="1808280" y="2124000"/>
            <a:ext cx="5580000" cy="372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35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ИСП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2-1"/>
          <p:cNvPicPr/>
          <p:nvPr/>
        </p:nvPicPr>
        <p:blipFill>
          <a:blip r:embed="rId1"/>
          <a:stretch/>
        </p:blipFill>
        <p:spPr>
          <a:xfrm>
            <a:off x="1033560" y="1128600"/>
            <a:ext cx="7076880" cy="4600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8839080" y="-612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537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ШВЕ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7"/>
          <p:cNvPicPr/>
          <p:nvPr/>
        </p:nvPicPr>
        <p:blipFill>
          <a:blip r:embed="rId1"/>
          <a:stretch/>
        </p:blipFill>
        <p:spPr>
          <a:xfrm>
            <a:off x="1033560" y="1119240"/>
            <a:ext cx="7076880" cy="4619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8991720" y="-639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53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2"/>
          <p:cNvPicPr/>
          <p:nvPr/>
        </p:nvPicPr>
        <p:blipFill>
          <a:blip r:embed="rId1"/>
          <a:stretch/>
        </p:blipFill>
        <p:spPr>
          <a:xfrm>
            <a:off x="1028880" y="1033560"/>
            <a:ext cx="7086600" cy="4790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8839080" y="-517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347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ИЗРАИ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2-1"/>
          <p:cNvPicPr/>
          <p:nvPr/>
        </p:nvPicPr>
        <p:blipFill>
          <a:blip r:embed="rId1"/>
          <a:stretch/>
        </p:blipFill>
        <p:spPr>
          <a:xfrm>
            <a:off x="1095480" y="1100160"/>
            <a:ext cx="6953040" cy="465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8839080" y="-558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318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НОВАЯ ЗЕЛА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-1"/>
          <p:cNvPicPr/>
          <p:nvPr/>
        </p:nvPicPr>
        <p:blipFill>
          <a:blip r:embed="rId1"/>
          <a:stretch/>
        </p:blipFill>
        <p:spPr>
          <a:xfrm>
            <a:off x="1370160" y="1625760"/>
            <a:ext cx="6397560" cy="361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8991720" y="-666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27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"/>
          <p:cNvPicPr/>
          <p:nvPr/>
        </p:nvPicPr>
        <p:blipFill>
          <a:blip r:embed="rId1"/>
          <a:stretch/>
        </p:blipFill>
        <p:spPr>
          <a:xfrm>
            <a:off x="1095480" y="1162080"/>
            <a:ext cx="6918120" cy="4659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8839080" y="-517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617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ГРЕ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"/>
          <p:cNvPicPr/>
          <p:nvPr/>
        </p:nvPicPr>
        <p:blipFill>
          <a:blip r:embed="rId1"/>
          <a:stretch/>
        </p:blipFill>
        <p:spPr>
          <a:xfrm>
            <a:off x="1071720" y="1135080"/>
            <a:ext cx="6933960" cy="459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8991720" y="-627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ТУР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4"/>
          <p:cNvPicPr/>
          <p:nvPr/>
        </p:nvPicPr>
        <p:blipFill>
          <a:blip r:embed="rId1"/>
          <a:stretch/>
        </p:blipFill>
        <p:spPr>
          <a:xfrm>
            <a:off x="1284120" y="1320840"/>
            <a:ext cx="6516720" cy="4218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8991720" y="-749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447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8120" y="55080"/>
            <a:ext cx="8229600" cy="5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ЕГИП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4"/>
          <p:cNvPicPr/>
          <p:nvPr/>
        </p:nvPicPr>
        <p:blipFill>
          <a:blip r:embed="rId1"/>
          <a:stretch/>
        </p:blipFill>
        <p:spPr>
          <a:xfrm>
            <a:off x="1095480" y="1100160"/>
            <a:ext cx="6953040" cy="465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8839080" y="-544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447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УКРА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6-1"/>
          <p:cNvPicPr/>
          <p:nvPr/>
        </p:nvPicPr>
        <p:blipFill>
          <a:blip r:embed="rId1"/>
          <a:stretch/>
        </p:blipFill>
        <p:spPr>
          <a:xfrm>
            <a:off x="1287360" y="1292400"/>
            <a:ext cx="6523200" cy="42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839080" y="-517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547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8120" y="55080"/>
            <a:ext cx="8229600" cy="5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АВСТРАЛ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8"/>
          <p:cNvPicPr/>
          <p:nvPr/>
        </p:nvPicPr>
        <p:blipFill>
          <a:blip r:embed="rId1"/>
          <a:stretch/>
        </p:blipFill>
        <p:spPr>
          <a:xfrm>
            <a:off x="1352520" y="1179360"/>
            <a:ext cx="6342120" cy="464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>
            <a:off x="9144000" y="-612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17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РОС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9"/>
          <p:cNvPicPr/>
          <p:nvPr/>
        </p:nvPicPr>
        <p:blipFill>
          <a:blip r:embed="rId1"/>
          <a:stretch/>
        </p:blipFill>
        <p:spPr>
          <a:xfrm>
            <a:off x="1353960" y="1168560"/>
            <a:ext cx="6356520" cy="42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9144000" y="-776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497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БОЛГА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7-1"/>
          <p:cNvPicPr/>
          <p:nvPr/>
        </p:nvPicPr>
        <p:blipFill>
          <a:blip r:embed="rId1"/>
          <a:stretch/>
        </p:blipFill>
        <p:spPr>
          <a:xfrm>
            <a:off x="1407960" y="1320840"/>
            <a:ext cx="6151680" cy="4105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8839080" y="-654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61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55080"/>
            <a:ext cx="8229600" cy="5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АВСТ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8-2"/>
          <p:cNvPicPr/>
          <p:nvPr/>
        </p:nvPicPr>
        <p:blipFill>
          <a:blip r:embed="rId1"/>
          <a:stretch/>
        </p:blipFill>
        <p:spPr>
          <a:xfrm>
            <a:off x="1066680" y="1057320"/>
            <a:ext cx="7010640" cy="4743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8839080" y="-517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59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8120" y="55080"/>
            <a:ext cx="8229600" cy="5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ЧЕХ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3331"/>
          <p:cNvPicPr/>
          <p:nvPr/>
        </p:nvPicPr>
        <p:blipFill>
          <a:blip r:embed="rId1"/>
          <a:stretch/>
        </p:blipFill>
        <p:spPr>
          <a:xfrm>
            <a:off x="1123920" y="1149480"/>
            <a:ext cx="6886440" cy="4545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8839080" y="-573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427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Д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2-2"/>
          <p:cNvPicPr/>
          <p:nvPr/>
        </p:nvPicPr>
        <p:blipFill>
          <a:blip r:embed="rId1"/>
          <a:stretch/>
        </p:blipFill>
        <p:spPr>
          <a:xfrm>
            <a:off x="1447920" y="1366920"/>
            <a:ext cx="6132240" cy="4092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8839080" y="-58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35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ШВЕЙЦА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91"/>
          <p:cNvPicPr/>
          <p:nvPr/>
        </p:nvPicPr>
        <p:blipFill>
          <a:blip r:embed="rId1"/>
          <a:stretch/>
        </p:blipFill>
        <p:spPr>
          <a:xfrm>
            <a:off x="988920" y="1042920"/>
            <a:ext cx="7080480" cy="471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8839080" y="-53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87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ИСЛА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4-1"/>
          <p:cNvPicPr/>
          <p:nvPr/>
        </p:nvPicPr>
        <p:blipFill>
          <a:blip r:embed="rId1"/>
          <a:stretch/>
        </p:blipFill>
        <p:spPr>
          <a:xfrm>
            <a:off x="1395360" y="1225440"/>
            <a:ext cx="6215040" cy="431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883908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74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СИНГАПУ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8-3"/>
          <p:cNvPicPr/>
          <p:nvPr/>
        </p:nvPicPr>
        <p:blipFill>
          <a:blip r:embed="rId1"/>
          <a:stretch/>
        </p:blipFill>
        <p:spPr>
          <a:xfrm>
            <a:off x="1550880" y="1166760"/>
            <a:ext cx="5940360" cy="4460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8839080" y="-612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617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11-1"/>
          <p:cNvPicPr/>
          <p:nvPr/>
        </p:nvPicPr>
        <p:blipFill>
          <a:blip r:embed="rId1"/>
          <a:stretch/>
        </p:blipFill>
        <p:spPr>
          <a:xfrm>
            <a:off x="1444680" y="1293840"/>
            <a:ext cx="6235560" cy="4160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8839080" y="-53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208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ТАЙВА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21"/>
          <p:cNvPicPr/>
          <p:nvPr/>
        </p:nvPicPr>
        <p:blipFill>
          <a:blip r:embed="rId1"/>
          <a:stretch/>
        </p:blipFill>
        <p:spPr>
          <a:xfrm>
            <a:off x="1170000" y="1208160"/>
            <a:ext cx="6723000" cy="435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8839080" y="-600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437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БРАЗИЛ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6"/>
          <p:cNvPicPr/>
          <p:nvPr/>
        </p:nvPicPr>
        <p:blipFill>
          <a:blip r:embed="rId1"/>
          <a:stretch/>
        </p:blipFill>
        <p:spPr>
          <a:xfrm>
            <a:off x="1095480" y="1558800"/>
            <a:ext cx="6879960" cy="380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8839080" y="-455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5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askerville Old Face"/>
              </a:rPr>
              <a:t>САУДОВСКАЯ АРА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1111"/>
          <p:cNvPicPr/>
          <p:nvPr/>
        </p:nvPicPr>
        <p:blipFill>
          <a:blip r:embed="rId1"/>
          <a:stretch/>
        </p:blipFill>
        <p:spPr>
          <a:xfrm>
            <a:off x="1187280" y="1197000"/>
            <a:ext cx="6669360" cy="44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8839080" y="-59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2265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ТУНИ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425"/>
          <p:cNvPicPr/>
          <p:nvPr/>
        </p:nvPicPr>
        <p:blipFill>
          <a:blip r:embed="rId1"/>
          <a:stretch/>
        </p:blipFill>
        <p:spPr>
          <a:xfrm>
            <a:off x="1144440" y="1042920"/>
            <a:ext cx="6858000" cy="462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8991720" y="-708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188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ФРАН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"/>
          <p:cNvPicPr/>
          <p:nvPr/>
        </p:nvPicPr>
        <p:blipFill>
          <a:blip r:embed="rId1"/>
          <a:stretch/>
        </p:blipFill>
        <p:spPr>
          <a:xfrm>
            <a:off x="1081080" y="1090440"/>
            <a:ext cx="6981840" cy="4677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8991720" y="-546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87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8120" y="55080"/>
            <a:ext cx="8229600" cy="5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ИТАЛ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11"/>
          <p:cNvPicPr/>
          <p:nvPr/>
        </p:nvPicPr>
        <p:blipFill>
          <a:blip r:embed="rId1"/>
          <a:stretch/>
        </p:blipFill>
        <p:spPr>
          <a:xfrm>
            <a:off x="1509840" y="1177920"/>
            <a:ext cx="6087960" cy="4560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8839080" y="-504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52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ИРЛА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8-1"/>
          <p:cNvPicPr/>
          <p:nvPr/>
        </p:nvPicPr>
        <p:blipFill>
          <a:blip r:embed="rId1"/>
          <a:stretch/>
        </p:blipFill>
        <p:spPr>
          <a:xfrm>
            <a:off x="1028880" y="1104840"/>
            <a:ext cx="7086600" cy="464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8839080" y="-600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47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ГЕРМ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41111"/>
          <p:cNvPicPr/>
          <p:nvPr/>
        </p:nvPicPr>
        <p:blipFill>
          <a:blip r:embed="rId1"/>
          <a:stretch/>
        </p:blipFill>
        <p:spPr>
          <a:xfrm>
            <a:off x="1038240" y="1109520"/>
            <a:ext cx="7067520" cy="4638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8839080" y="-544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07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" y="-113040"/>
            <a:ext cx="86868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askerville Old Face"/>
              </a:rPr>
              <a:t>СОЕДИНЕННЫЕ ШТАТЫ АМЕ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09500014"/>
          <p:cNvPicPr/>
          <p:nvPr/>
        </p:nvPicPr>
        <p:blipFill>
          <a:blip r:embed="rId1"/>
          <a:stretch/>
        </p:blipFill>
        <p:spPr>
          <a:xfrm>
            <a:off x="993600" y="1054080"/>
            <a:ext cx="7075800" cy="4800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8839080" y="-504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93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130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Baskerville Old Face"/>
              </a:rPr>
              <a:t>МЕКС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22"/>
          <p:cNvPicPr/>
          <p:nvPr/>
        </p:nvPicPr>
        <p:blipFill>
          <a:blip r:embed="rId1"/>
          <a:stretch/>
        </p:blipFill>
        <p:spPr>
          <a:xfrm>
            <a:off x="1467000" y="1089000"/>
            <a:ext cx="6227640" cy="467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8839080" y="-65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427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6:56:03Z</dcterms:created>
  <dc:creator>vvv</dc:creator>
  <dc:description/>
  <dc:language>en-US</dc:language>
  <cp:lastModifiedBy>ОЕМ</cp:lastModifiedBy>
  <dcterms:modified xsi:type="dcterms:W3CDTF">2010-01-19T05:53:23Z</dcterms:modified>
  <cp:revision>5</cp:revision>
  <dc:subject/>
  <dc:title>30 СТРАН МИРА</dc:title>
</cp:coreProperties>
</file>