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F83-08B3-4068-89DB-E040B27E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979-0B15-4BCB-BE2B-41D3A98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8F3-FD48-45F3-91A8-E264BA75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BD8-EE37-451E-B189-53AF634C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6C14-9784-4132-9080-92040CA5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841-1BA5-46CA-A783-CD907FBF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94D0-9425-41A6-9B52-F42C642B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279D-7A7E-4EC6-A416-8434E762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C3C5-66A3-4D91-A78F-DA9C8DA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73D5-48BA-43E9-A858-A40DD401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6C3A-C081-46D8-B2AD-2EC3215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220-0FAD-4101-AA47-8D2866D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D9C8-F076-4EF3-91D9-4C3BB98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E2F4-F701-40D8-818C-3D21A85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D453-8E87-40F0-BB1B-4F690814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90C3-6718-47BD-A30C-A2C33394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C7DC-C9E1-4A38-B176-A5D28340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ED0-D584-4001-9AEA-FC95787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635-2E38-47D3-B5D1-4B0CDDB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6EB-B2F3-44A4-8243-99E093B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DEA-90EC-4AEB-ADFA-1F440825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189-6DF0-479E-A45C-404D77F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871-4619-4162-AA0D-C30CDB3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9BB-CA58-4765-8409-07D6C7B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8440-7323-4EE3-B29B-E7FE04310A2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0D07-E678-4EAE-8CB6-2C12038A7EE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Путешествие в страну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   «МУЛЬТИ-ПУЛЬТИ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697440" cy="5029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Кадр из мультфильма ЧЕБУРАШКА ИДЕТ В ШКОЛУ №6"/>
          <p:cNvPicPr/>
          <p:nvPr/>
        </p:nvPicPr>
        <p:blipFill>
          <a:blip r:embed="rId2"/>
          <a:stretch/>
        </p:blipFill>
        <p:spPr>
          <a:xfrm>
            <a:off x="324000" y="1413000"/>
            <a:ext cx="6696000" cy="5022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Кадр из мультфильма ВАРЕЖКА №2"/>
          <p:cNvPicPr/>
          <p:nvPr/>
        </p:nvPicPr>
        <p:blipFill>
          <a:blip r:embed="rId2"/>
          <a:stretch/>
        </p:blipFill>
        <p:spPr>
          <a:xfrm>
            <a:off x="250920" y="1465200"/>
            <a:ext cx="6842160" cy="5130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790880" cy="6048360"/>
          </a:xfrm>
          <a:prstGeom prst="rect">
            <a:avLst/>
          </a:prstGeom>
          <a:ln w="414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ewImg" descr=""/>
          <p:cNvPicPr/>
          <p:nvPr/>
        </p:nvPicPr>
        <p:blipFill>
          <a:blip r:embed="rId2"/>
          <a:stretch/>
        </p:blipFill>
        <p:spPr>
          <a:xfrm>
            <a:off x="250920" y="1465200"/>
            <a:ext cx="6769080" cy="506592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newImg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696000" cy="5014800"/>
          </a:xfrm>
          <a:prstGeom prst="rect">
            <a:avLst/>
          </a:prstGeom>
          <a:ln w="4428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489560" cy="640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i2378877181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481800" cy="48610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6840720" cy="5130720"/>
          </a:xfrm>
          <a:prstGeom prst="rect">
            <a:avLst/>
          </a:prstGeom>
          <a:ln w="44280">
            <a:solidFill>
              <a:srgbClr val="18ea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5472000" cy="5472360"/>
          </a:xfrm>
          <a:prstGeom prst="rect">
            <a:avLst/>
          </a:prstGeom>
          <a:ln w="4140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660033"/>
                </a:solidFill>
                <a:latin typeface="Monotype Corsiva"/>
              </a:rPr>
              <a:t>Первый</a:t>
            </a:r>
            <a:r>
              <a:rPr b="1" lang="en-US" sz="7200" spc="-1" strike="noStrike">
                <a:solidFill>
                  <a:srgbClr val="660033"/>
                </a:solidFill>
                <a:latin typeface="Monotype Corsiva"/>
              </a:rPr>
              <a:t> </a:t>
            </a:r>
            <a:r>
              <a:rPr b="1" lang="ru-RU" sz="7200" spc="-1" strike="noStrike">
                <a:solidFill>
                  <a:srgbClr val="660033"/>
                </a:solidFill>
                <a:latin typeface="Monotype Corsiva"/>
              </a:rPr>
              <a:t>конкурс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3933360"/>
            <a:ext cx="8278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1" lang="en-US" sz="7200" spc="-1" strike="noStrike">
                <a:solidFill>
                  <a:srgbClr val="ffcc00"/>
                </a:solidFill>
                <a:latin typeface="Monotype Corsiva"/>
              </a:rPr>
              <a:t>Разминка 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7417080" cy="5562720"/>
          </a:xfrm>
          <a:prstGeom prst="rect">
            <a:avLst/>
          </a:prstGeom>
          <a:ln w="4140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7056360" cy="47037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6265800" cy="530568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3787725372" descr=""/>
          <p:cNvPicPr/>
          <p:nvPr/>
        </p:nvPicPr>
        <p:blipFill>
          <a:blip r:embed="rId2"/>
          <a:srcRect l="0" t="0" r="0" b="6142"/>
          <a:stretch/>
        </p:blipFill>
        <p:spPr>
          <a:xfrm>
            <a:off x="179280" y="1484280"/>
            <a:ext cx="7201080" cy="5068800"/>
          </a:xfrm>
          <a:prstGeom prst="rect">
            <a:avLst/>
          </a:prstGeom>
          <a:ln w="5076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6912000" cy="5192640"/>
          </a:xfrm>
          <a:prstGeom prst="rect">
            <a:avLst/>
          </a:prstGeom>
          <a:ln w="41400">
            <a:solidFill>
              <a:srgbClr val="ffe10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6551640" cy="50101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5494320" cy="554364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6769080" cy="5116320"/>
          </a:xfrm>
          <a:prstGeom prst="rect">
            <a:avLst/>
          </a:prstGeom>
          <a:ln w="442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6624720" cy="5295600"/>
          </a:xfrm>
          <a:prstGeom prst="rect">
            <a:avLst/>
          </a:prstGeom>
          <a:ln w="442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6840360" cy="55404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rcRect l="0" t="0" r="0" b="5774"/>
          <a:stretch/>
        </p:blipFill>
        <p:spPr>
          <a:xfrm>
            <a:off x="179280" y="1413000"/>
            <a:ext cx="7201080" cy="4884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6192720" cy="515592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79280" y="1550880"/>
            <a:ext cx="6624720" cy="5013360"/>
          </a:xfrm>
          <a:prstGeom prst="rect">
            <a:avLst/>
          </a:prstGeom>
          <a:ln w="4140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696000" cy="5059440"/>
          </a:xfrm>
          <a:prstGeom prst="rect">
            <a:avLst/>
          </a:prstGeom>
          <a:ln w="4140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6913800" cy="5176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rcRect l="0" t="0" r="0" b="4488"/>
          <a:stretch/>
        </p:blipFill>
        <p:spPr>
          <a:xfrm>
            <a:off x="179280" y="1700280"/>
            <a:ext cx="6840720" cy="490212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6335640" cy="52354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87280" y="2060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33"/>
                </a:solidFill>
                <a:latin typeface="Monotype Corsiva"/>
              </a:rPr>
              <a:t>Второй конкурс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58920" y="4292640"/>
            <a:ext cx="7702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Monotype Corsiva"/>
              </a:rPr>
              <a:t>ОТГАДАЙ-КА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113080" cy="6453000"/>
          </a:xfrm>
          <a:prstGeom prst="rect">
            <a:avLst/>
          </a:prstGeom>
          <a:ln w="44280">
            <a:solidFill>
              <a:srgbClr val="3366ff"/>
            </a:solidFill>
            <a:miter/>
          </a:ln>
        </p:spPr>
      </p:pic>
      <p:sp>
        <p:nvSpPr>
          <p:cNvPr id="389" name=""/>
          <p:cNvSpPr/>
          <p:nvPr/>
        </p:nvSpPr>
        <p:spPr>
          <a:xfrm>
            <a:off x="5724360" y="384372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вучат песни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юбимых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мультфильмов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6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6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6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6626160" cy="5067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619880" cy="583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940280" cy="6237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Кадр из мультфильма &quot;Мама для мамонтенка&quot;"/>
          <p:cNvPicPr/>
          <p:nvPr/>
        </p:nvPicPr>
        <p:blipFill>
          <a:blip r:embed="rId2"/>
          <a:stretch/>
        </p:blipFill>
        <p:spPr>
          <a:xfrm>
            <a:off x="324000" y="1557360"/>
            <a:ext cx="6408720" cy="480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6769080" cy="5032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6192720" cy="46450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0:41:47Z</dcterms:created>
  <dc:creator>www.PHILka.RU</dc:creator>
  <dc:description/>
  <dc:language>en-US</dc:language>
  <cp:lastModifiedBy>www.PHILka.RU</cp:lastModifiedBy>
  <dcterms:modified xsi:type="dcterms:W3CDTF">2009-11-01T09:50:10Z</dcterms:modified>
  <cp:revision>3</cp:revision>
  <dc:subject/>
  <dc:title>Путешествие в страну    «МУЛЬТИ-ПУЛЬТИ»</dc:title>
</cp:coreProperties>
</file>