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498-2E84-4B6F-A967-1A644DAA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678-B4A9-45FE-85D3-E188BE45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506-E65C-4390-885C-32444F24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FE6-25B4-41A2-B3EE-46BD32B2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21A-11B7-491F-855F-8FE98BDD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178-1F61-4DF4-8DBF-99418F8E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DE4-D047-4651-A74A-533FB5B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644-83B4-4ECD-97FE-923A447D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135-9096-4CE1-8516-B56202C0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EC4-7E62-4A54-A8FE-E25F3C34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B61-E04E-4541-8F7B-B53A8B92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0F6-ACDF-44DE-B73F-8430D7A7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9964-9D7A-4426-9592-48A1CC9AD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1.wav" TargetMode="External"/><Relationship Id="rId2" Type="http://schemas.microsoft.com/office/2007/relationships/media" Target="file:///tmp/home/.config/libreoffice/4/user/gallery/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10.wav" TargetMode="External"/><Relationship Id="rId3" Type="http://schemas.microsoft.com/office/2007/relationships/media" Target="file:///tmp/home/.config/libreoffice/4/user/gallery/1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3.wav" TargetMode="External"/><Relationship Id="rId3" Type="http://schemas.microsoft.com/office/2007/relationships/media" Target="file:///tmp/home/.config/libreoffice/4/user/gallery/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4.wav" TargetMode="External"/><Relationship Id="rId3" Type="http://schemas.microsoft.com/office/2007/relationships/media" Target="file:///tmp/home/.config/libreoffice/4/user/gallery/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5.wav" TargetMode="External"/><Relationship Id="rId3" Type="http://schemas.microsoft.com/office/2007/relationships/media" Target="file:///tmp/home/.config/libreoffice/4/user/gallery/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6.wav" TargetMode="External"/><Relationship Id="rId3" Type="http://schemas.microsoft.com/office/2007/relationships/media" Target="file:///tmp/home/.config/libreoffice/4/user/gallery/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7.wav" TargetMode="External"/><Relationship Id="rId3" Type="http://schemas.microsoft.com/office/2007/relationships/media" Target="file:///tmp/home/.config/libreoffice/4/user/gallery/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8.wav" TargetMode="External"/><Relationship Id="rId3" Type="http://schemas.microsoft.com/office/2007/relationships/media" Target="file:///tmp/home/.config/libreoffice/4/user/gallery/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9.wav" TargetMode="External"/><Relationship Id="rId3" Type="http://schemas.microsoft.com/office/2007/relationships/media" Target="file:///tmp/home/.config/libreoffice/4/user/gallery/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7920"/>
            <a:ext cx="68580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ff"/>
                </a:solidFill>
                <a:latin typeface="Arial"/>
              </a:rPr>
              <a:t>Композиторы:</a:t>
            </a:r>
            <a:r>
              <a:rPr b="1" lang="en-US" sz="4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00ff"/>
                </a:solidFill>
                <a:latin typeface="Arial"/>
              </a:rPr>
              <a:t>Барокко</a:t>
            </a:r>
            <a:r>
              <a:rPr b="1" lang="en-US" sz="3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Arial"/>
              </a:rPr>
              <a:t>(1600-1750)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ff"/>
                </a:solidFill>
                <a:latin typeface="Arial"/>
              </a:rPr>
              <a:t>Классика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Arial"/>
              </a:rPr>
              <a:t>(1750-1820)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684440" y="4643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7010280"/>
            <a:ext cx="685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Людвиг ван Бетховен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5872320" cy="609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320" y="784872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пианист, дирижёр, жил в Вене. Крупнейший симфонист, создатель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ероическ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уз. стиля,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енская классическая школа и начало нем. муз. романтизм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имфонии 3-я («Героическая»), увертюры «Кориолан», «Эгмонт», «Леонора», опера «Фиделио», 32 сонаты для фп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.ч. «Апассионата», песни-романсы, концерты для скрипки и ф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03360" y="4427640"/>
            <a:ext cx="304920" cy="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50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731520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</a:rPr>
              <a:t>Георг Фридрих Гендель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629320" cy="670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80629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органист, работал в Лондоне. Мастер монументальной оратории, гл.обр. на библейские сюжеты (ок. 30, в т.ч. «Саул», «Мессия», «Израиль в Египте», «Самсон», «Иуда Маккавей»). Более 40 опер, органные концерты, сонаты, сюи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963720" y="4067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5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7315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Иоганн Себастьян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Бах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510552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825804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органист, автор около 1000 произведений. Оратория «Страсти по Матфею», месса си минор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819000" y="4427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62012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Доменико Скарлатти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2759" b="2141"/>
          <a:stretch/>
        </p:blipFill>
        <p:spPr>
          <a:xfrm>
            <a:off x="1066680" y="762120"/>
            <a:ext cx="4651560" cy="647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848664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л. композитор, клавесинист. Сонаты, оперы, канта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л виртуозный стиль игры на клавеси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03500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467480"/>
            <a:ext cx="6324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Антонио Вивальди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9120" y="609480"/>
            <a:ext cx="523080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848664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л. композитор, скрипач-виртуоз, дирижёр. Цикл «Времена год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892080" y="3708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50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201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еорг Филипп Телема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511344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848664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капельмейстер и органис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ы, оратории, церковные сочин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03360" y="450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0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7543800"/>
            <a:ext cx="685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Клаудио Монтеверди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5146560" cy="6476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848664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л. композитор, крупнейший муз. драматург, развивал оперный жан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ы «Орфей», «Ариадна», «Коронация Поппе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108080" y="4427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75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6858000"/>
            <a:ext cx="65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ранц Йозеф Гайд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47848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800100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. композитор, один из основоположников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енской классической школ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вёл до классического совершенства симфонию, квартет, сонату. 104 симфонии, 83 квартета, 52 фп. сонаты, оратории («Сотворение мира», «Времена года»), более 30 опер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108080" y="435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25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23888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Вольфганг Амадей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Моцар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4574880" cy="6476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80010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. композитор, музыкант универсального дарования (клавесинист, скрипач, органист, дирижёр),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енская классическая шко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Реквием», оперы «Похищение из сераля», «Свадьба Фигаро», «Дон Жуан», «Волшебная флейта» и  др., ок. 50 симфоний, концерты, сонаты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74640" y="435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25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20:28:21Z</dcterms:created>
  <dc:creator/>
  <dc:description/>
  <dc:language>en-US</dc:language>
  <cp:lastModifiedBy>mixas</cp:lastModifiedBy>
  <dcterms:modified xsi:type="dcterms:W3CDTF">2005-04-27T09:09:25Z</dcterms:modified>
  <cp:revision>15</cp:revision>
  <dc:subject/>
  <dc:title>Композиторы-классика 10</dc:title>
</cp:coreProperties>
</file>