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D82-7209-4DF5-B47F-ABAC31B2C5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3EA8-A6AA-4DE6-B94F-7BD86B270E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55E-CB3A-4EB7-8971-3B792398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75B-D9F1-4972-B104-FD4ED23C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47C-80A4-409B-B119-42F1AECB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CF0-7148-4778-9077-643AED44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EF758-24DE-4E84-8E08-FEFB39BF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D9D6B-1586-4F78-A77D-E5511FD3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0D749-C962-428F-8130-A40625F4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FA00B-4AB7-438F-A1F6-2B5E7E8B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63247-BE97-4C60-B614-7C1FEC68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7C363-8930-45B3-818B-BCD2FDC9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9D49F-1F80-4396-8A2A-5161CCE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2EE-B9BF-42D7-95EA-BEFAD6A1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3D8B7-F74A-48B1-BC93-A1225E39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C8DE7-3226-4393-8DF6-33B58563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95758-03CC-4D09-A5C3-C0BACBDA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1CA08-6471-4A94-A378-2D16B0EA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60005-9D83-4A59-A788-1FD4DBF8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32C-04E3-4659-9CE1-607F4FFD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C9C-C8A6-4FC4-BDC3-4AA9ECDE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373-B265-431F-AF97-B891FABB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725-EAF0-482C-9A70-2B886C61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6F9-8CFF-4642-B228-E2825CC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26F-ED97-41F0-9B3B-5837C50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F20-857E-471C-8ED2-4DDFB9E1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A775-2494-402C-B0A0-639C1066D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A1A8-49DB-4E1D-9A78-F965968DC1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6" descr="1.jpg"/>
          <p:cNvPicPr/>
          <p:nvPr/>
        </p:nvPicPr>
        <p:blipFill>
          <a:blip r:embed="rId1"/>
          <a:stretch/>
        </p:blipFill>
        <p:spPr>
          <a:xfrm>
            <a:off x="-214200" y="-1231920"/>
            <a:ext cx="10144080" cy="8089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5651640" y="321480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ыполнил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ченик 3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аклашкин М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132000" y="5805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  <a:ea typeface="Arial Unicode MS"/>
              </a:rPr>
              <a:t>п.Новый 2014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Прямоугольник 10" descr=""/>
          <p:cNvPicPr/>
          <p:nvPr/>
        </p:nvPicPr>
        <p:blipFill>
          <a:blip r:embed="rId2"/>
          <a:stretch/>
        </p:blipFill>
        <p:spPr>
          <a:xfrm>
            <a:off x="311040" y="1066680"/>
            <a:ext cx="9326520" cy="1822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2428920" y="0"/>
            <a:ext cx="96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МОБУ «Новоарбанская  средняя 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общеобразовательная школ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5286240" y="4572000"/>
            <a:ext cx="4572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читель: Дербенёва Наталия Серафимовна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5" descr=""/>
          <p:cNvPicPr/>
          <p:nvPr/>
        </p:nvPicPr>
        <p:blipFill>
          <a:blip r:embed="rId2"/>
          <a:stretch/>
        </p:blipFill>
        <p:spPr>
          <a:xfrm>
            <a:off x="500040" y="566640"/>
            <a:ext cx="7808760" cy="1152720"/>
          </a:xfrm>
          <a:prstGeom prst="rect">
            <a:avLst/>
          </a:prstGeom>
          <a:ln w="0">
            <a:noFill/>
          </a:ln>
        </p:spPr>
      </p:pic>
    </p:spTree>
  </p:cSld>
  <p:transition advTm="3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2" descr="2.jpg"/>
          <p:cNvPicPr/>
          <p:nvPr/>
        </p:nvPicPr>
        <p:blipFill>
          <a:blip r:embed="rId1"/>
          <a:stretch/>
        </p:blipFill>
        <p:spPr>
          <a:xfrm>
            <a:off x="1908000" y="3141720"/>
            <a:ext cx="5148360" cy="3214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179280" y="2721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8"/>
                </a:solidFill>
                <a:uFillTx/>
                <a:latin typeface="Times New Roman"/>
                <a:ea typeface="Calibri"/>
              </a:rPr>
              <a:t>Цель работ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8"/>
                </a:solidFill>
                <a:latin typeface="Times New Roman"/>
                <a:ea typeface="Calibri"/>
              </a:rPr>
              <a:t>сбор информации о коралла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8"/>
                </a:solidFill>
                <a:uFillTx/>
                <a:latin typeface="Times New Roman"/>
                <a:ea typeface="Calibri"/>
              </a:rPr>
              <a:t>Задачи работ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8"/>
                </a:solidFill>
                <a:latin typeface="Times New Roman"/>
                <a:ea typeface="Calibri"/>
              </a:rPr>
              <a:t>Выяснить, какое место кораллы занимают в жизни чело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8"/>
                </a:solidFill>
                <a:latin typeface="Times New Roman"/>
                <a:ea typeface="Calibri"/>
              </a:rPr>
              <a:t>Узнать, кто занимается изучением корал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8"/>
                </a:solidFill>
                <a:latin typeface="Times New Roman"/>
                <a:ea typeface="Calibri"/>
              </a:rPr>
              <a:t>Узнать, почему кораллы называют индикаторами чистоты в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85840" y="1928520"/>
            <a:ext cx="40006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редставители: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1908000" y="260280"/>
            <a:ext cx="496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+mj-lt"/>
              </a:rPr>
              <a:t>Коралловые полипы</a:t>
            </a:r>
            <a:endParaRPr b="0" lang="en-US" sz="2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5010120" y="121428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e0e0"/>
                </a:solidFill>
                <a:latin typeface="Times New Roman"/>
              </a:rPr>
              <a:t>Около 6000 ви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14200" y="542916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Место обитания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но мор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http://img-fotki.yandex.ru/get/4810/vinogradoffoto.1e/0_5fd19_edb50e9f_L"/>
          <p:cNvPicPr/>
          <p:nvPr/>
        </p:nvPicPr>
        <p:blipFill>
          <a:blip r:embed="rId1"/>
          <a:stretch/>
        </p:blipFill>
        <p:spPr>
          <a:xfrm>
            <a:off x="214200" y="1785960"/>
            <a:ext cx="407196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8"/>
          <p:cNvSpPr/>
          <p:nvPr/>
        </p:nvSpPr>
        <p:spPr>
          <a:xfrm>
            <a:off x="4296600" y="2643120"/>
            <a:ext cx="22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ктини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www.apus.ru/im.xp/049050053048057050051048048.jpg"/>
          <p:cNvPicPr/>
          <p:nvPr/>
        </p:nvPicPr>
        <p:blipFill>
          <a:blip r:embed="rId2"/>
          <a:stretch/>
        </p:blipFill>
        <p:spPr>
          <a:xfrm>
            <a:off x="5357880" y="4010040"/>
            <a:ext cx="3786120" cy="28479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0"/>
          <p:cNvSpPr/>
          <p:nvPr/>
        </p:nvSpPr>
        <p:spPr>
          <a:xfrm>
            <a:off x="6901560" y="3214800"/>
            <a:ext cx="22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ралл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05020206.jpg"/>
          <p:cNvPicPr/>
          <p:nvPr/>
        </p:nvPicPr>
        <p:blipFill>
          <a:blip r:embed="rId1"/>
          <a:stretch/>
        </p:blipFill>
        <p:spPr>
          <a:xfrm>
            <a:off x="39600" y="642960"/>
            <a:ext cx="9104400" cy="5603760"/>
          </a:xfrm>
          <a:prstGeom prst="rect">
            <a:avLst/>
          </a:prstGeom>
          <a:ln w="41400">
            <a:solidFill>
              <a:srgbClr val="0033cc"/>
            </a:solidFill>
            <a:miter/>
          </a:ln>
        </p:spPr>
      </p:pic>
      <p:sp>
        <p:nvSpPr>
          <p:cNvPr id="107" name="Rectangle 6"/>
          <p:cNvSpPr/>
          <p:nvPr/>
        </p:nvSpPr>
        <p:spPr>
          <a:xfrm>
            <a:off x="219240" y="142920"/>
            <a:ext cx="2027880" cy="398880"/>
          </a:xfrm>
          <a:prstGeom prst="rect">
            <a:avLst/>
          </a:prstGeom>
          <a:solidFill>
            <a:srgbClr val="0000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рибной корал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643120" y="142920"/>
            <a:ext cx="1803960" cy="398880"/>
          </a:xfrm>
          <a:prstGeom prst="rect">
            <a:avLst/>
          </a:prstGeom>
          <a:solidFill>
            <a:srgbClr val="0000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топалито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072040" y="0"/>
            <a:ext cx="1785960" cy="703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рчавый этеракт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948360" y="0"/>
            <a:ext cx="2195640" cy="703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елёный звёздчат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43280" y="6286680"/>
            <a:ext cx="2094840" cy="398880"/>
          </a:xfrm>
          <a:prstGeom prst="rect">
            <a:avLst/>
          </a:prstGeom>
          <a:solidFill>
            <a:srgbClr val="0000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вровая акти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2357280" y="6286680"/>
            <a:ext cx="2214720" cy="398880"/>
          </a:xfrm>
          <a:prstGeom prst="rect">
            <a:avLst/>
          </a:prstGeom>
          <a:solidFill>
            <a:srgbClr val="0000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гряная стомф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4643280" y="6208560"/>
            <a:ext cx="2357640" cy="703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емляничный анем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7072200" y="6148440"/>
            <a:ext cx="2071800" cy="703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дяная уртиц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1000195-PH03187"/>
          <p:cNvPicPr/>
          <p:nvPr/>
        </p:nvPicPr>
        <p:blipFill>
          <a:blip r:embed="rId1"/>
          <a:stretch/>
        </p:blipFill>
        <p:spPr>
          <a:xfrm>
            <a:off x="0" y="0"/>
            <a:ext cx="10028160" cy="6858000"/>
          </a:xfrm>
          <a:prstGeom prst="rect">
            <a:avLst/>
          </a:prstGeom>
          <a:ln w="41400">
            <a:solidFill>
              <a:srgbClr val="0033cc"/>
            </a:solidFill>
            <a:miter/>
          </a:ln>
        </p:spPr>
      </p:pic>
      <p:sp>
        <p:nvSpPr>
          <p:cNvPr id="117" name="Text Box 7"/>
          <p:cNvSpPr/>
          <p:nvPr/>
        </p:nvSpPr>
        <p:spPr>
          <a:xfrm>
            <a:off x="5357880" y="6072120"/>
            <a:ext cx="378612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расный корал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" descr="fungiabig"/>
          <p:cNvPicPr/>
          <p:nvPr/>
        </p:nvPicPr>
        <p:blipFill>
          <a:blip r:embed="rId1"/>
          <a:stretch/>
        </p:blipFill>
        <p:spPr>
          <a:xfrm>
            <a:off x="1214280" y="-17640"/>
            <a:ext cx="7929720" cy="6875640"/>
          </a:xfrm>
          <a:prstGeom prst="rect">
            <a:avLst/>
          </a:prstGeom>
          <a:ln w="41400">
            <a:solidFill>
              <a:srgbClr val="0033cc"/>
            </a:solidFill>
            <a:miter/>
          </a:ln>
        </p:spPr>
      </p:pic>
      <p:sp>
        <p:nvSpPr>
          <p:cNvPr id="119" name="Rectangle 11"/>
          <p:cNvSpPr/>
          <p:nvPr/>
        </p:nvSpPr>
        <p:spPr>
          <a:xfrm>
            <a:off x="0" y="6000840"/>
            <a:ext cx="335772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ибной корал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785840" y="3285720"/>
            <a:ext cx="4643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алловые полипы, например мадрепор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роговые кораллы образуют целые подводные сады, поражающие красотой форм и расцветок, и коралловые риф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214200" y="5643720"/>
            <a:ext cx="43578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Impact"/>
              </a:rPr>
              <a:t>Коралловые рифы</a:t>
            </a:r>
            <a:endParaRPr b="0" lang="en-US" sz="2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Picture 5" descr="кораловый риф-1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кораллы"/>
          <p:cNvPicPr/>
          <p:nvPr/>
        </p:nvPicPr>
        <p:blipFill>
          <a:blip r:embed="rId2"/>
          <a:stretch/>
        </p:blipFill>
        <p:spPr>
          <a:xfrm>
            <a:off x="0" y="0"/>
            <a:ext cx="4572000" cy="540864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35280" y="4436640"/>
            <a:ext cx="3500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выгодное существование (симбиоз) актинии и рыбы-клоу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http://img-fotki.yandex.ru/get/3714/max-is.23/0_2cb6d_5b41b0f4_L"/>
          <p:cNvPicPr/>
          <p:nvPr/>
        </p:nvPicPr>
        <p:blipFill>
          <a:blip r:embed="rId1"/>
          <a:stretch/>
        </p:blipFill>
        <p:spPr>
          <a:xfrm>
            <a:off x="0" y="0"/>
            <a:ext cx="4518000" cy="307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img-fotki.yandex.ru/get/11/papa74snork.1/0_3c2a8_405d9bcc_L"/>
          <p:cNvPicPr/>
          <p:nvPr/>
        </p:nvPicPr>
        <p:blipFill>
          <a:blip r:embed="rId2"/>
          <a:stretch/>
        </p:blipFill>
        <p:spPr>
          <a:xfrm>
            <a:off x="4826160" y="0"/>
            <a:ext cx="431784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img-fotki.yandex.ru/get/3513/max-is.21/0_294a1_faea7d4e_L"/>
          <p:cNvPicPr/>
          <p:nvPr/>
        </p:nvPicPr>
        <p:blipFill>
          <a:blip r:embed="rId3"/>
          <a:stretch/>
        </p:blipFill>
        <p:spPr>
          <a:xfrm>
            <a:off x="0" y="3378240"/>
            <a:ext cx="5000760" cy="347976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786040" y="1285560"/>
            <a:ext cx="6215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уют коралловые риф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уют симбиозы с други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дами жив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ходят в состав пищевых цеп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коралловое ожерелье"/>
          <p:cNvPicPr/>
          <p:nvPr/>
        </p:nvPicPr>
        <p:blipFill>
          <a:blip r:embed="rId1"/>
          <a:stretch/>
        </p:blipFill>
        <p:spPr>
          <a:xfrm>
            <a:off x="0" y="0"/>
            <a:ext cx="26431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2333520" y="142920"/>
            <a:ext cx="681048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+mj-lt"/>
              </a:rPr>
              <a:t>Значение кораллов</a:t>
            </a:r>
            <a:endParaRPr b="0" lang="en-US" sz="2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+mj-lt"/>
              <a:ea typeface="+mj-lt"/>
            </a:endParaRPr>
          </a:p>
        </p:txBody>
      </p:sp>
      <p:pic>
        <p:nvPicPr>
          <p:cNvPr id="131" name="Picture 5" descr="украшение из коралла-1"/>
          <p:cNvPicPr/>
          <p:nvPr/>
        </p:nvPicPr>
        <p:blipFill>
          <a:blip r:embed="rId2"/>
          <a:stretch/>
        </p:blipFill>
        <p:spPr>
          <a:xfrm>
            <a:off x="5286240" y="4214880"/>
            <a:ext cx="3675240" cy="24858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8"/>
          <p:cNvSpPr/>
          <p:nvPr/>
        </p:nvSpPr>
        <p:spPr>
          <a:xfrm>
            <a:off x="285840" y="4429080"/>
            <a:ext cx="521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ся для изготовления ювелирных издел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гут быть ядовит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comp2</cp:lastModifiedBy>
  <dcterms:modified xsi:type="dcterms:W3CDTF">2014-05-12T06:49:08Z</dcterms:modified>
  <cp:revision>34</cp:revision>
  <dc:subject/>
  <dc:title>Слайд 1</dc:title>
</cp:coreProperties>
</file>