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DF1-7690-4C2E-BF06-6361BC6D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EA7-E236-472F-9356-749C417A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DCB-482D-4506-AD74-A9C956FF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D65-CADD-4570-94D4-FBF669AD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D22A-F046-4080-BDF6-7456995A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BBF0-0418-4F14-8A9D-FC4679F3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28CD-5690-4779-B23C-0DC05B80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4B4-43A2-44F6-BAB6-3876FE9F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3728-EBE3-4DA5-9DA7-B5035CDA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F68D-8CC4-4A07-B287-CB6E0CA0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42A1-318D-4079-9C9A-301DDF6C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B8EB-2CEE-45FA-A0A1-CE7042BE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C3E2-3D72-4D08-B7C4-0C6FAABE7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0" descr=""/>
          <p:cNvPicPr/>
          <p:nvPr/>
        </p:nvPicPr>
        <p:blipFill>
          <a:blip r:embed="rId1"/>
          <a:stretch/>
        </p:blipFill>
        <p:spPr>
          <a:xfrm>
            <a:off x="1116000" y="4584600"/>
            <a:ext cx="7021440" cy="14684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12" descr=""/>
          <p:cNvPicPr/>
          <p:nvPr/>
        </p:nvPicPr>
        <p:blipFill>
          <a:blip r:embed="rId2"/>
          <a:stretch/>
        </p:blipFill>
        <p:spPr>
          <a:xfrm>
            <a:off x="304920" y="1987560"/>
            <a:ext cx="86565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http://taleteller.ucoz.ru/skaz/marshak.jpg"/>
          <p:cNvPicPr/>
          <p:nvPr/>
        </p:nvPicPr>
        <p:blipFill>
          <a:blip r:embed="rId1"/>
          <a:stretch/>
        </p:blipFill>
        <p:spPr>
          <a:xfrm>
            <a:off x="1103400" y="523800"/>
            <a:ext cx="3547800" cy="106934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2"/>
          <p:cNvSpPr/>
          <p:nvPr/>
        </p:nvSpPr>
        <p:spPr>
          <a:xfrm>
            <a:off x="4660920" y="42670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briola"/>
              </a:rPr>
              <a:t>(22 октября 1887— 4 июля 196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4648320" y="1125360"/>
            <a:ext cx="4127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5050"/>
                </a:solidFill>
                <a:latin typeface="Gabriola"/>
              </a:rPr>
              <a:t>Самуи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5050"/>
                </a:solidFill>
                <a:latin typeface="Gabriola"/>
              </a:rPr>
              <a:t>       </a:t>
            </a:r>
            <a:r>
              <a:rPr b="1" lang="ru-RU" sz="5400" spc="-1" strike="noStrike">
                <a:solidFill>
                  <a:srgbClr val="ff5050"/>
                </a:solidFill>
                <a:latin typeface="Gabriola"/>
              </a:rPr>
              <a:t>Яковлеви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5050"/>
                </a:solidFill>
                <a:latin typeface="Gabriola"/>
              </a:rPr>
              <a:t>            </a:t>
            </a:r>
            <a:r>
              <a:rPr b="1" lang="ru-RU" sz="5400" spc="-1" strike="noStrike">
                <a:solidFill>
                  <a:srgbClr val="ff5050"/>
                </a:solidFill>
                <a:latin typeface="Gabriola"/>
              </a:rPr>
              <a:t>Марша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533520" y="360360"/>
            <a:ext cx="792468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4843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4920" y="620640"/>
            <a:ext cx="4572000" cy="61290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Зеленая стра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 страница зеленого цве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чит, на ней постоянное ле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бы здесь уместиться я мо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бы на этой странице приле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одят в траве золотые бука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я голубая, как бирю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а, качаясь, на венчик рома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вно цветной самолет, стреко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т темно-красная божья коров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инку свою разделив попол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кинула крылья прозрачные лов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олетела по важным дел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т в одинаковых платьях, как сест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бочки сели в траву отдых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закрываются книжечкой пестр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, раскрываясь, несутся оп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643280" y="673200"/>
            <a:ext cx="4572000" cy="6006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иняя стра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эта страница - морск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ней не увидишь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утую волну рассек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ходят по ней кораб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льфины мелькают, как те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луждает морская звез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листья подводных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чает, как ветер, 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дне этой синей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но, как в глубинах мор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десь рыбы умеют свет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 мраке, где нет фона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762120" y="0"/>
            <a:ext cx="75405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ноцветная книга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08000" y="44280"/>
            <a:ext cx="4176720" cy="5640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Желтая стра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от желтая страница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устынная ст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есок по ней кружи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есется, как вол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еведомо отку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еведомо к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Бредут по ней верблю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епные пое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дут они в коче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д музыку зво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Лежачие дере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астут среди пе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4356000" y="1052640"/>
            <a:ext cx="4572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Белая стра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- снежная стра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т прошла по ней лис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тая след хво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т вприпрыжку по стран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ясный день гуляли птиц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авляя след кре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есь проехали полозья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веркает на мор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ребристый гладкий сл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-36360" y="-27000"/>
            <a:ext cx="6984720" cy="6277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Красная стра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стра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ного ц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ное солн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ное ле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ная площ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лаги полощ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же на с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учше и краш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е что 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елые на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598920" y="2349360"/>
            <a:ext cx="5545080" cy="426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Ночная стра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д вами - страница ноч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олица окутана ть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ходят на отдых трамва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оллейбусы мчатся до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ешат на ночлег пешехо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где не увидишь реб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только вокзалы, заво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асы и машины не сп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4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briola"/>
              </a:rPr>
              <a:t>Книга «Воспоминания о Самуиле Яковлевиче Маршаке, к 115-летию со дня рождения. Воркута,2002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briola"/>
                <a:ea typeface="Gautami"/>
              </a:rPr>
              <a:t>С.Маршак «Разноцветная книг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briola"/>
              </a:rPr>
              <a:t>http://s-marshak.ru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briola"/>
              </a:rPr>
              <a:t>http://www.kostyor.ru/biography/?n=1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Прямоугольник 1" descr=""/>
          <p:cNvPicPr/>
          <p:nvPr/>
        </p:nvPicPr>
        <p:blipFill>
          <a:blip r:embed="rId1"/>
          <a:stretch/>
        </p:blipFill>
        <p:spPr>
          <a:xfrm>
            <a:off x="493560" y="957240"/>
            <a:ext cx="864396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rcRect l="16221" t="13546" r="4572" b="8800"/>
          <a:stretch/>
        </p:blipFill>
        <p:spPr>
          <a:xfrm>
            <a:off x="6019920" y="3614760"/>
            <a:ext cx="2066760" cy="2025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1212840" y="4316400"/>
            <a:ext cx="199872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user</dc:creator>
  <dc:description/>
  <dc:language>en-US</dc:language>
  <cp:lastModifiedBy>Andro</cp:lastModifiedBy>
  <dcterms:modified xsi:type="dcterms:W3CDTF">2015-10-15T19:06:57Z</dcterms:modified>
  <cp:revision>30</cp:revision>
  <dc:subject/>
  <dc:title>Название презентации</dc:title>
</cp:coreProperties>
</file>