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E46-D63C-493D-9749-FB126AAA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42F-03F1-4FCC-99AB-259A4EB4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E17-577E-4C7D-B4CD-B1BC2EC1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6E8-5AB9-4C98-AA59-83DE6972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7389-157C-48F9-BF7E-CA0C8E72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1FA6-DC32-444B-AEC5-4B03A2F6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A044-EE90-4E9A-896A-B9121CEB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4E11-23C6-4660-BC72-527DEDFD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CF68-6060-4F3C-810A-B55D19B1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38A2-301A-4DCF-A0EB-E26AD705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14C5-7913-4358-9C69-52181248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A0F-8CA8-4843-8A19-AA5C65B0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F49A-B995-47FC-83CF-A18A9A69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FABD-0823-4BF5-8596-6A8475A9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556E-4AAB-43D5-8167-7C4C6B7F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3771-7B84-4AEC-B1DA-5E54BED6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96DB-F330-41EF-BA25-D1989902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975-5BF9-4B61-8426-741FB54D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AFB-0CEE-4939-A021-F46E9F06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BA0-25E8-4283-98EF-B0A48AB3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4F7-817E-41C6-8FB7-EA6B0AFF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1E3-39D9-4B91-93F5-A30D801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15B-FC7C-4B82-89D3-EFE66F2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37A-0B03-42FA-AB60-BC7AAD34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25C3-2CB5-46B2-A6F1-492B89ED5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AB02-E07F-4143-895C-17C6775886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47640" y="90792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й календар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04640" y="3789360"/>
            <a:ext cx="42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ажение к минувшему – в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рта, отличающ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ность от дикост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А.С.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 приметы зи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арактеристи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Осень торопит, зима не жд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имой солнце сквозь слезы улыб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сказания о л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има лето строит. По зиме ложится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Если зимой сухо и холодно – летом сухо и жар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имою вьюги – летом ненастье</a:t>
            </a:r>
            <a:r>
              <a:rPr b="0" lang="en-US" sz="2400" spc="-1" strike="noStrike">
                <a:solidFill>
                  <a:srgbClr val="92d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 февраля Сретенье зима с весной встрети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На Сретеньев день тепло льды опятн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сказания вес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Ежели на Сретенье установится оттепель – весна ранняя и теплая, коли холода завернут – весна холодная; выпавший в этот день снег – к затяжной и дождливой ве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рошлое и настояще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ногие древние обычаи уцелели в народе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Еще в начале прошлого века в деревне водили коляду, удало тешились на Масленицу, завивали березку на Семик, и на Купалу – зажигали огни и умывались рос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урочивание праздников и гуляний к началу того или иного времени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има – Святки, Колядки, Рождество, Масленица (проводы зим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сна – Новогод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ето – День Ивана Купалы, Семик (девичий праздник), Спас (медовый, яблочный, хлебны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ень – Покров (свадебник), Дмитриев день (помин усопших), Кузьминки (встреча зим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00040" y="26028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ародный календарь – не расписание погоды, а скорее памятка с примечательными днями и периодами года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ольклор – одно их неослабных и немеркнущих звеньев, соединяющих прошлое с настоящ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816360" cy="2760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39" name="Picture 8" descr="0_565b1_d81990be_L"/>
          <p:cNvPicPr/>
          <p:nvPr/>
        </p:nvPicPr>
        <p:blipFill>
          <a:blip r:embed="rId2"/>
          <a:stretch/>
        </p:blipFill>
        <p:spPr>
          <a:xfrm>
            <a:off x="5076720" y="2133720"/>
            <a:ext cx="3117960" cy="3887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  празд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39640" y="1413000"/>
            <a:ext cx="4006800" cy="2288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теперь не забыты обряды встреч и проводов времен года. Новый год с елкой, проводы русской зимы, праздник березки, чествование урож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4643280" y="1413000"/>
            <a:ext cx="3889440" cy="17096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ычаи эти переосмысле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 наполнены нов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Содержимое 7" descr="масленница.jpg"/>
          <p:cNvPicPr/>
          <p:nvPr/>
        </p:nvPicPr>
        <p:blipFill>
          <a:blip r:embed="rId1"/>
          <a:stretch/>
        </p:blipFill>
        <p:spPr>
          <a:xfrm>
            <a:off x="1042920" y="4292640"/>
            <a:ext cx="2521080" cy="2066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44" name="Содержимое 8" descr="новый год.jpg"/>
          <p:cNvPicPr/>
          <p:nvPr/>
        </p:nvPicPr>
        <p:blipFill>
          <a:blip r:embed="rId2"/>
          <a:stretch/>
        </p:blipFill>
        <p:spPr>
          <a:xfrm>
            <a:off x="5508720" y="4221000"/>
            <a:ext cx="2733480" cy="2125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Зарождение народного календар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вязь астрономических и климатических явл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енологические изменения в живой природ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о промысловых, хозяйственных де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о сельскохозяйственных дел: начало пах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ева, уборки урож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Весна в народном кален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Рисунок 1" descr="вид весной.jpg"/>
          <p:cNvPicPr/>
          <p:nvPr/>
        </p:nvPicPr>
        <p:blipFill>
          <a:blip r:embed="rId1"/>
          <a:stretch/>
        </p:blipFill>
        <p:spPr>
          <a:xfrm>
            <a:off x="1835280" y="1413000"/>
            <a:ext cx="5473440" cy="410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 приметы весн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вестники хорошей и плохой по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Длинные сосульки – к долгой ве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Ранний прилет грачей и жаворонков – теплой ве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Гуси высоко летят – будет воды много, низко – ма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шние воды как вестник травосто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ода разольется – сена набер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ода на лугу – сено в стогу</a:t>
            </a:r>
            <a:r>
              <a:rPr b="1" i="1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лгосрочное предсказ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оздний расцвет рябины – к долгой ос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Если весной летит много паутины – лето будет жарк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тицы вьют гнезда на солнечной стороне – к холодному л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сказание о лете. 14 марта «Авдотьин день» слыл летоуказате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Какова Евдокея – таково и лето</a:t>
            </a:r>
            <a:r>
              <a:rPr b="1" i="1" lang="en-US" sz="2000" spc="-1" strike="noStrike">
                <a:solidFill>
                  <a:srgbClr val="92d05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Лето в народном кален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1" descr="лето.jpg"/>
          <p:cNvPicPr/>
          <p:nvPr/>
        </p:nvPicPr>
        <p:blipFill>
          <a:blip r:embed="rId1"/>
          <a:stretch/>
        </p:blipFill>
        <p:spPr>
          <a:xfrm>
            <a:off x="1835280" y="1484280"/>
            <a:ext cx="5545080" cy="4159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риметы ле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езо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витие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сходы – еще не хл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Сей хлеб – не спи: будешь жать – не станешь дрем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ока колос в поле – трудись под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июня - астрономический рубеж весны и л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Клади по ягодке, наберешь кузов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 июня –д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лнцевор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Солнце с Петра – поворота укорачивает х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зменения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етр и Павел (12 июля) на час убавил, а Илья- пророк – два ув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До Ильи и поп дождя не намолил, а после Ильи и баба фартуком нагон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Осень в народном кален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Рисунок 1" descr="кусково осень.jpg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4213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риметы осе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знаки ос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 лесу много рябины – осень будет дождливая, если ж мало – сух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Летом ведро воды – ложка грязи, осенью ложка воды – ведро гр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ты предстоящей з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оздний листопад – к суровой и продолжительной зи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 сентября – журавлиный отлет. 14 сентября – Семен-летопроводец. Первая встреча ос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4 ноября –Кузьминки, встреча з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акует Кузьма-Демьян, до весны красны не раск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Не заковать реку зиме без Кузьмы-Демья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Зима в народном кален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7" descr="SDC10714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4211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9:55:49Z</dcterms:created>
  <dc:creator>User</dc:creator>
  <dc:description/>
  <dc:language>en-US</dc:language>
  <cp:lastModifiedBy>SEC</cp:lastModifiedBy>
  <dcterms:modified xsi:type="dcterms:W3CDTF">2012-12-10T15:43:53Z</dcterms:modified>
  <cp:revision>38</cp:revision>
  <dc:subject/>
  <dc:title>Народный календарь </dc:title>
</cp:coreProperties>
</file>