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1E4-521A-4B31-9110-067BE14B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5CD-B504-436D-A5B0-383B7143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1C8-78AD-4A64-B864-D1BEE77D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06F-1B8A-4AB5-A661-D6920285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586-DF2D-4761-B905-59E44FE4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EB3-2FD3-49D9-AF8E-7A8B8320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805-D6FF-4BF6-9E24-FD2F699F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636-1646-4DE3-884C-C3B18EC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03F-0A54-420A-BB49-FD456CB1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631-15DB-4494-917D-01A1D00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B20-04F4-4F32-A241-050BAEC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8F5-CFE4-4DF9-9D66-BFEFB0E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46EA-DA93-470D-98F6-690A1A3A7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ЫЙ УМ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640" y="5013360"/>
            <a:ext cx="5464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математики Т.И. Маш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СОШ с. Амурз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142884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8. Какое из этих слов устаревше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об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блю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в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п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152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9. Кто из перечисленных авторов писал рассказы о приро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хал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ут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ар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иа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128556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0. Что такое кинолог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82296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соба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гриб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логике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6760" y="1428840"/>
            <a:ext cx="8643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1. Какое сравнение используют, когда говорят об очень сильном дож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бочки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кастрюли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ведра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бака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2. Кого маленькая разбойница дала в помощь Герд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ар-пт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верного оле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нька-Горб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вку Бурку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далее 3"/>
          <p:cNvSpPr/>
          <p:nvPr/>
        </p:nvSpPr>
        <p:spPr>
          <a:xfrm>
            <a:off x="850104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й ТУ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822960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узыкальный инстр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236161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1"/>
          <p:cNvSpPr/>
          <p:nvPr/>
        </p:nvSpPr>
        <p:spPr>
          <a:xfrm>
            <a:off x="500040" y="1714680"/>
            <a:ext cx="3571920" cy="14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Растительная жизнь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2"/>
          <p:cNvSpPr/>
          <p:nvPr/>
        </p:nvSpPr>
        <p:spPr>
          <a:xfrm>
            <a:off x="500040" y="3500280"/>
            <a:ext cx="342900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Сказочные животные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3"/>
          <p:cNvSpPr/>
          <p:nvPr/>
        </p:nvSpPr>
        <p:spPr>
          <a:xfrm>
            <a:off x="642960" y="5214960"/>
            <a:ext cx="3286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Братья наши меньшие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4"/>
          <p:cNvSpPr/>
          <p:nvPr/>
        </p:nvSpPr>
        <p:spPr>
          <a:xfrm>
            <a:off x="5286240" y="1714680"/>
            <a:ext cx="3286440" cy="14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Калейдоскоп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5"/>
          <p:cNvSpPr/>
          <p:nvPr/>
        </p:nvSpPr>
        <p:spPr>
          <a:xfrm>
            <a:off x="5286240" y="3500280"/>
            <a:ext cx="3286440" cy="1428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Угадай-ка"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словицы и поговор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6"/>
          <p:cNvSpPr/>
          <p:nvPr/>
        </p:nvSpPr>
        <p:spPr>
          <a:xfrm>
            <a:off x="5357880" y="5143680"/>
            <a:ext cx="3286080" cy="14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Музыка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1"/>
          <p:cNvSpPr/>
          <p:nvPr/>
        </p:nvSpPr>
        <p:spPr>
          <a:xfrm>
            <a:off x="8748720" y="6572160"/>
            <a:ext cx="287280" cy="2858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709" h="21600">
                <a:moveTo>
                  <a:pt x="0" y="0"/>
                </a:moveTo>
                <a:lnTo>
                  <a:pt x="21709" y="0"/>
                </a:lnTo>
                <a:lnTo>
                  <a:pt x="21709" y="21600"/>
                </a:lnTo>
                <a:lnTo>
                  <a:pt x="0" y="21600"/>
                </a:lnTo>
                <a:close/>
              </a:path>
              <a:path fill="lightenLess" w="21709" h="21600">
                <a:moveTo>
                  <a:pt x="0" y="0"/>
                </a:moveTo>
                <a:lnTo>
                  <a:pt x="21709" y="0"/>
                </a:lnTo>
                <a:lnTo>
                  <a:pt x="20309" y="1400"/>
                </a:lnTo>
                <a:lnTo>
                  <a:pt x="1400" y="1400"/>
                </a:lnTo>
                <a:close/>
              </a:path>
              <a:path fill="darken" w="21709" h="21600">
                <a:moveTo>
                  <a:pt x="21709" y="0"/>
                </a:moveTo>
                <a:lnTo>
                  <a:pt x="21709" y="21600"/>
                </a:lnTo>
                <a:lnTo>
                  <a:pt x="20309" y="20200"/>
                </a:lnTo>
                <a:lnTo>
                  <a:pt x="20309" y="1400"/>
                </a:lnTo>
                <a:close/>
              </a:path>
              <a:path fill="darkenLess" w="21709" h="21600">
                <a:moveTo>
                  <a:pt x="217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9" y="20200"/>
                </a:lnTo>
                <a:close/>
              </a:path>
              <a:path fill="lighten" w="217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9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 с греческого языка переводится название растения астр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а дикая малина получила своё название за то, что ветви её сплошь покрыты острыми шип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 растение на разных языках называется почти одинаково. У поляков оно - "позёмка", у немцев - "земляная ягода", а у русски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Цветки этого дерева распространяют изумительный аромат и являются прекрасным средством от просту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ой первоцвет получил название из-за своих листьев: снаружи тёмных, холодных, а изнутри - тёплых, мягких?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560" y="1214280"/>
            <a:ext cx="90010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Какой крупный цветок называют "цветком солнца" или "солнечным сыном"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акое болотное насекомое питается насеком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В старину кору этого дерева использовали вместо бума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Как называется плод у лещи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Как называется сушёный виног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Как называется колючка на роз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Какую часть растения мы едим у горох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й ТУ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Как называется вещество, дающее листьям растений зелёный цв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Семена какого растения используют для приготовления шоколад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Как распространяются семена одуванч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Из какой страны к нам привезены какту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Что за дерево стоит - ветра нет, а лист дрож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Экзотический мохнатый зелёный сладко-кислый фрук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домой 3"/>
          <p:cNvSpPr/>
          <p:nvPr/>
        </p:nvSpPr>
        <p:spPr>
          <a:xfrm>
            <a:off x="850104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мая маленькая пти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уда зайцу удобнее бежать: с горы или в го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м кусает пч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мое большое живот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 какой птицы под клювом имеется кожистый мешок для складывания уло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икая лесная свин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7. Какое хищное насекомое питается тлё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8. На крайнем севере это животное впрягают в са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9. Ленивый медведь, живущий в Австралии, имеющий сумку, как кенгу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0. Что носит на спине верблюд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1. Какой зверь считается хозяином тайг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2. Какого зверя "ноги кормят"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3. Какая птица выводит птенцов зим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4. Чем дышит рыб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5. Какое крошечное животное является чемпионом по прыжкам среди насекомы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6. Какой зверь спит всю зиму вниз голов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7. Какие птицы едят гриб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8. Как называют зайчат, родившихся осень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Управляющая кнопка: домой 3"/>
          <p:cNvSpPr/>
          <p:nvPr/>
        </p:nvSpPr>
        <p:spPr>
          <a:xfrm>
            <a:off x="8501040" y="6286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дель Мальв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Собака доктора Айбо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Пёс Дяди Фёд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Пёсик Эл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Собачка, которая помогала деду и бабе собирать урожа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Пантера из сказки "Маугл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рыса старухи Шапокля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Кот из деревни Простокваши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"Слепой" кот из сказки "Золотой ключик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Медведь, обучавший Маугли законау джунг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Имена двух мышат из сказки "Колосок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Вожак волчьей стаи, приютившей Мауг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Муха, которая напоила всех ча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Черепаха из сказки "Золотой ключик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У кого в голове опил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С кем Ёжик протирал звёз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Детёныш Муми-мамы и Муми-па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то разбил золотое яичк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омой 3"/>
          <p:cNvSpPr/>
          <p:nvPr/>
        </p:nvSpPr>
        <p:spPr>
          <a:xfrm>
            <a:off x="835812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идкое косметическое средство для мытья вол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Сколько месяцев в го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Как называется завитая часть воло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Как называется специальная книга, в которой отмечают успеваемость ученик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Мера длины, равная 10 с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За какой нотой следует нота 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28592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акой цвет получается при смешивании красного и желт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Как называется устройство для замораживания продукт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Как называется транспортное средство, предназначенное для полёта людей в космо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Как называется слово без оконча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Им гребут, плывя на лод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Каникулы у папы и ма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Её драют мат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Сахар в кусоч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Низ обув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Внучка Деда Моро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Его сначала заваривают, а потом пь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то на корабле главны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домой 3"/>
          <p:cNvSpPr/>
          <p:nvPr/>
        </p:nvSpPr>
        <p:spPr>
          <a:xfrm>
            <a:off x="850104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572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. Кто из персонажей стихотворения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А. Барто вздыхал: "Ох, доска качается…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92860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ош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ой блин обычно получается ком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ая птица всегда своё болото хвал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Чего не выкинешь из пес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Сколько небитых дают за одного бит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Без чего не бывает дым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Что следует ковать, пока оно горяч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ого дело бо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Что, согласно пословице летит, когда рубят ле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Во что не рекомендуется плев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Какому подарку в зубы не смотря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Не имей 100 рублей, а имей 100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Тише едешь, дальше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Не по словам судят, а по 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Что оторвали на базаре любопытной Варва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Какой фрукт падает недалеко от своего дере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Когда приходит аппет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Чего не утаишь в мешк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то свистит на го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Управляющая кнопка: домой 3"/>
          <p:cNvSpPr/>
          <p:nvPr/>
        </p:nvSpPr>
        <p:spPr>
          <a:xfrm>
            <a:off x="8501040" y="6286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128556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каком музыкальном инструменте играл крокодил Ген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пел песенку "Я от бабушки ушёл, я от дедушки ушё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колько нот в нотном ста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ую ноту кладут в суп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ая нота может быть предлог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кольких линий состоит нотный ст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ой композитор сочинил лучшие свои произведения, будучи глухи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920" y="121428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Как называется ансамбль из четырёх музыкант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Какая торжественная песня звучит каждый день в 6 утра по ради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Группа, которая имеет название такое же, как и часть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У какого инструмента есть и струны, и педаль? Что же это? Несомненно, это славный наш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Кто управляет оркестр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Герой какого мультфильма пел песню "От улыбки хмурый день светлей…"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Под какую музыку шагают солда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Забренчит нам, угадай-ка, веселушка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На чём играл кот Матроскин из Простокваши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Какую ноту не мог взять Бараш из "Смешариков"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акой музыкальный инструмент изображал волка в музыкальной сказке Прокофьева "Петя и Волк"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домой 1"/>
          <p:cNvSpPr/>
          <p:nvPr/>
        </p:nvSpPr>
        <p:spPr>
          <a:xfrm>
            <a:off x="8388360" y="6308640"/>
            <a:ext cx="576360" cy="505080"/>
          </a:xfrm>
          <a:custGeom>
            <a:avLst/>
            <a:gdLst>
              <a:gd name="textAreaLeft" fmla="*/ 32760 w 576360"/>
              <a:gd name="textAreaRight" fmla="*/ 543960 w 576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6" h="21600">
                <a:moveTo>
                  <a:pt x="12323" y="3837"/>
                </a:moveTo>
                <a:lnTo>
                  <a:pt x="14899" y="6448"/>
                </a:lnTo>
                <a:lnTo>
                  <a:pt x="14899" y="4707"/>
                </a:lnTo>
                <a:lnTo>
                  <a:pt x="16675" y="4707"/>
                </a:lnTo>
                <a:lnTo>
                  <a:pt x="16675" y="8224"/>
                </a:lnTo>
                <a:lnTo>
                  <a:pt x="19286" y="10800"/>
                </a:lnTo>
                <a:lnTo>
                  <a:pt x="17632" y="10800"/>
                </a:lnTo>
                <a:lnTo>
                  <a:pt x="17632" y="17989"/>
                </a:lnTo>
                <a:lnTo>
                  <a:pt x="7014" y="17989"/>
                </a:lnTo>
                <a:lnTo>
                  <a:pt x="7014" y="10800"/>
                </a:lnTo>
                <a:lnTo>
                  <a:pt x="5360" y="10800"/>
                </a:lnTo>
                <a:close/>
              </a:path>
              <a:path fill="darkenLess" w="24646" h="21600">
                <a:moveTo>
                  <a:pt x="14899" y="6448"/>
                </a:moveTo>
                <a:lnTo>
                  <a:pt x="14899" y="4707"/>
                </a:lnTo>
                <a:lnTo>
                  <a:pt x="16675" y="4707"/>
                </a:lnTo>
                <a:lnTo>
                  <a:pt x="16675" y="8224"/>
                </a:lnTo>
                <a:close/>
              </a:path>
              <a:path fill="darkenLess" w="24646" h="21600">
                <a:moveTo>
                  <a:pt x="11400" y="14299"/>
                </a:moveTo>
                <a:lnTo>
                  <a:pt x="13246" y="14299"/>
                </a:lnTo>
                <a:lnTo>
                  <a:pt x="13246" y="17989"/>
                </a:lnTo>
                <a:lnTo>
                  <a:pt x="17632" y="17989"/>
                </a:lnTo>
                <a:lnTo>
                  <a:pt x="17632" y="10800"/>
                </a:lnTo>
                <a:lnTo>
                  <a:pt x="7014" y="10800"/>
                </a:lnTo>
                <a:lnTo>
                  <a:pt x="7014" y="17989"/>
                </a:lnTo>
                <a:lnTo>
                  <a:pt x="11400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"Составь пары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ВИД С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утб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хокк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нни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иатл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егкая атле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ИНВЕНТ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лю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рус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я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ы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к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6"/>
          <p:cNvCxnSpPr/>
          <p:nvPr/>
        </p:nvCxnSpPr>
        <p:spPr>
          <a:xfrm flipV="1">
            <a:off x="1714680" y="3499560"/>
            <a:ext cx="3000960" cy="715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7" name="Прямая со стрелкой 8"/>
          <p:cNvCxnSpPr/>
          <p:nvPr/>
        </p:nvCxnSpPr>
        <p:spPr>
          <a:xfrm>
            <a:off x="1928520" y="3499920"/>
            <a:ext cx="2786760" cy="1429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Прямая со стрелкой 9"/>
          <p:cNvCxnSpPr/>
          <p:nvPr/>
        </p:nvCxnSpPr>
        <p:spPr>
          <a:xfrm>
            <a:off x="1785960" y="4928760"/>
            <a:ext cx="3000960" cy="1500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Прямая со стрелкой 10"/>
          <p:cNvCxnSpPr/>
          <p:nvPr/>
        </p:nvCxnSpPr>
        <p:spPr>
          <a:xfrm flipV="1">
            <a:off x="2999160" y="4214520"/>
            <a:ext cx="1715400" cy="2000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Прямая со стрелкой 11"/>
          <p:cNvCxnSpPr/>
          <p:nvPr/>
        </p:nvCxnSpPr>
        <p:spPr>
          <a:xfrm flipV="1">
            <a:off x="2071800" y="5643360"/>
            <a:ext cx="2643840" cy="72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й ТУ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Я шол полесной дарошке в дерев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есность была мне знакома. В чя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еса слышался галосок малинаф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 апушки милькали белые рома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 высокой ношке. От апушки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еревне тянулась паляна,за паля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инела речька. Около реч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аслось стад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429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2. Как называется плод арбу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во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ру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я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стя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077840" y="1643040"/>
            <a:ext cx="7137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здравляем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бедител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358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3. Какую башню называют падающ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82296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йфеле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изанск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станкин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донапор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4. Что вырабатывается при помощи привив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ммун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ту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стин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фле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5. Как можно назвать пары слов: глубокий-мелкий, тихий-громк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нтони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ногозначные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6. Сколько звуков в слове "класс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7. Сколько диагоналей имеет прямоугольн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8. Что попало Каю в гла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неж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ор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ь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сколок зерк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назад 3"/>
          <p:cNvSpPr/>
          <p:nvPr/>
        </p:nvSpPr>
        <p:spPr>
          <a:xfrm>
            <a:off x="14292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10800"/>
                </a:moveTo>
                <a:lnTo>
                  <a:pt x="23211" y="3794"/>
                </a:lnTo>
                <a:lnTo>
                  <a:pt x="232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114264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3. Какое прозвище было у русского царя Ивана IV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е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роз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рабр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21428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4. Из чего получается саха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ахарной свёк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ахарного сир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м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ока деревь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7868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5. Где расположены уши у кузнеч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82296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ног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го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крыл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сп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480" y="128592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6. Как называется начало рек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с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пад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1356840"/>
            <a:ext cx="8358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7. Кто из перечисленных животных не является земновод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ри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а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м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ягуш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08:24:51Z</dcterms:created>
  <dc:creator>comp</dc:creator>
  <dc:description/>
  <dc:language>en-US</dc:language>
  <cp:lastModifiedBy>Пользователь Windows</cp:lastModifiedBy>
  <dcterms:modified xsi:type="dcterms:W3CDTF">2013-03-26T03:09:42Z</dcterms:modified>
  <cp:revision>24</cp:revision>
  <dc:subject/>
  <dc:title>САМЫЙ УМНЫЙ</dc:title>
</cp:coreProperties>
</file>