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7AF-387C-4F98-A059-16AF20C3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C44-CBF3-448D-8785-ADF91489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FC3-3D90-4BBF-BCE5-A306B812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904-003A-4777-82B8-7CAAC8DC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405-F05F-4C6A-A480-5D6A3FC6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5C1-0481-4287-9AAB-DC509AC9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D1B-9915-4944-A3E0-C644DC0E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AFB-F5BF-46CA-90EC-E77349D7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FA1-4FBA-4C7C-8E2A-DDA9DC2E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83B-AE8C-4A72-8EE5-AE93F6F0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740-E4FD-4E38-A799-2566FA96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B71-E416-4FC5-8D9D-4B2C97E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B5CE-B5A1-47C3-9B79-081469769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8.wav" TargetMode="External"/><Relationship Id="rId2" Type="http://schemas.microsoft.com/office/2007/relationships/media" Target="file:///tmp/home/.config/libreoffice/4/user/gallery/8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10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9.wav" TargetMode="External"/><Relationship Id="rId2" Type="http://schemas.microsoft.com/office/2007/relationships/media" Target="file:///tmp/home/.config/libreoffice/4/user/gallery/9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10.wav" TargetMode="External"/><Relationship Id="rId2" Type="http://schemas.microsoft.com/office/2007/relationships/media" Target="file:///tmp/home/.config/libreoffice/4/user/gallery/10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10.jpeg"/><Relationship Id="rId11" Type="http://schemas.openxmlformats.org/officeDocument/2006/relationships/image" Target="../media/image8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1.wav" TargetMode="External"/><Relationship Id="rId2" Type="http://schemas.microsoft.com/office/2007/relationships/media" Target="file:///tmp/home/.config/libreoffice/4/user/gallery/1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2.wav" TargetMode="External"/><Relationship Id="rId2" Type="http://schemas.microsoft.com/office/2007/relationships/media" Target="file:///tmp/home/.config/libreoffice/4/user/gallery/2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3.wav" TargetMode="External"/><Relationship Id="rId2" Type="http://schemas.microsoft.com/office/2007/relationships/media" Target="file:///tmp/home/.config/libreoffice/4/user/gallery/3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4.wav" TargetMode="External"/><Relationship Id="rId2" Type="http://schemas.microsoft.com/office/2007/relationships/media" Target="file:///tmp/home/.config/libreoffice/4/user/gallery/4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5.wav" TargetMode="External"/><Relationship Id="rId2" Type="http://schemas.microsoft.com/office/2007/relationships/media" Target="file:///tmp/home/.config/libreoffice/4/user/gallery/5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3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6.wav" TargetMode="External"/><Relationship Id="rId2" Type="http://schemas.microsoft.com/office/2007/relationships/media" Target="file:///tmp/home/.config/libreoffice/4/user/gallery/6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3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7.wav" TargetMode="External"/><Relationship Id="rId2" Type="http://schemas.microsoft.com/office/2007/relationships/media" Target="file:///tmp/home/.config/libreoffice/4/user/gallery/7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57360"/>
            <a:ext cx="9144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Arial"/>
              </a:rPr>
              <a:t>машинки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Arial"/>
              </a:rPr>
              <a:t>от 0 до 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8036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95280" y="333360"/>
            <a:ext cx="8221680" cy="5953320"/>
            <a:chOff x="395280" y="333360"/>
            <a:chExt cx="8221680" cy="595332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3924360" y="333360"/>
              <a:ext cx="2376360" cy="17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3419640" y="2421000"/>
              <a:ext cx="2592360" cy="19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6516720" y="4641840"/>
              <a:ext cx="19717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395280" y="476280"/>
              <a:ext cx="2448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6659640" y="765000"/>
              <a:ext cx="195732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9"/>
            <a:stretch/>
          </p:blipFill>
          <p:spPr>
            <a:xfrm>
              <a:off x="900000" y="2565360"/>
              <a:ext cx="187164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0"/>
            <a:stretch/>
          </p:blipFill>
          <p:spPr>
            <a:xfrm>
              <a:off x="539640" y="4437000"/>
              <a:ext cx="2160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1"/>
            <a:stretch/>
          </p:blipFill>
          <p:spPr>
            <a:xfrm>
              <a:off x="3924360" y="4653000"/>
              <a:ext cx="1944720" cy="1568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7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4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8360" y="68580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95280" y="333360"/>
            <a:ext cx="8221680" cy="5953320"/>
            <a:chOff x="395280" y="333360"/>
            <a:chExt cx="8221680" cy="595332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3924360" y="333360"/>
              <a:ext cx="2376360" cy="17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3419640" y="2421000"/>
              <a:ext cx="2592360" cy="19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6516720" y="4641840"/>
              <a:ext cx="19717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395280" y="476280"/>
              <a:ext cx="2448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6659640" y="765000"/>
              <a:ext cx="195732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900000" y="2565360"/>
              <a:ext cx="187164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0"/>
            <a:stretch/>
          </p:blipFill>
          <p:spPr>
            <a:xfrm>
              <a:off x="6659640" y="2997360"/>
              <a:ext cx="1893960" cy="14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1"/>
            <a:stretch/>
          </p:blipFill>
          <p:spPr>
            <a:xfrm>
              <a:off x="539640" y="4437000"/>
              <a:ext cx="2160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2"/>
            <a:stretch/>
          </p:blipFill>
          <p:spPr>
            <a:xfrm>
              <a:off x="3924360" y="4653000"/>
              <a:ext cx="1944720" cy="1568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48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838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8360" y="68580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95280" y="333360"/>
            <a:ext cx="8221680" cy="6356520"/>
            <a:chOff x="395280" y="333360"/>
            <a:chExt cx="8221680" cy="6356520"/>
          </a:xfrm>
        </p:grpSpPr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3924360" y="333360"/>
              <a:ext cx="2376360" cy="17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419640" y="2421000"/>
              <a:ext cx="2592360" cy="19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516720" y="4641840"/>
              <a:ext cx="19717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395280" y="476280"/>
              <a:ext cx="2448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6659640" y="765000"/>
              <a:ext cx="195732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9"/>
            <a:stretch/>
          </p:blipFill>
          <p:spPr>
            <a:xfrm>
              <a:off x="539640" y="4437000"/>
              <a:ext cx="2160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0"/>
            <a:stretch/>
          </p:blipFill>
          <p:spPr>
            <a:xfrm>
              <a:off x="900000" y="2565360"/>
              <a:ext cx="187164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1"/>
            <a:stretch/>
          </p:blipFill>
          <p:spPr>
            <a:xfrm>
              <a:off x="3924360" y="4653000"/>
              <a:ext cx="194472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2"/>
            <a:stretch/>
          </p:blipFill>
          <p:spPr>
            <a:xfrm>
              <a:off x="6659640" y="2997360"/>
              <a:ext cx="1893960" cy="14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3"/>
            <a:stretch/>
          </p:blipFill>
          <p:spPr>
            <a:xfrm>
              <a:off x="2195640" y="5734080"/>
              <a:ext cx="1744560" cy="955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3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58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740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1200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843280" y="1916280"/>
            <a:ext cx="3170160" cy="23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1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24720" y="68580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2843280" y="1916280"/>
            <a:ext cx="5645160" cy="4370400"/>
            <a:chOff x="2843280" y="1916280"/>
            <a:chExt cx="5645160" cy="4370400"/>
          </a:xfrm>
        </p:grpSpPr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6516720" y="4641840"/>
              <a:ext cx="19717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5"/>
            <a:stretch/>
          </p:blipFill>
          <p:spPr>
            <a:xfrm>
              <a:off x="2843280" y="1916280"/>
              <a:ext cx="3170160" cy="2396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1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40720" y="68580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95280" y="476280"/>
            <a:ext cx="8093160" cy="5810400"/>
            <a:chOff x="395280" y="476280"/>
            <a:chExt cx="8093160" cy="581040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6516720" y="4641840"/>
              <a:ext cx="19717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395280" y="476280"/>
              <a:ext cx="2448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3419640" y="2421000"/>
              <a:ext cx="2592360" cy="1960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0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395280" y="476280"/>
            <a:ext cx="8221680" cy="5810400"/>
            <a:chOff x="395280" y="476280"/>
            <a:chExt cx="8221680" cy="58104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516720" y="4641840"/>
              <a:ext cx="19717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395280" y="476280"/>
              <a:ext cx="2448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6659640" y="765000"/>
              <a:ext cx="195732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3419640" y="2421000"/>
              <a:ext cx="2592360" cy="1960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395280" y="476280"/>
            <a:ext cx="8221680" cy="5810400"/>
            <a:chOff x="395280" y="476280"/>
            <a:chExt cx="8221680" cy="5810400"/>
          </a:xfrm>
        </p:grpSpPr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6516720" y="4641840"/>
              <a:ext cx="19717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95280" y="476280"/>
              <a:ext cx="2448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6659640" y="765000"/>
              <a:ext cx="195732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3419640" y="2421000"/>
              <a:ext cx="2592360" cy="19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539640" y="4437000"/>
              <a:ext cx="2160720" cy="1258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1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395280" y="476280"/>
            <a:ext cx="8221680" cy="5810400"/>
            <a:chOff x="395280" y="476280"/>
            <a:chExt cx="8221680" cy="5810400"/>
          </a:xfrm>
        </p:grpSpPr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6516720" y="4641840"/>
              <a:ext cx="19717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395280" y="476280"/>
              <a:ext cx="2448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6659640" y="765000"/>
              <a:ext cx="195732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7"/>
            <a:stretch/>
          </p:blipFill>
          <p:spPr>
            <a:xfrm>
              <a:off x="3419640" y="2421000"/>
              <a:ext cx="2592360" cy="19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8"/>
            <a:stretch/>
          </p:blipFill>
          <p:spPr>
            <a:xfrm>
              <a:off x="539640" y="4437000"/>
              <a:ext cx="2160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9"/>
            <a:stretch/>
          </p:blipFill>
          <p:spPr>
            <a:xfrm>
              <a:off x="3924360" y="4653000"/>
              <a:ext cx="1944720" cy="1568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3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96360" y="68580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95280" y="333360"/>
            <a:ext cx="8221680" cy="5953320"/>
            <a:chOff x="395280" y="333360"/>
            <a:chExt cx="8221680" cy="595332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924360" y="333360"/>
              <a:ext cx="2376360" cy="17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3419640" y="2421000"/>
              <a:ext cx="2592360" cy="19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6516720" y="4641840"/>
              <a:ext cx="19717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395280" y="476280"/>
              <a:ext cx="2448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8"/>
            <a:stretch/>
          </p:blipFill>
          <p:spPr>
            <a:xfrm>
              <a:off x="6659640" y="765000"/>
              <a:ext cx="195732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9"/>
            <a:stretch/>
          </p:blipFill>
          <p:spPr>
            <a:xfrm>
              <a:off x="539640" y="4437000"/>
              <a:ext cx="2160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0"/>
            <a:stretch/>
          </p:blipFill>
          <p:spPr>
            <a:xfrm>
              <a:off x="3924360" y="4653000"/>
              <a:ext cx="1944720" cy="1568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6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3:35:34Z</dcterms:created>
  <dc:creator>Викторенко</dc:creator>
  <dc:description/>
  <dc:language>en-US</dc:language>
  <cp:lastModifiedBy>Interbaby </cp:lastModifiedBy>
  <dcterms:modified xsi:type="dcterms:W3CDTF">2006-01-15T23:57:30Z</dcterms:modified>
  <cp:revision>3</cp:revision>
  <dc:subject/>
  <dc:title>0-10_машинки 11</dc:title>
</cp:coreProperties>
</file>