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35.png" ContentType="image/png"/>
  <Override PartName="/ppt/media/image7.png" ContentType="image/pn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png" ContentType="image/png"/>
  <Override PartName="/ppt/media/image39.jpeg" ContentType="image/jpeg"/>
  <Override PartName="/ppt/media/image14.jpeg" ContentType="image/jpeg"/>
  <Override PartName="/ppt/media/image41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6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D93-0558-43A2-8603-123C23F9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E5A-5CD9-4939-948D-A4A9472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A14-64BA-45B3-8081-E28A6D20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AE1-D5C3-4D72-945A-5D0B7244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034-65CE-4904-9540-92219FD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25A-48F0-47BF-AFFB-F908860B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06F-10C3-4430-8A44-ABF387F3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30A-5142-4D86-92D9-18EF03E5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615-F85D-4AAC-B21F-2DC0D536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05A-B9C7-464D-877A-81E6052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E5A-A3EB-4963-8353-B8A5CD0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2F8-1C1A-4900-B3F5-A0FD713D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ED1-8192-4B59-9BD0-B9A3E40B1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" Target="slide3.xml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1.jpeg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image" Target="../media/image3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24.jpeg"/><Relationship Id="rId11" Type="http://schemas.openxmlformats.org/officeDocument/2006/relationships/image" Target="../media/image33.jpeg"/><Relationship Id="rId12" Type="http://schemas.openxmlformats.org/officeDocument/2006/relationships/image" Target="../media/image22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1280" y="692280"/>
            <a:ext cx="53528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Математика</a:t>
            </a:r>
            <a:endParaRPr b="1" i="1" lang="en-US" sz="40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2920" y="3068640"/>
            <a:ext cx="66978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ookman Old Style"/>
              </a:rPr>
              <a:t>"Осевая и центральная </a:t>
            </a:r>
            <a:endParaRPr b="1" i="1" lang="en-US" sz="4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11640" y="4437000"/>
            <a:ext cx="40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ookman Old Style"/>
              </a:rPr>
              <a:t>симметрии"</a:t>
            </a:r>
            <a:endParaRPr b="1" i="1" lang="en-US" sz="4400" spc="1" strike="noStrike">
              <a:ln w="9360">
                <a:solidFill>
                  <a:srgbClr val="00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1557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Impact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92360" y="4076640"/>
            <a:ext cx="1081080" cy="1800360"/>
          </a:xfrm>
          <a:prstGeom prst="cube">
            <a:avLst>
              <a:gd name="adj" fmla="val 25000"/>
            </a:avLst>
          </a:prstGeom>
          <a:blipFill rotWithShape="0">
            <a:blip r:embed="rId8">
              <a:alphaModFix amt="72000"/>
            </a:blip>
            <a:srcRect/>
            <a:stretch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724280"/>
            <a:ext cx="1224000" cy="1368720"/>
          </a:xfrm>
          <a:prstGeom prst="can">
            <a:avLst>
              <a:gd name="adj" fmla="val 25000"/>
            </a:avLst>
          </a:prstGeom>
          <a:blipFill rotWithShape="0">
            <a:blip r:embed="rId9">
              <a:alphaModFix amt="62000"/>
            </a:blip>
            <a:srcRect/>
            <a:stretch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5013360"/>
            <a:ext cx="1944720" cy="107964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257960" y="1433520"/>
            <a:ext cx="1203480" cy="1122480"/>
            <a:chOff x="7257960" y="1433520"/>
            <a:chExt cx="1203480" cy="1122480"/>
          </a:xfrm>
        </p:grpSpPr>
        <p:sp>
          <p:nvSpPr>
            <p:cNvPr id="50" name=""/>
            <p:cNvSpPr/>
            <p:nvPr/>
          </p:nvSpPr>
          <p:spPr>
            <a:xfrm>
              <a:off x="7257960" y="1433520"/>
              <a:ext cx="1203480" cy="1122480"/>
            </a:xfrm>
            <a:custGeom>
              <a:avLst/>
              <a:gdLst/>
              <a:ahLst/>
              <a:rect l="l" t="t" r="r" b="b"/>
              <a:pathLst>
                <a:path w="2128" h="2184">
                  <a:moveTo>
                    <a:pt x="1064" y="2184"/>
                  </a:moveTo>
                  <a:lnTo>
                    <a:pt x="1174" y="2177"/>
                  </a:lnTo>
                  <a:lnTo>
                    <a:pt x="1278" y="2161"/>
                  </a:lnTo>
                  <a:lnTo>
                    <a:pt x="1381" y="2135"/>
                  </a:lnTo>
                  <a:lnTo>
                    <a:pt x="1479" y="2097"/>
                  </a:lnTo>
                  <a:lnTo>
                    <a:pt x="1570" y="2052"/>
                  </a:lnTo>
                  <a:lnTo>
                    <a:pt x="1657" y="1997"/>
                  </a:lnTo>
                  <a:lnTo>
                    <a:pt x="1742" y="1936"/>
                  </a:lnTo>
                  <a:lnTo>
                    <a:pt x="1818" y="1865"/>
                  </a:lnTo>
                  <a:lnTo>
                    <a:pt x="1887" y="1788"/>
                  </a:lnTo>
                  <a:lnTo>
                    <a:pt x="1946" y="1701"/>
                  </a:lnTo>
                  <a:lnTo>
                    <a:pt x="2000" y="1610"/>
                  </a:lnTo>
                  <a:lnTo>
                    <a:pt x="2044" y="1517"/>
                  </a:lnTo>
                  <a:lnTo>
                    <a:pt x="2081" y="1417"/>
                  </a:lnTo>
                  <a:lnTo>
                    <a:pt x="2106" y="1311"/>
                  </a:lnTo>
                  <a:lnTo>
                    <a:pt x="2122" y="1205"/>
                  </a:lnTo>
                  <a:lnTo>
                    <a:pt x="2128" y="1092"/>
                  </a:lnTo>
                  <a:lnTo>
                    <a:pt x="2122" y="979"/>
                  </a:lnTo>
                  <a:lnTo>
                    <a:pt x="2106" y="873"/>
                  </a:lnTo>
                  <a:lnTo>
                    <a:pt x="2081" y="767"/>
                  </a:lnTo>
                  <a:lnTo>
                    <a:pt x="2044" y="667"/>
                  </a:lnTo>
                  <a:lnTo>
                    <a:pt x="2000" y="573"/>
                  </a:lnTo>
                  <a:lnTo>
                    <a:pt x="1946" y="483"/>
                  </a:lnTo>
                  <a:lnTo>
                    <a:pt x="1887" y="396"/>
                  </a:lnTo>
                  <a:lnTo>
                    <a:pt x="1818" y="319"/>
                  </a:lnTo>
                  <a:lnTo>
                    <a:pt x="1742" y="248"/>
                  </a:lnTo>
                  <a:lnTo>
                    <a:pt x="1657" y="187"/>
                  </a:lnTo>
                  <a:lnTo>
                    <a:pt x="1570" y="132"/>
                  </a:lnTo>
                  <a:lnTo>
                    <a:pt x="1479" y="87"/>
                  </a:lnTo>
                  <a:lnTo>
                    <a:pt x="1381" y="48"/>
                  </a:lnTo>
                  <a:lnTo>
                    <a:pt x="1278" y="23"/>
                  </a:lnTo>
                  <a:lnTo>
                    <a:pt x="1174" y="7"/>
                  </a:lnTo>
                  <a:lnTo>
                    <a:pt x="1064" y="0"/>
                  </a:lnTo>
                  <a:lnTo>
                    <a:pt x="954" y="7"/>
                  </a:lnTo>
                  <a:lnTo>
                    <a:pt x="851" y="23"/>
                  </a:lnTo>
                  <a:lnTo>
                    <a:pt x="747" y="48"/>
                  </a:lnTo>
                  <a:lnTo>
                    <a:pt x="650" y="87"/>
                  </a:lnTo>
                  <a:lnTo>
                    <a:pt x="559" y="132"/>
                  </a:lnTo>
                  <a:lnTo>
                    <a:pt x="471" y="187"/>
                  </a:lnTo>
                  <a:lnTo>
                    <a:pt x="386" y="248"/>
                  </a:lnTo>
                  <a:lnTo>
                    <a:pt x="311" y="319"/>
                  </a:lnTo>
                  <a:lnTo>
                    <a:pt x="242" y="396"/>
                  </a:lnTo>
                  <a:lnTo>
                    <a:pt x="182" y="483"/>
                  </a:lnTo>
                  <a:lnTo>
                    <a:pt x="129" y="573"/>
                  </a:lnTo>
                  <a:lnTo>
                    <a:pt x="85" y="667"/>
                  </a:lnTo>
                  <a:lnTo>
                    <a:pt x="47" y="767"/>
                  </a:lnTo>
                  <a:lnTo>
                    <a:pt x="22" y="873"/>
                  </a:lnTo>
                  <a:lnTo>
                    <a:pt x="6" y="979"/>
                  </a:lnTo>
                  <a:lnTo>
                    <a:pt x="0" y="1092"/>
                  </a:lnTo>
                  <a:lnTo>
                    <a:pt x="6" y="1205"/>
                  </a:lnTo>
                  <a:lnTo>
                    <a:pt x="22" y="1311"/>
                  </a:lnTo>
                  <a:lnTo>
                    <a:pt x="47" y="1417"/>
                  </a:lnTo>
                  <a:lnTo>
                    <a:pt x="85" y="1517"/>
                  </a:lnTo>
                  <a:lnTo>
                    <a:pt x="129" y="1610"/>
                  </a:lnTo>
                  <a:lnTo>
                    <a:pt x="182" y="1701"/>
                  </a:lnTo>
                  <a:lnTo>
                    <a:pt x="242" y="1788"/>
                  </a:lnTo>
                  <a:lnTo>
                    <a:pt x="311" y="1865"/>
                  </a:lnTo>
                  <a:lnTo>
                    <a:pt x="386" y="1936"/>
                  </a:lnTo>
                  <a:lnTo>
                    <a:pt x="471" y="1997"/>
                  </a:lnTo>
                  <a:lnTo>
                    <a:pt x="559" y="2052"/>
                  </a:lnTo>
                  <a:lnTo>
                    <a:pt x="650" y="2097"/>
                  </a:lnTo>
                  <a:lnTo>
                    <a:pt x="747" y="2135"/>
                  </a:lnTo>
                  <a:lnTo>
                    <a:pt x="851" y="2161"/>
                  </a:lnTo>
                  <a:lnTo>
                    <a:pt x="954" y="2177"/>
                  </a:lnTo>
                  <a:lnTo>
                    <a:pt x="1064" y="2184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7310520" y="1488960"/>
              <a:ext cx="1089720" cy="1016640"/>
              <a:chOff x="7310520" y="1488960"/>
              <a:chExt cx="1089720" cy="1016640"/>
            </a:xfrm>
          </p:grpSpPr>
          <p:sp>
            <p:nvSpPr>
              <p:cNvPr id="52" name=""/>
              <p:cNvSpPr/>
              <p:nvPr/>
            </p:nvSpPr>
            <p:spPr>
              <a:xfrm>
                <a:off x="7310520" y="1488960"/>
                <a:ext cx="1089720" cy="1016640"/>
              </a:xfrm>
              <a:custGeom>
                <a:avLst/>
                <a:gdLst/>
                <a:ahLst/>
                <a:rect l="l" t="t" r="r" b="b"/>
                <a:pathLst>
                  <a:path w="1927" h="1978">
                    <a:moveTo>
                      <a:pt x="963" y="1978"/>
                    </a:moveTo>
                    <a:lnTo>
                      <a:pt x="1035" y="1974"/>
                    </a:lnTo>
                    <a:lnTo>
                      <a:pt x="1104" y="1968"/>
                    </a:lnTo>
                    <a:lnTo>
                      <a:pt x="1174" y="1955"/>
                    </a:lnTo>
                    <a:lnTo>
                      <a:pt x="1239" y="1936"/>
                    </a:lnTo>
                    <a:lnTo>
                      <a:pt x="1305" y="1913"/>
                    </a:lnTo>
                    <a:lnTo>
                      <a:pt x="1368" y="1888"/>
                    </a:lnTo>
                    <a:lnTo>
                      <a:pt x="1428" y="1855"/>
                    </a:lnTo>
                    <a:lnTo>
                      <a:pt x="1487" y="1820"/>
                    </a:lnTo>
                    <a:lnTo>
                      <a:pt x="1541" y="1781"/>
                    </a:lnTo>
                    <a:lnTo>
                      <a:pt x="1594" y="1736"/>
                    </a:lnTo>
                    <a:lnTo>
                      <a:pt x="1644" y="1691"/>
                    </a:lnTo>
                    <a:lnTo>
                      <a:pt x="1688" y="1640"/>
                    </a:lnTo>
                    <a:lnTo>
                      <a:pt x="1732" y="1585"/>
                    </a:lnTo>
                    <a:lnTo>
                      <a:pt x="1770" y="1530"/>
                    </a:lnTo>
                    <a:lnTo>
                      <a:pt x="1804" y="1469"/>
                    </a:lnTo>
                    <a:lnTo>
                      <a:pt x="1836" y="1408"/>
                    </a:lnTo>
                    <a:lnTo>
                      <a:pt x="1873" y="1311"/>
                    </a:lnTo>
                    <a:lnTo>
                      <a:pt x="1902" y="1208"/>
                    </a:lnTo>
                    <a:lnTo>
                      <a:pt x="1921" y="1098"/>
                    </a:lnTo>
                    <a:lnTo>
                      <a:pt x="1927" y="989"/>
                    </a:lnTo>
                    <a:lnTo>
                      <a:pt x="1921" y="889"/>
                    </a:lnTo>
                    <a:lnTo>
                      <a:pt x="1908" y="789"/>
                    </a:lnTo>
                    <a:lnTo>
                      <a:pt x="1883" y="696"/>
                    </a:lnTo>
                    <a:lnTo>
                      <a:pt x="1852" y="602"/>
                    </a:lnTo>
                    <a:lnTo>
                      <a:pt x="1811" y="515"/>
                    </a:lnTo>
                    <a:lnTo>
                      <a:pt x="1760" y="435"/>
                    </a:lnTo>
                    <a:lnTo>
                      <a:pt x="1707" y="361"/>
                    </a:lnTo>
                    <a:lnTo>
                      <a:pt x="1644" y="290"/>
                    </a:lnTo>
                    <a:lnTo>
                      <a:pt x="1575" y="226"/>
                    </a:lnTo>
                    <a:lnTo>
                      <a:pt x="1500" y="168"/>
                    </a:lnTo>
                    <a:lnTo>
                      <a:pt x="1421" y="119"/>
                    </a:lnTo>
                    <a:lnTo>
                      <a:pt x="1337" y="77"/>
                    </a:lnTo>
                    <a:lnTo>
                      <a:pt x="1249" y="45"/>
                    </a:lnTo>
                    <a:lnTo>
                      <a:pt x="1158" y="19"/>
                    </a:lnTo>
                    <a:lnTo>
                      <a:pt x="1061" y="7"/>
                    </a:lnTo>
                    <a:lnTo>
                      <a:pt x="963" y="0"/>
                    </a:lnTo>
                    <a:lnTo>
                      <a:pt x="926" y="0"/>
                    </a:lnTo>
                    <a:lnTo>
                      <a:pt x="885" y="3"/>
                    </a:lnTo>
                    <a:lnTo>
                      <a:pt x="847" y="7"/>
                    </a:lnTo>
                    <a:lnTo>
                      <a:pt x="809" y="13"/>
                    </a:lnTo>
                    <a:lnTo>
                      <a:pt x="772" y="19"/>
                    </a:lnTo>
                    <a:lnTo>
                      <a:pt x="734" y="26"/>
                    </a:lnTo>
                    <a:lnTo>
                      <a:pt x="696" y="36"/>
                    </a:lnTo>
                    <a:lnTo>
                      <a:pt x="662" y="48"/>
                    </a:lnTo>
                    <a:lnTo>
                      <a:pt x="590" y="77"/>
                    </a:lnTo>
                    <a:lnTo>
                      <a:pt x="524" y="110"/>
                    </a:lnTo>
                    <a:lnTo>
                      <a:pt x="458" y="148"/>
                    </a:lnTo>
                    <a:lnTo>
                      <a:pt x="395" y="190"/>
                    </a:lnTo>
                    <a:lnTo>
                      <a:pt x="339" y="235"/>
                    </a:lnTo>
                    <a:lnTo>
                      <a:pt x="282" y="290"/>
                    </a:lnTo>
                    <a:lnTo>
                      <a:pt x="232" y="345"/>
                    </a:lnTo>
                    <a:lnTo>
                      <a:pt x="185" y="403"/>
                    </a:lnTo>
                    <a:lnTo>
                      <a:pt x="144" y="467"/>
                    </a:lnTo>
                    <a:lnTo>
                      <a:pt x="106" y="535"/>
                    </a:lnTo>
                    <a:lnTo>
                      <a:pt x="75" y="602"/>
                    </a:lnTo>
                    <a:lnTo>
                      <a:pt x="50" y="677"/>
                    </a:lnTo>
                    <a:lnTo>
                      <a:pt x="28" y="751"/>
                    </a:lnTo>
                    <a:lnTo>
                      <a:pt x="12" y="828"/>
                    </a:lnTo>
                    <a:lnTo>
                      <a:pt x="3" y="908"/>
                    </a:lnTo>
                    <a:lnTo>
                      <a:pt x="0" y="989"/>
                    </a:lnTo>
                    <a:lnTo>
                      <a:pt x="6" y="1089"/>
                    </a:lnTo>
                    <a:lnTo>
                      <a:pt x="18" y="1189"/>
                    </a:lnTo>
                    <a:lnTo>
                      <a:pt x="44" y="1282"/>
                    </a:lnTo>
                    <a:lnTo>
                      <a:pt x="75" y="1375"/>
                    </a:lnTo>
                    <a:lnTo>
                      <a:pt x="116" y="1462"/>
                    </a:lnTo>
                    <a:lnTo>
                      <a:pt x="166" y="1543"/>
                    </a:lnTo>
                    <a:lnTo>
                      <a:pt x="219" y="1617"/>
                    </a:lnTo>
                    <a:lnTo>
                      <a:pt x="282" y="1688"/>
                    </a:lnTo>
                    <a:lnTo>
                      <a:pt x="351" y="1752"/>
                    </a:lnTo>
                    <a:lnTo>
                      <a:pt x="426" y="1810"/>
                    </a:lnTo>
                    <a:lnTo>
                      <a:pt x="505" y="1859"/>
                    </a:lnTo>
                    <a:lnTo>
                      <a:pt x="590" y="1900"/>
                    </a:lnTo>
                    <a:lnTo>
                      <a:pt x="678" y="1933"/>
                    </a:lnTo>
                    <a:lnTo>
                      <a:pt x="769" y="1958"/>
                    </a:lnTo>
                    <a:lnTo>
                      <a:pt x="866" y="1971"/>
                    </a:lnTo>
                    <a:lnTo>
                      <a:pt x="963" y="1978"/>
                    </a:lnTo>
                    <a:close/>
                  </a:path>
                </a:pathLst>
              </a:custGeom>
              <a:solidFill>
                <a:srgbClr val="ff1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374240" y="1591560"/>
                <a:ext cx="878040" cy="867600"/>
              </a:xfrm>
              <a:custGeom>
                <a:avLst/>
                <a:gdLst/>
                <a:ahLst/>
                <a:rect l="l" t="t" r="r" b="b"/>
                <a:pathLst>
                  <a:path w="1553" h="1688">
                    <a:moveTo>
                      <a:pt x="379" y="0"/>
                    </a:moveTo>
                    <a:lnTo>
                      <a:pt x="317" y="125"/>
                    </a:lnTo>
                    <a:lnTo>
                      <a:pt x="282" y="267"/>
                    </a:lnTo>
                    <a:lnTo>
                      <a:pt x="270" y="415"/>
                    </a:lnTo>
                    <a:lnTo>
                      <a:pt x="279" y="563"/>
                    </a:lnTo>
                    <a:lnTo>
                      <a:pt x="304" y="708"/>
                    </a:lnTo>
                    <a:lnTo>
                      <a:pt x="345" y="844"/>
                    </a:lnTo>
                    <a:lnTo>
                      <a:pt x="401" y="963"/>
                    </a:lnTo>
                    <a:lnTo>
                      <a:pt x="464" y="1059"/>
                    </a:lnTo>
                    <a:lnTo>
                      <a:pt x="492" y="1095"/>
                    </a:lnTo>
                    <a:lnTo>
                      <a:pt x="527" y="1134"/>
                    </a:lnTo>
                    <a:lnTo>
                      <a:pt x="568" y="1172"/>
                    </a:lnTo>
                    <a:lnTo>
                      <a:pt x="612" y="1211"/>
                    </a:lnTo>
                    <a:lnTo>
                      <a:pt x="662" y="1250"/>
                    </a:lnTo>
                    <a:lnTo>
                      <a:pt x="715" y="1288"/>
                    </a:lnTo>
                    <a:lnTo>
                      <a:pt x="775" y="1324"/>
                    </a:lnTo>
                    <a:lnTo>
                      <a:pt x="841" y="1356"/>
                    </a:lnTo>
                    <a:lnTo>
                      <a:pt x="910" y="1382"/>
                    </a:lnTo>
                    <a:lnTo>
                      <a:pt x="985" y="1404"/>
                    </a:lnTo>
                    <a:lnTo>
                      <a:pt x="1067" y="1420"/>
                    </a:lnTo>
                    <a:lnTo>
                      <a:pt x="1152" y="1430"/>
                    </a:lnTo>
                    <a:lnTo>
                      <a:pt x="1243" y="1430"/>
                    </a:lnTo>
                    <a:lnTo>
                      <a:pt x="1340" y="1423"/>
                    </a:lnTo>
                    <a:lnTo>
                      <a:pt x="1443" y="1404"/>
                    </a:lnTo>
                    <a:lnTo>
                      <a:pt x="1553" y="1375"/>
                    </a:lnTo>
                    <a:lnTo>
                      <a:pt x="1503" y="1427"/>
                    </a:lnTo>
                    <a:lnTo>
                      <a:pt x="1443" y="1478"/>
                    </a:lnTo>
                    <a:lnTo>
                      <a:pt x="1381" y="1526"/>
                    </a:lnTo>
                    <a:lnTo>
                      <a:pt x="1308" y="1568"/>
                    </a:lnTo>
                    <a:lnTo>
                      <a:pt x="1233" y="1607"/>
                    </a:lnTo>
                    <a:lnTo>
                      <a:pt x="1152" y="1639"/>
                    </a:lnTo>
                    <a:lnTo>
                      <a:pt x="1067" y="1662"/>
                    </a:lnTo>
                    <a:lnTo>
                      <a:pt x="982" y="1678"/>
                    </a:lnTo>
                    <a:lnTo>
                      <a:pt x="891" y="1688"/>
                    </a:lnTo>
                    <a:lnTo>
                      <a:pt x="800" y="1688"/>
                    </a:lnTo>
                    <a:lnTo>
                      <a:pt x="706" y="1675"/>
                    </a:lnTo>
                    <a:lnTo>
                      <a:pt x="612" y="1649"/>
                    </a:lnTo>
                    <a:lnTo>
                      <a:pt x="517" y="1613"/>
                    </a:lnTo>
                    <a:lnTo>
                      <a:pt x="426" y="1565"/>
                    </a:lnTo>
                    <a:lnTo>
                      <a:pt x="335" y="1501"/>
                    </a:lnTo>
                    <a:lnTo>
                      <a:pt x="248" y="1423"/>
                    </a:lnTo>
                    <a:lnTo>
                      <a:pt x="175" y="1343"/>
                    </a:lnTo>
                    <a:lnTo>
                      <a:pt x="119" y="1256"/>
                    </a:lnTo>
                    <a:lnTo>
                      <a:pt x="72" y="1159"/>
                    </a:lnTo>
                    <a:lnTo>
                      <a:pt x="37" y="1059"/>
                    </a:lnTo>
                    <a:lnTo>
                      <a:pt x="15" y="956"/>
                    </a:lnTo>
                    <a:lnTo>
                      <a:pt x="3" y="853"/>
                    </a:lnTo>
                    <a:lnTo>
                      <a:pt x="0" y="747"/>
                    </a:lnTo>
                    <a:lnTo>
                      <a:pt x="9" y="641"/>
                    </a:lnTo>
                    <a:lnTo>
                      <a:pt x="25" y="538"/>
                    </a:lnTo>
                    <a:lnTo>
                      <a:pt x="53" y="441"/>
                    </a:lnTo>
                    <a:lnTo>
                      <a:pt x="87" y="344"/>
                    </a:lnTo>
                    <a:lnTo>
                      <a:pt x="131" y="257"/>
                    </a:lnTo>
                    <a:lnTo>
                      <a:pt x="182" y="177"/>
                    </a:lnTo>
                    <a:lnTo>
                      <a:pt x="241" y="106"/>
                    </a:lnTo>
                    <a:lnTo>
                      <a:pt x="307" y="48"/>
                    </a:lnTo>
                    <a:lnTo>
                      <a:pt x="379" y="0"/>
                    </a:lnTo>
                    <a:close/>
                  </a:path>
                </a:pathLst>
              </a:custGeom>
              <a:solidFill>
                <a:srgbClr val="b2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10520" y="1513440"/>
                <a:ext cx="1038240" cy="992160"/>
              </a:xfrm>
              <a:custGeom>
                <a:avLst/>
                <a:gdLst/>
                <a:ahLst/>
                <a:rect l="l" t="t" r="r" b="b"/>
                <a:pathLst>
                  <a:path w="1836" h="1930">
                    <a:moveTo>
                      <a:pt x="1836" y="1360"/>
                    </a:moveTo>
                    <a:lnTo>
                      <a:pt x="1804" y="1421"/>
                    </a:lnTo>
                    <a:lnTo>
                      <a:pt x="1770" y="1482"/>
                    </a:lnTo>
                    <a:lnTo>
                      <a:pt x="1732" y="1537"/>
                    </a:lnTo>
                    <a:lnTo>
                      <a:pt x="1688" y="1592"/>
                    </a:lnTo>
                    <a:lnTo>
                      <a:pt x="1644" y="1643"/>
                    </a:lnTo>
                    <a:lnTo>
                      <a:pt x="1594" y="1688"/>
                    </a:lnTo>
                    <a:lnTo>
                      <a:pt x="1541" y="1733"/>
                    </a:lnTo>
                    <a:lnTo>
                      <a:pt x="1487" y="1772"/>
                    </a:lnTo>
                    <a:lnTo>
                      <a:pt x="1428" y="1807"/>
                    </a:lnTo>
                    <a:lnTo>
                      <a:pt x="1368" y="1840"/>
                    </a:lnTo>
                    <a:lnTo>
                      <a:pt x="1305" y="1865"/>
                    </a:lnTo>
                    <a:lnTo>
                      <a:pt x="1239" y="1888"/>
                    </a:lnTo>
                    <a:lnTo>
                      <a:pt x="1174" y="1907"/>
                    </a:lnTo>
                    <a:lnTo>
                      <a:pt x="1104" y="1920"/>
                    </a:lnTo>
                    <a:lnTo>
                      <a:pt x="1035" y="1926"/>
                    </a:lnTo>
                    <a:lnTo>
                      <a:pt x="963" y="1930"/>
                    </a:lnTo>
                    <a:lnTo>
                      <a:pt x="866" y="1923"/>
                    </a:lnTo>
                    <a:lnTo>
                      <a:pt x="769" y="1910"/>
                    </a:lnTo>
                    <a:lnTo>
                      <a:pt x="678" y="1885"/>
                    </a:lnTo>
                    <a:lnTo>
                      <a:pt x="590" y="1852"/>
                    </a:lnTo>
                    <a:lnTo>
                      <a:pt x="505" y="1811"/>
                    </a:lnTo>
                    <a:lnTo>
                      <a:pt x="426" y="1762"/>
                    </a:lnTo>
                    <a:lnTo>
                      <a:pt x="351" y="1704"/>
                    </a:lnTo>
                    <a:lnTo>
                      <a:pt x="282" y="1640"/>
                    </a:lnTo>
                    <a:lnTo>
                      <a:pt x="219" y="1569"/>
                    </a:lnTo>
                    <a:lnTo>
                      <a:pt x="166" y="1495"/>
                    </a:lnTo>
                    <a:lnTo>
                      <a:pt x="116" y="1414"/>
                    </a:lnTo>
                    <a:lnTo>
                      <a:pt x="75" y="1327"/>
                    </a:lnTo>
                    <a:lnTo>
                      <a:pt x="44" y="1234"/>
                    </a:lnTo>
                    <a:lnTo>
                      <a:pt x="18" y="1141"/>
                    </a:lnTo>
                    <a:lnTo>
                      <a:pt x="6" y="1041"/>
                    </a:lnTo>
                    <a:lnTo>
                      <a:pt x="0" y="941"/>
                    </a:lnTo>
                    <a:lnTo>
                      <a:pt x="3" y="860"/>
                    </a:lnTo>
                    <a:lnTo>
                      <a:pt x="12" y="780"/>
                    </a:lnTo>
                    <a:lnTo>
                      <a:pt x="28" y="703"/>
                    </a:lnTo>
                    <a:lnTo>
                      <a:pt x="50" y="629"/>
                    </a:lnTo>
                    <a:lnTo>
                      <a:pt x="75" y="554"/>
                    </a:lnTo>
                    <a:lnTo>
                      <a:pt x="106" y="487"/>
                    </a:lnTo>
                    <a:lnTo>
                      <a:pt x="144" y="419"/>
                    </a:lnTo>
                    <a:lnTo>
                      <a:pt x="185" y="355"/>
                    </a:lnTo>
                    <a:lnTo>
                      <a:pt x="232" y="297"/>
                    </a:lnTo>
                    <a:lnTo>
                      <a:pt x="282" y="242"/>
                    </a:lnTo>
                    <a:lnTo>
                      <a:pt x="339" y="187"/>
                    </a:lnTo>
                    <a:lnTo>
                      <a:pt x="395" y="142"/>
                    </a:lnTo>
                    <a:lnTo>
                      <a:pt x="458" y="100"/>
                    </a:lnTo>
                    <a:lnTo>
                      <a:pt x="524" y="62"/>
                    </a:lnTo>
                    <a:lnTo>
                      <a:pt x="590" y="29"/>
                    </a:lnTo>
                    <a:lnTo>
                      <a:pt x="662" y="0"/>
                    </a:lnTo>
                    <a:lnTo>
                      <a:pt x="637" y="13"/>
                    </a:lnTo>
                    <a:lnTo>
                      <a:pt x="612" y="29"/>
                    </a:lnTo>
                    <a:lnTo>
                      <a:pt x="587" y="49"/>
                    </a:lnTo>
                    <a:lnTo>
                      <a:pt x="565" y="71"/>
                    </a:lnTo>
                    <a:lnTo>
                      <a:pt x="543" y="91"/>
                    </a:lnTo>
                    <a:lnTo>
                      <a:pt x="521" y="113"/>
                    </a:lnTo>
                    <a:lnTo>
                      <a:pt x="505" y="133"/>
                    </a:lnTo>
                    <a:lnTo>
                      <a:pt x="492" y="152"/>
                    </a:lnTo>
                    <a:lnTo>
                      <a:pt x="420" y="200"/>
                    </a:lnTo>
                    <a:lnTo>
                      <a:pt x="354" y="258"/>
                    </a:lnTo>
                    <a:lnTo>
                      <a:pt x="295" y="329"/>
                    </a:lnTo>
                    <a:lnTo>
                      <a:pt x="244" y="409"/>
                    </a:lnTo>
                    <a:lnTo>
                      <a:pt x="200" y="496"/>
                    </a:lnTo>
                    <a:lnTo>
                      <a:pt x="166" y="593"/>
                    </a:lnTo>
                    <a:lnTo>
                      <a:pt x="138" y="690"/>
                    </a:lnTo>
                    <a:lnTo>
                      <a:pt x="122" y="793"/>
                    </a:lnTo>
                    <a:lnTo>
                      <a:pt x="113" y="899"/>
                    </a:lnTo>
                    <a:lnTo>
                      <a:pt x="116" y="1005"/>
                    </a:lnTo>
                    <a:lnTo>
                      <a:pt x="128" y="1108"/>
                    </a:lnTo>
                    <a:lnTo>
                      <a:pt x="150" y="1211"/>
                    </a:lnTo>
                    <a:lnTo>
                      <a:pt x="185" y="1311"/>
                    </a:lnTo>
                    <a:lnTo>
                      <a:pt x="232" y="1408"/>
                    </a:lnTo>
                    <a:lnTo>
                      <a:pt x="288" y="1495"/>
                    </a:lnTo>
                    <a:lnTo>
                      <a:pt x="361" y="1575"/>
                    </a:lnTo>
                    <a:lnTo>
                      <a:pt x="448" y="1653"/>
                    </a:lnTo>
                    <a:lnTo>
                      <a:pt x="539" y="1717"/>
                    </a:lnTo>
                    <a:lnTo>
                      <a:pt x="630" y="1765"/>
                    </a:lnTo>
                    <a:lnTo>
                      <a:pt x="725" y="1801"/>
                    </a:lnTo>
                    <a:lnTo>
                      <a:pt x="819" y="1827"/>
                    </a:lnTo>
                    <a:lnTo>
                      <a:pt x="913" y="1840"/>
                    </a:lnTo>
                    <a:lnTo>
                      <a:pt x="1004" y="1840"/>
                    </a:lnTo>
                    <a:lnTo>
                      <a:pt x="1095" y="1830"/>
                    </a:lnTo>
                    <a:lnTo>
                      <a:pt x="1180" y="1814"/>
                    </a:lnTo>
                    <a:lnTo>
                      <a:pt x="1265" y="1791"/>
                    </a:lnTo>
                    <a:lnTo>
                      <a:pt x="1346" y="1759"/>
                    </a:lnTo>
                    <a:lnTo>
                      <a:pt x="1421" y="1720"/>
                    </a:lnTo>
                    <a:lnTo>
                      <a:pt x="1494" y="1678"/>
                    </a:lnTo>
                    <a:lnTo>
                      <a:pt x="1556" y="1630"/>
                    </a:lnTo>
                    <a:lnTo>
                      <a:pt x="1616" y="1579"/>
                    </a:lnTo>
                    <a:lnTo>
                      <a:pt x="1666" y="1527"/>
                    </a:lnTo>
                    <a:lnTo>
                      <a:pt x="1685" y="1508"/>
                    </a:lnTo>
                    <a:lnTo>
                      <a:pt x="1707" y="1485"/>
                    </a:lnTo>
                    <a:lnTo>
                      <a:pt x="1732" y="1459"/>
                    </a:lnTo>
                    <a:lnTo>
                      <a:pt x="1757" y="1437"/>
                    </a:lnTo>
                    <a:lnTo>
                      <a:pt x="1782" y="1414"/>
                    </a:lnTo>
                    <a:lnTo>
                      <a:pt x="1804" y="1395"/>
                    </a:lnTo>
                    <a:lnTo>
                      <a:pt x="1823" y="1376"/>
                    </a:lnTo>
                    <a:lnTo>
                      <a:pt x="1836" y="1360"/>
                    </a:lnTo>
                    <a:close/>
                  </a:path>
                </a:pathLst>
              </a:custGeom>
              <a:solidFill>
                <a:srgbClr val="e00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526880" y="1513440"/>
                <a:ext cx="821880" cy="813240"/>
              </a:xfrm>
              <a:custGeom>
                <a:avLst/>
                <a:gdLst/>
                <a:ahLst/>
                <a:rect l="l" t="t" r="r" b="b"/>
                <a:pathLst>
                  <a:path w="1453" h="1582">
                    <a:moveTo>
                      <a:pt x="1453" y="1360"/>
                    </a:moveTo>
                    <a:lnTo>
                      <a:pt x="1440" y="1376"/>
                    </a:lnTo>
                    <a:lnTo>
                      <a:pt x="1421" y="1395"/>
                    </a:lnTo>
                    <a:lnTo>
                      <a:pt x="1399" y="1414"/>
                    </a:lnTo>
                    <a:lnTo>
                      <a:pt x="1374" y="1437"/>
                    </a:lnTo>
                    <a:lnTo>
                      <a:pt x="1349" y="1459"/>
                    </a:lnTo>
                    <a:lnTo>
                      <a:pt x="1324" y="1485"/>
                    </a:lnTo>
                    <a:lnTo>
                      <a:pt x="1302" y="1508"/>
                    </a:lnTo>
                    <a:lnTo>
                      <a:pt x="1283" y="1527"/>
                    </a:lnTo>
                    <a:lnTo>
                      <a:pt x="1173" y="1556"/>
                    </a:lnTo>
                    <a:lnTo>
                      <a:pt x="1070" y="1575"/>
                    </a:lnTo>
                    <a:lnTo>
                      <a:pt x="973" y="1582"/>
                    </a:lnTo>
                    <a:lnTo>
                      <a:pt x="882" y="1582"/>
                    </a:lnTo>
                    <a:lnTo>
                      <a:pt x="797" y="1572"/>
                    </a:lnTo>
                    <a:lnTo>
                      <a:pt x="715" y="1556"/>
                    </a:lnTo>
                    <a:lnTo>
                      <a:pt x="640" y="1534"/>
                    </a:lnTo>
                    <a:lnTo>
                      <a:pt x="571" y="1508"/>
                    </a:lnTo>
                    <a:lnTo>
                      <a:pt x="505" y="1476"/>
                    </a:lnTo>
                    <a:lnTo>
                      <a:pt x="445" y="1440"/>
                    </a:lnTo>
                    <a:lnTo>
                      <a:pt x="392" y="1402"/>
                    </a:lnTo>
                    <a:lnTo>
                      <a:pt x="342" y="1363"/>
                    </a:lnTo>
                    <a:lnTo>
                      <a:pt x="298" y="1324"/>
                    </a:lnTo>
                    <a:lnTo>
                      <a:pt x="257" y="1286"/>
                    </a:lnTo>
                    <a:lnTo>
                      <a:pt x="222" y="1247"/>
                    </a:lnTo>
                    <a:lnTo>
                      <a:pt x="194" y="1211"/>
                    </a:lnTo>
                    <a:lnTo>
                      <a:pt x="131" y="1115"/>
                    </a:lnTo>
                    <a:lnTo>
                      <a:pt x="75" y="996"/>
                    </a:lnTo>
                    <a:lnTo>
                      <a:pt x="34" y="860"/>
                    </a:lnTo>
                    <a:lnTo>
                      <a:pt x="9" y="715"/>
                    </a:lnTo>
                    <a:lnTo>
                      <a:pt x="0" y="567"/>
                    </a:lnTo>
                    <a:lnTo>
                      <a:pt x="12" y="419"/>
                    </a:lnTo>
                    <a:lnTo>
                      <a:pt x="47" y="277"/>
                    </a:lnTo>
                    <a:lnTo>
                      <a:pt x="109" y="152"/>
                    </a:lnTo>
                    <a:lnTo>
                      <a:pt x="122" y="133"/>
                    </a:lnTo>
                    <a:lnTo>
                      <a:pt x="138" y="113"/>
                    </a:lnTo>
                    <a:lnTo>
                      <a:pt x="160" y="91"/>
                    </a:lnTo>
                    <a:lnTo>
                      <a:pt x="182" y="71"/>
                    </a:lnTo>
                    <a:lnTo>
                      <a:pt x="204" y="49"/>
                    </a:lnTo>
                    <a:lnTo>
                      <a:pt x="229" y="29"/>
                    </a:lnTo>
                    <a:lnTo>
                      <a:pt x="254" y="13"/>
                    </a:lnTo>
                    <a:lnTo>
                      <a:pt x="279" y="0"/>
                    </a:lnTo>
                    <a:lnTo>
                      <a:pt x="207" y="113"/>
                    </a:lnTo>
                    <a:lnTo>
                      <a:pt x="153" y="248"/>
                    </a:lnTo>
                    <a:lnTo>
                      <a:pt x="122" y="400"/>
                    </a:lnTo>
                    <a:lnTo>
                      <a:pt x="113" y="561"/>
                    </a:lnTo>
                    <a:lnTo>
                      <a:pt x="125" y="725"/>
                    </a:lnTo>
                    <a:lnTo>
                      <a:pt x="156" y="883"/>
                    </a:lnTo>
                    <a:lnTo>
                      <a:pt x="213" y="1028"/>
                    </a:lnTo>
                    <a:lnTo>
                      <a:pt x="291" y="1154"/>
                    </a:lnTo>
                    <a:lnTo>
                      <a:pt x="339" y="1208"/>
                    </a:lnTo>
                    <a:lnTo>
                      <a:pt x="389" y="1257"/>
                    </a:lnTo>
                    <a:lnTo>
                      <a:pt x="445" y="1305"/>
                    </a:lnTo>
                    <a:lnTo>
                      <a:pt x="505" y="1347"/>
                    </a:lnTo>
                    <a:lnTo>
                      <a:pt x="568" y="1385"/>
                    </a:lnTo>
                    <a:lnTo>
                      <a:pt x="634" y="1418"/>
                    </a:lnTo>
                    <a:lnTo>
                      <a:pt x="706" y="1443"/>
                    </a:lnTo>
                    <a:lnTo>
                      <a:pt x="778" y="1463"/>
                    </a:lnTo>
                    <a:lnTo>
                      <a:pt x="856" y="1476"/>
                    </a:lnTo>
                    <a:lnTo>
                      <a:pt x="935" y="1485"/>
                    </a:lnTo>
                    <a:lnTo>
                      <a:pt x="1017" y="1485"/>
                    </a:lnTo>
                    <a:lnTo>
                      <a:pt x="1101" y="1476"/>
                    </a:lnTo>
                    <a:lnTo>
                      <a:pt x="1186" y="1459"/>
                    </a:lnTo>
                    <a:lnTo>
                      <a:pt x="1274" y="1437"/>
                    </a:lnTo>
                    <a:lnTo>
                      <a:pt x="1362" y="1402"/>
                    </a:lnTo>
                    <a:lnTo>
                      <a:pt x="1453" y="1360"/>
                    </a:lnTo>
                    <a:close/>
                  </a:path>
                </a:pathLst>
              </a:custGeom>
              <a:solidFill>
                <a:srgbClr val="e000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6516720" y="855720"/>
            <a:ext cx="985680" cy="1731960"/>
            <a:chOff x="6516720" y="855720"/>
            <a:chExt cx="985680" cy="1731960"/>
          </a:xfrm>
        </p:grpSpPr>
        <p:sp>
          <p:nvSpPr>
            <p:cNvPr id="57" name=""/>
            <p:cNvSpPr/>
            <p:nvPr/>
          </p:nvSpPr>
          <p:spPr>
            <a:xfrm>
              <a:off x="6859440" y="2084400"/>
              <a:ext cx="21240" cy="213840"/>
            </a:xfrm>
            <a:custGeom>
              <a:avLst/>
              <a:gdLst/>
              <a:ahLst/>
              <a:rect l="l" t="t" r="r" b="b"/>
              <a:pathLst>
                <a:path w="38" h="416">
                  <a:moveTo>
                    <a:pt x="38" y="23"/>
                  </a:moveTo>
                  <a:lnTo>
                    <a:pt x="28" y="16"/>
                  </a:lnTo>
                  <a:lnTo>
                    <a:pt x="19" y="10"/>
                  </a:lnTo>
                  <a:lnTo>
                    <a:pt x="1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16"/>
                  </a:lnTo>
                  <a:lnTo>
                    <a:pt x="38" y="416"/>
                  </a:lnTo>
                  <a:lnTo>
                    <a:pt x="38" y="23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d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16720" y="855720"/>
              <a:ext cx="985680" cy="1731960"/>
            </a:xfrm>
            <a:custGeom>
              <a:avLst/>
              <a:gdLst/>
              <a:ahLst/>
              <a:rect l="l" t="t" r="r" b="b"/>
              <a:pathLst>
                <a:path w="1742" h="3369">
                  <a:moveTo>
                    <a:pt x="848" y="0"/>
                  </a:moveTo>
                  <a:lnTo>
                    <a:pt x="1742" y="2941"/>
                  </a:lnTo>
                  <a:lnTo>
                    <a:pt x="1720" y="3031"/>
                  </a:lnTo>
                  <a:lnTo>
                    <a:pt x="1670" y="3109"/>
                  </a:lnTo>
                  <a:lnTo>
                    <a:pt x="1589" y="3179"/>
                  </a:lnTo>
                  <a:lnTo>
                    <a:pt x="1485" y="3241"/>
                  </a:lnTo>
                  <a:lnTo>
                    <a:pt x="1363" y="3289"/>
                  </a:lnTo>
                  <a:lnTo>
                    <a:pt x="1224" y="3328"/>
                  </a:lnTo>
                  <a:lnTo>
                    <a:pt x="1077" y="3353"/>
                  </a:lnTo>
                  <a:lnTo>
                    <a:pt x="923" y="3366"/>
                  </a:lnTo>
                  <a:lnTo>
                    <a:pt x="766" y="3369"/>
                  </a:lnTo>
                  <a:lnTo>
                    <a:pt x="612" y="3357"/>
                  </a:lnTo>
                  <a:lnTo>
                    <a:pt x="468" y="3334"/>
                  </a:lnTo>
                  <a:lnTo>
                    <a:pt x="333" y="3295"/>
                  </a:lnTo>
                  <a:lnTo>
                    <a:pt x="217" y="3244"/>
                  </a:lnTo>
                  <a:lnTo>
                    <a:pt x="116" y="3176"/>
                  </a:lnTo>
                  <a:lnTo>
                    <a:pt x="44" y="3092"/>
                  </a:lnTo>
                  <a:lnTo>
                    <a:pt x="0" y="2996"/>
                  </a:lnTo>
                  <a:lnTo>
                    <a:pt x="848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6240" y="971640"/>
              <a:ext cx="452520" cy="1573200"/>
            </a:xfrm>
            <a:custGeom>
              <a:avLst/>
              <a:gdLst/>
              <a:ahLst/>
              <a:rect l="l" t="t" r="r" b="b"/>
              <a:pathLst>
                <a:path w="800" h="3060">
                  <a:moveTo>
                    <a:pt x="0" y="0"/>
                  </a:moveTo>
                  <a:lnTo>
                    <a:pt x="800" y="2738"/>
                  </a:lnTo>
                  <a:lnTo>
                    <a:pt x="788" y="2776"/>
                  </a:lnTo>
                  <a:lnTo>
                    <a:pt x="766" y="2815"/>
                  </a:lnTo>
                  <a:lnTo>
                    <a:pt x="741" y="2850"/>
                  </a:lnTo>
                  <a:lnTo>
                    <a:pt x="706" y="2879"/>
                  </a:lnTo>
                  <a:lnTo>
                    <a:pt x="668" y="2911"/>
                  </a:lnTo>
                  <a:lnTo>
                    <a:pt x="624" y="2937"/>
                  </a:lnTo>
                  <a:lnTo>
                    <a:pt x="574" y="2960"/>
                  </a:lnTo>
                  <a:lnTo>
                    <a:pt x="524" y="2982"/>
                  </a:lnTo>
                  <a:lnTo>
                    <a:pt x="464" y="3002"/>
                  </a:lnTo>
                  <a:lnTo>
                    <a:pt x="405" y="3018"/>
                  </a:lnTo>
                  <a:lnTo>
                    <a:pt x="342" y="3031"/>
                  </a:lnTo>
                  <a:lnTo>
                    <a:pt x="276" y="3040"/>
                  </a:lnTo>
                  <a:lnTo>
                    <a:pt x="210" y="3050"/>
                  </a:lnTo>
                  <a:lnTo>
                    <a:pt x="141" y="3056"/>
                  </a:lnTo>
                  <a:lnTo>
                    <a:pt x="69" y="3060"/>
                  </a:lnTo>
                  <a:lnTo>
                    <a:pt x="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a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52360" y="1142640"/>
              <a:ext cx="392400" cy="1342800"/>
            </a:xfrm>
            <a:custGeom>
              <a:avLst/>
              <a:gdLst/>
              <a:ahLst/>
              <a:rect l="l" t="t" r="r" b="b"/>
              <a:pathLst>
                <a:path w="694" h="2612">
                  <a:moveTo>
                    <a:pt x="0" y="2438"/>
                  </a:moveTo>
                  <a:lnTo>
                    <a:pt x="13" y="2464"/>
                  </a:lnTo>
                  <a:lnTo>
                    <a:pt x="31" y="2489"/>
                  </a:lnTo>
                  <a:lnTo>
                    <a:pt x="50" y="2512"/>
                  </a:lnTo>
                  <a:lnTo>
                    <a:pt x="72" y="2534"/>
                  </a:lnTo>
                  <a:lnTo>
                    <a:pt x="97" y="2557"/>
                  </a:lnTo>
                  <a:lnTo>
                    <a:pt x="126" y="2576"/>
                  </a:lnTo>
                  <a:lnTo>
                    <a:pt x="157" y="2596"/>
                  </a:lnTo>
                  <a:lnTo>
                    <a:pt x="188" y="2612"/>
                  </a:lnTo>
                  <a:lnTo>
                    <a:pt x="694" y="0"/>
                  </a:lnTo>
                  <a:lnTo>
                    <a:pt x="0" y="2438"/>
                  </a:lnTo>
                  <a:close/>
                </a:path>
              </a:pathLst>
            </a:custGeom>
            <a:solidFill>
              <a:srgbClr val="006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05880" y="971640"/>
              <a:ext cx="90360" cy="1573200"/>
            </a:xfrm>
            <a:custGeom>
              <a:avLst/>
              <a:gdLst/>
              <a:ahLst/>
              <a:rect l="l" t="t" r="r" b="b"/>
              <a:pathLst>
                <a:path w="160" h="3060">
                  <a:moveTo>
                    <a:pt x="160" y="0"/>
                  </a:moveTo>
                  <a:lnTo>
                    <a:pt x="160" y="3060"/>
                  </a:lnTo>
                  <a:lnTo>
                    <a:pt x="141" y="3060"/>
                  </a:lnTo>
                  <a:lnTo>
                    <a:pt x="119" y="3060"/>
                  </a:lnTo>
                  <a:lnTo>
                    <a:pt x="100" y="3060"/>
                  </a:lnTo>
                  <a:lnTo>
                    <a:pt x="81" y="3060"/>
                  </a:lnTo>
                  <a:lnTo>
                    <a:pt x="59" y="3060"/>
                  </a:lnTo>
                  <a:lnTo>
                    <a:pt x="41" y="3056"/>
                  </a:lnTo>
                  <a:lnTo>
                    <a:pt x="19" y="3056"/>
                  </a:lnTo>
                  <a:lnTo>
                    <a:pt x="0" y="3053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6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497720" y="260280"/>
            <a:ext cx="841320" cy="2219400"/>
            <a:chOff x="7497720" y="260280"/>
            <a:chExt cx="841320" cy="2219400"/>
          </a:xfrm>
        </p:grpSpPr>
        <p:sp>
          <p:nvSpPr>
            <p:cNvPr id="63" name=""/>
            <p:cNvSpPr/>
            <p:nvPr/>
          </p:nvSpPr>
          <p:spPr>
            <a:xfrm>
              <a:off x="7497720" y="260280"/>
              <a:ext cx="841320" cy="2219400"/>
            </a:xfrm>
            <a:custGeom>
              <a:avLst/>
              <a:gdLst/>
              <a:ahLst/>
              <a:rect l="l" t="t" r="r" b="b"/>
              <a:pathLst>
                <a:path w="1488" h="4319">
                  <a:moveTo>
                    <a:pt x="1450" y="3559"/>
                  </a:moveTo>
                  <a:lnTo>
                    <a:pt x="1394" y="3491"/>
                  </a:lnTo>
                  <a:lnTo>
                    <a:pt x="1350" y="3427"/>
                  </a:lnTo>
                  <a:lnTo>
                    <a:pt x="1315" y="3356"/>
                  </a:lnTo>
                  <a:lnTo>
                    <a:pt x="1296" y="3285"/>
                  </a:lnTo>
                  <a:lnTo>
                    <a:pt x="1284" y="3208"/>
                  </a:lnTo>
                  <a:lnTo>
                    <a:pt x="1281" y="3124"/>
                  </a:lnTo>
                  <a:lnTo>
                    <a:pt x="1287" y="3031"/>
                  </a:lnTo>
                  <a:lnTo>
                    <a:pt x="1296" y="2931"/>
                  </a:lnTo>
                  <a:lnTo>
                    <a:pt x="1099" y="2055"/>
                  </a:lnTo>
                  <a:lnTo>
                    <a:pt x="1488" y="2055"/>
                  </a:lnTo>
                  <a:lnTo>
                    <a:pt x="1488" y="1961"/>
                  </a:lnTo>
                  <a:lnTo>
                    <a:pt x="1080" y="1965"/>
                  </a:lnTo>
                  <a:lnTo>
                    <a:pt x="873" y="1050"/>
                  </a:lnTo>
                  <a:lnTo>
                    <a:pt x="791" y="1163"/>
                  </a:lnTo>
                  <a:lnTo>
                    <a:pt x="791" y="415"/>
                  </a:lnTo>
                  <a:lnTo>
                    <a:pt x="838" y="374"/>
                  </a:lnTo>
                  <a:lnTo>
                    <a:pt x="838" y="0"/>
                  </a:lnTo>
                  <a:lnTo>
                    <a:pt x="650" y="0"/>
                  </a:lnTo>
                  <a:lnTo>
                    <a:pt x="650" y="374"/>
                  </a:lnTo>
                  <a:lnTo>
                    <a:pt x="697" y="415"/>
                  </a:lnTo>
                  <a:lnTo>
                    <a:pt x="697" y="1163"/>
                  </a:lnTo>
                  <a:lnTo>
                    <a:pt x="615" y="1050"/>
                  </a:lnTo>
                  <a:lnTo>
                    <a:pt x="411" y="1965"/>
                  </a:lnTo>
                  <a:lnTo>
                    <a:pt x="0" y="1961"/>
                  </a:lnTo>
                  <a:lnTo>
                    <a:pt x="0" y="2055"/>
                  </a:lnTo>
                  <a:lnTo>
                    <a:pt x="389" y="2055"/>
                  </a:lnTo>
                  <a:lnTo>
                    <a:pt x="191" y="2931"/>
                  </a:lnTo>
                  <a:lnTo>
                    <a:pt x="201" y="3031"/>
                  </a:lnTo>
                  <a:lnTo>
                    <a:pt x="207" y="3124"/>
                  </a:lnTo>
                  <a:lnTo>
                    <a:pt x="204" y="3208"/>
                  </a:lnTo>
                  <a:lnTo>
                    <a:pt x="191" y="3285"/>
                  </a:lnTo>
                  <a:lnTo>
                    <a:pt x="173" y="3356"/>
                  </a:lnTo>
                  <a:lnTo>
                    <a:pt x="138" y="3427"/>
                  </a:lnTo>
                  <a:lnTo>
                    <a:pt x="94" y="3491"/>
                  </a:lnTo>
                  <a:lnTo>
                    <a:pt x="38" y="3559"/>
                  </a:lnTo>
                  <a:lnTo>
                    <a:pt x="38" y="4319"/>
                  </a:lnTo>
                  <a:lnTo>
                    <a:pt x="78" y="4139"/>
                  </a:lnTo>
                  <a:lnTo>
                    <a:pt x="100" y="4139"/>
                  </a:lnTo>
                  <a:lnTo>
                    <a:pt x="552" y="2052"/>
                  </a:lnTo>
                  <a:lnTo>
                    <a:pt x="694" y="2052"/>
                  </a:lnTo>
                  <a:lnTo>
                    <a:pt x="694" y="2261"/>
                  </a:lnTo>
                  <a:lnTo>
                    <a:pt x="794" y="2261"/>
                  </a:lnTo>
                  <a:lnTo>
                    <a:pt x="794" y="2052"/>
                  </a:lnTo>
                  <a:lnTo>
                    <a:pt x="794" y="1961"/>
                  </a:lnTo>
                  <a:lnTo>
                    <a:pt x="794" y="1752"/>
                  </a:lnTo>
                  <a:lnTo>
                    <a:pt x="694" y="1752"/>
                  </a:lnTo>
                  <a:lnTo>
                    <a:pt x="694" y="1961"/>
                  </a:lnTo>
                  <a:lnTo>
                    <a:pt x="571" y="1961"/>
                  </a:lnTo>
                  <a:lnTo>
                    <a:pt x="706" y="1337"/>
                  </a:lnTo>
                  <a:lnTo>
                    <a:pt x="785" y="1337"/>
                  </a:lnTo>
                  <a:lnTo>
                    <a:pt x="917" y="1961"/>
                  </a:lnTo>
                  <a:lnTo>
                    <a:pt x="794" y="1961"/>
                  </a:lnTo>
                  <a:lnTo>
                    <a:pt x="794" y="2052"/>
                  </a:lnTo>
                  <a:lnTo>
                    <a:pt x="938" y="2052"/>
                  </a:lnTo>
                  <a:lnTo>
                    <a:pt x="1387" y="4139"/>
                  </a:lnTo>
                  <a:lnTo>
                    <a:pt x="1412" y="4139"/>
                  </a:lnTo>
                  <a:lnTo>
                    <a:pt x="1450" y="4319"/>
                  </a:lnTo>
                  <a:lnTo>
                    <a:pt x="1450" y="3559"/>
                  </a:lnTo>
                  <a:lnTo>
                    <a:pt x="1372" y="3607"/>
                  </a:lnTo>
                  <a:lnTo>
                    <a:pt x="1369" y="3623"/>
                  </a:lnTo>
                  <a:lnTo>
                    <a:pt x="1362" y="3636"/>
                  </a:lnTo>
                  <a:lnTo>
                    <a:pt x="1350" y="3643"/>
                  </a:lnTo>
                  <a:lnTo>
                    <a:pt x="1337" y="3646"/>
                  </a:lnTo>
                  <a:lnTo>
                    <a:pt x="1321" y="3643"/>
                  </a:lnTo>
                  <a:lnTo>
                    <a:pt x="1309" y="3636"/>
                  </a:lnTo>
                  <a:lnTo>
                    <a:pt x="1303" y="3623"/>
                  </a:lnTo>
                  <a:lnTo>
                    <a:pt x="1299" y="3607"/>
                  </a:lnTo>
                  <a:lnTo>
                    <a:pt x="1303" y="3594"/>
                  </a:lnTo>
                  <a:lnTo>
                    <a:pt x="1309" y="3582"/>
                  </a:lnTo>
                  <a:lnTo>
                    <a:pt x="1321" y="3575"/>
                  </a:lnTo>
                  <a:lnTo>
                    <a:pt x="1337" y="3572"/>
                  </a:lnTo>
                  <a:lnTo>
                    <a:pt x="1350" y="3575"/>
                  </a:lnTo>
                  <a:lnTo>
                    <a:pt x="1362" y="3582"/>
                  </a:lnTo>
                  <a:lnTo>
                    <a:pt x="1369" y="3594"/>
                  </a:lnTo>
                  <a:lnTo>
                    <a:pt x="1372" y="3607"/>
                  </a:lnTo>
                  <a:lnTo>
                    <a:pt x="1450" y="3559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23080" y="483840"/>
              <a:ext cx="398160" cy="370440"/>
            </a:xfrm>
            <a:custGeom>
              <a:avLst/>
              <a:gdLst/>
              <a:ahLst/>
              <a:rect l="l" t="t" r="r" b="b"/>
              <a:pathLst>
                <a:path w="704" h="721">
                  <a:moveTo>
                    <a:pt x="352" y="90"/>
                  </a:moveTo>
                  <a:lnTo>
                    <a:pt x="299" y="96"/>
                  </a:lnTo>
                  <a:lnTo>
                    <a:pt x="248" y="112"/>
                  </a:lnTo>
                  <a:lnTo>
                    <a:pt x="201" y="135"/>
                  </a:lnTo>
                  <a:lnTo>
                    <a:pt x="164" y="167"/>
                  </a:lnTo>
                  <a:lnTo>
                    <a:pt x="132" y="209"/>
                  </a:lnTo>
                  <a:lnTo>
                    <a:pt x="107" y="254"/>
                  </a:lnTo>
                  <a:lnTo>
                    <a:pt x="91" y="306"/>
                  </a:lnTo>
                  <a:lnTo>
                    <a:pt x="85" y="360"/>
                  </a:lnTo>
                  <a:lnTo>
                    <a:pt x="91" y="415"/>
                  </a:lnTo>
                  <a:lnTo>
                    <a:pt x="107" y="467"/>
                  </a:lnTo>
                  <a:lnTo>
                    <a:pt x="132" y="515"/>
                  </a:lnTo>
                  <a:lnTo>
                    <a:pt x="164" y="554"/>
                  </a:lnTo>
                  <a:lnTo>
                    <a:pt x="201" y="586"/>
                  </a:lnTo>
                  <a:lnTo>
                    <a:pt x="248" y="612"/>
                  </a:lnTo>
                  <a:lnTo>
                    <a:pt x="299" y="628"/>
                  </a:lnTo>
                  <a:lnTo>
                    <a:pt x="352" y="634"/>
                  </a:lnTo>
                  <a:lnTo>
                    <a:pt x="405" y="628"/>
                  </a:lnTo>
                  <a:lnTo>
                    <a:pt x="456" y="612"/>
                  </a:lnTo>
                  <a:lnTo>
                    <a:pt x="503" y="586"/>
                  </a:lnTo>
                  <a:lnTo>
                    <a:pt x="540" y="554"/>
                  </a:lnTo>
                  <a:lnTo>
                    <a:pt x="572" y="515"/>
                  </a:lnTo>
                  <a:lnTo>
                    <a:pt x="597" y="467"/>
                  </a:lnTo>
                  <a:lnTo>
                    <a:pt x="613" y="415"/>
                  </a:lnTo>
                  <a:lnTo>
                    <a:pt x="619" y="360"/>
                  </a:lnTo>
                  <a:lnTo>
                    <a:pt x="613" y="306"/>
                  </a:lnTo>
                  <a:lnTo>
                    <a:pt x="597" y="254"/>
                  </a:lnTo>
                  <a:lnTo>
                    <a:pt x="572" y="209"/>
                  </a:lnTo>
                  <a:lnTo>
                    <a:pt x="540" y="167"/>
                  </a:lnTo>
                  <a:lnTo>
                    <a:pt x="503" y="135"/>
                  </a:lnTo>
                  <a:lnTo>
                    <a:pt x="456" y="112"/>
                  </a:lnTo>
                  <a:lnTo>
                    <a:pt x="405" y="96"/>
                  </a:lnTo>
                  <a:lnTo>
                    <a:pt x="352" y="90"/>
                  </a:lnTo>
                  <a:lnTo>
                    <a:pt x="352" y="0"/>
                  </a:lnTo>
                  <a:lnTo>
                    <a:pt x="424" y="6"/>
                  </a:lnTo>
                  <a:lnTo>
                    <a:pt x="490" y="29"/>
                  </a:lnTo>
                  <a:lnTo>
                    <a:pt x="550" y="61"/>
                  </a:lnTo>
                  <a:lnTo>
                    <a:pt x="600" y="106"/>
                  </a:lnTo>
                  <a:lnTo>
                    <a:pt x="644" y="158"/>
                  </a:lnTo>
                  <a:lnTo>
                    <a:pt x="675" y="219"/>
                  </a:lnTo>
                  <a:lnTo>
                    <a:pt x="697" y="286"/>
                  </a:lnTo>
                  <a:lnTo>
                    <a:pt x="704" y="360"/>
                  </a:lnTo>
                  <a:lnTo>
                    <a:pt x="697" y="435"/>
                  </a:lnTo>
                  <a:lnTo>
                    <a:pt x="675" y="502"/>
                  </a:lnTo>
                  <a:lnTo>
                    <a:pt x="644" y="563"/>
                  </a:lnTo>
                  <a:lnTo>
                    <a:pt x="600" y="615"/>
                  </a:lnTo>
                  <a:lnTo>
                    <a:pt x="550" y="660"/>
                  </a:lnTo>
                  <a:lnTo>
                    <a:pt x="490" y="692"/>
                  </a:lnTo>
                  <a:lnTo>
                    <a:pt x="424" y="715"/>
                  </a:lnTo>
                  <a:lnTo>
                    <a:pt x="352" y="721"/>
                  </a:lnTo>
                  <a:lnTo>
                    <a:pt x="280" y="715"/>
                  </a:lnTo>
                  <a:lnTo>
                    <a:pt x="214" y="692"/>
                  </a:lnTo>
                  <a:lnTo>
                    <a:pt x="154" y="660"/>
                  </a:lnTo>
                  <a:lnTo>
                    <a:pt x="104" y="615"/>
                  </a:lnTo>
                  <a:lnTo>
                    <a:pt x="60" y="563"/>
                  </a:lnTo>
                  <a:lnTo>
                    <a:pt x="29" y="502"/>
                  </a:lnTo>
                  <a:lnTo>
                    <a:pt x="7" y="435"/>
                  </a:lnTo>
                  <a:lnTo>
                    <a:pt x="0" y="360"/>
                  </a:lnTo>
                  <a:lnTo>
                    <a:pt x="7" y="286"/>
                  </a:lnTo>
                  <a:lnTo>
                    <a:pt x="29" y="219"/>
                  </a:lnTo>
                  <a:lnTo>
                    <a:pt x="60" y="158"/>
                  </a:lnTo>
                  <a:lnTo>
                    <a:pt x="104" y="106"/>
                  </a:lnTo>
                  <a:lnTo>
                    <a:pt x="154" y="61"/>
                  </a:lnTo>
                  <a:lnTo>
                    <a:pt x="214" y="29"/>
                  </a:lnTo>
                  <a:lnTo>
                    <a:pt x="280" y="6"/>
                  </a:lnTo>
                  <a:lnTo>
                    <a:pt x="352" y="0"/>
                  </a:lnTo>
                  <a:lnTo>
                    <a:pt x="352" y="9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3409920"/>
            <a:ext cx="51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2557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Bookman Old Style"/>
              </a:rPr>
              <a:t>Отметим на листе бумаги произ-вольные точки </a:t>
            </a:r>
            <a:r>
              <a:rPr b="1" i="1" lang="en-US" sz="1800" spc="-1" strike="noStrike">
                <a:solidFill>
                  <a:srgbClr val="6600ff"/>
                </a:solidFill>
                <a:latin typeface="Bookman Old Style"/>
              </a:rPr>
              <a:t>O</a:t>
            </a:r>
            <a:r>
              <a:rPr b="1" lang="ru-RU" sz="1800" spc="-1" strike="noStrike">
                <a:solidFill>
                  <a:srgbClr val="6600ff"/>
                </a:solidFill>
                <a:latin typeface="Bookman Old Style"/>
              </a:rPr>
              <a:t> и </a:t>
            </a:r>
            <a:r>
              <a:rPr b="1" i="1" lang="en-US" sz="1800" spc="-1" strike="noStrike">
                <a:solidFill>
                  <a:srgbClr val="6600ff"/>
                </a:solidFill>
                <a:latin typeface="Bookman Old Style"/>
              </a:rPr>
              <a:t>A</a:t>
            </a:r>
            <a:r>
              <a:rPr b="1" lang="ru-RU" sz="1800" spc="-1" strike="noStrike">
                <a:solidFill>
                  <a:srgbClr val="6600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3413160"/>
            <a:ext cx="48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Bookman Old Style"/>
              </a:rPr>
              <a:t>Проведём через точки прямую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1800" spc="-1" strike="noStrike">
                <a:solidFill>
                  <a:srgbClr val="6600ff"/>
                </a:solidFill>
                <a:latin typeface="Bookman Old Style"/>
              </a:rPr>
              <a:t>OA</a:t>
            </a:r>
            <a:r>
              <a:rPr b="1" lang="ru-RU" sz="1800" spc="-1" strike="noStrike">
                <a:solidFill>
                  <a:srgbClr val="6600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313160" y="3959280"/>
            <a:ext cx="4465800" cy="2400840"/>
            <a:chOff x="4313160" y="3959280"/>
            <a:chExt cx="4465800" cy="2400840"/>
          </a:xfrm>
        </p:grpSpPr>
        <p:sp>
          <p:nvSpPr>
            <p:cNvPr id="244" name=""/>
            <p:cNvSpPr/>
            <p:nvPr/>
          </p:nvSpPr>
          <p:spPr>
            <a:xfrm>
              <a:off x="4313160" y="3959280"/>
              <a:ext cx="4465800" cy="24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На этой прямой отложим от точ</a:t>
              </a:r>
              <a:r>
                <a:rPr b="1" lang="en-US" sz="1800" spc="-1" strike="noStrike">
                  <a:solidFill>
                    <a:srgbClr val="6600ff"/>
                  </a:solidFill>
                  <a:latin typeface="Bookman Old Style"/>
                </a:rPr>
                <a:t>-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ки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O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 отрезок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OA</a:t>
              </a:r>
              <a:r>
                <a:rPr b="1" i="1" lang="en-US" sz="1800" spc="-1" strike="noStrike" baseline="-25000">
                  <a:solidFill>
                    <a:srgbClr val="6600ff"/>
                  </a:solidFill>
                  <a:latin typeface="Bookman Old Style"/>
                </a:rPr>
                <a:t>1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, равный отрез</a:t>
              </a:r>
              <a:r>
                <a:rPr b="1" lang="en-US" sz="1800" spc="-1" strike="noStrike">
                  <a:solidFill>
                    <a:srgbClr val="6600ff"/>
                  </a:solidFill>
                  <a:latin typeface="Bookman Old Style"/>
                </a:rPr>
                <a:t>-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ку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AO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, но по другую сторону от точки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O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. Получим развёрнутый угол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AOA</a:t>
              </a:r>
              <a:r>
                <a:rPr b="1" i="1" lang="en-US" sz="1800" spc="-1" strike="noStrike" baseline="-25000">
                  <a:solidFill>
                    <a:srgbClr val="6600ff"/>
                  </a:solidFill>
                  <a:latin typeface="Bookman Old Style"/>
                </a:rPr>
                <a:t>1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. Это значит, что точку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A</a:t>
              </a:r>
              <a:r>
                <a:rPr b="1" i="1" lang="ru-RU" sz="1800" spc="-1" strike="noStrike" baseline="-25000">
                  <a:solidFill>
                    <a:srgbClr val="6600ff"/>
                  </a:solidFill>
                  <a:latin typeface="Bookman Old Style"/>
                </a:rPr>
                <a:t>1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, можно получить поворотом точки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A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 на 180</a:t>
              </a:r>
              <a:r>
                <a:rPr b="1" lang="ru-RU" sz="1800" spc="-1" strike="noStrike" baseline="30000">
                  <a:solidFill>
                    <a:srgbClr val="6600ff"/>
                  </a:solidFill>
                  <a:latin typeface="Bookman Old Style"/>
                </a:rPr>
                <a:t>0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 вокруг точки </a:t>
              </a:r>
              <a:r>
                <a:rPr b="1" i="1" lang="en-US" sz="1800" spc="-1" strike="noStrike">
                  <a:solidFill>
                    <a:srgbClr val="6600ff"/>
                  </a:solidFill>
                  <a:latin typeface="Bookman Old Style"/>
                </a:rPr>
                <a:t>O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. Записывают: </a:t>
              </a:r>
              <a:r>
                <a:rPr b="1" lang="en-US" sz="1800" spc="-1" strike="noStrike">
                  <a:solidFill>
                    <a:srgbClr val="6600ff"/>
                  </a:solidFill>
                  <a:latin typeface="Bookman Old Style"/>
                </a:rPr>
                <a:t>A     A1</a:t>
              </a:r>
              <a:r>
                <a:rPr b="1" lang="ru-RU" sz="1800" spc="-1" strike="noStrike">
                  <a:solidFill>
                    <a:srgbClr val="6600ff"/>
                  </a:solidFill>
                  <a:latin typeface="Bookman Old Style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315120" y="5811840"/>
              <a:ext cx="360360" cy="337320"/>
              <a:chOff x="6315120" y="5811840"/>
              <a:chExt cx="360360" cy="337320"/>
            </a:xfrm>
          </p:grpSpPr>
          <p:sp>
            <p:nvSpPr>
              <p:cNvPr id="246" name=""/>
              <p:cNvSpPr/>
              <p:nvPr/>
            </p:nvSpPr>
            <p:spPr>
              <a:xfrm>
                <a:off x="6367680" y="6097680"/>
                <a:ext cx="288720" cy="0"/>
              </a:xfrm>
              <a:prstGeom prst="line">
                <a:avLst/>
              </a:prstGeom>
              <a:ln w="9360">
                <a:solidFill>
                  <a:srgbClr val="66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5120" y="5811840"/>
                <a:ext cx="36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6600ff"/>
                    </a:solidFill>
                    <a:latin typeface="Bookman Old Style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3025800" y="48798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A</a:t>
            </a:r>
            <a:r>
              <a:rPr b="1" i="1" lang="en-US" sz="2400" spc="-1" strike="noStrike" baseline="-25000">
                <a:solidFill>
                  <a:srgbClr val="6600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960" y="55832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74960" y="52894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ff"/>
                </a:solidFill>
                <a:latin typeface="Bookman Old Styl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01400" y="4453560"/>
            <a:ext cx="3539160" cy="1135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064400">
            <a:off x="2006280" y="49971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20512200">
            <a:off x="915840" y="3846240"/>
            <a:ext cx="2298960" cy="2376360"/>
          </a:xfrm>
          <a:prstGeom prst="blockArc">
            <a:avLst>
              <a:gd name="adj1" fmla="val 10687190"/>
              <a:gd name="adj2" fmla="val 112810"/>
              <a:gd name="adj3" fmla="val 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64400">
            <a:off x="919080" y="53287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64400">
            <a:off x="3082680" y="464472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00880" y="2764080"/>
            <a:ext cx="1918800" cy="2680920"/>
            <a:chOff x="200880" y="2764080"/>
            <a:chExt cx="1918800" cy="2680920"/>
          </a:xfrm>
        </p:grpSpPr>
        <p:sp>
          <p:nvSpPr>
            <p:cNvPr id="257" name=""/>
            <p:cNvSpPr/>
            <p:nvPr/>
          </p:nvSpPr>
          <p:spPr>
            <a:xfrm rot="20536200">
              <a:off x="539280" y="2895480"/>
              <a:ext cx="1241640" cy="2417760"/>
            </a:xfrm>
            <a:custGeom>
              <a:avLst/>
              <a:gdLst/>
              <a:ahLst/>
              <a:rect l="l" t="t" r="r" b="b"/>
              <a:pathLst>
                <a:path w="1488" h="4319">
                  <a:moveTo>
                    <a:pt x="1450" y="3559"/>
                  </a:moveTo>
                  <a:lnTo>
                    <a:pt x="1394" y="3491"/>
                  </a:lnTo>
                  <a:lnTo>
                    <a:pt x="1350" y="3427"/>
                  </a:lnTo>
                  <a:lnTo>
                    <a:pt x="1315" y="3356"/>
                  </a:lnTo>
                  <a:lnTo>
                    <a:pt x="1296" y="3285"/>
                  </a:lnTo>
                  <a:lnTo>
                    <a:pt x="1284" y="3208"/>
                  </a:lnTo>
                  <a:lnTo>
                    <a:pt x="1281" y="3124"/>
                  </a:lnTo>
                  <a:lnTo>
                    <a:pt x="1287" y="3031"/>
                  </a:lnTo>
                  <a:lnTo>
                    <a:pt x="1296" y="2931"/>
                  </a:lnTo>
                  <a:lnTo>
                    <a:pt x="1099" y="2055"/>
                  </a:lnTo>
                  <a:lnTo>
                    <a:pt x="1488" y="2055"/>
                  </a:lnTo>
                  <a:lnTo>
                    <a:pt x="1488" y="1961"/>
                  </a:lnTo>
                  <a:lnTo>
                    <a:pt x="1080" y="1965"/>
                  </a:lnTo>
                  <a:lnTo>
                    <a:pt x="873" y="1050"/>
                  </a:lnTo>
                  <a:lnTo>
                    <a:pt x="791" y="1163"/>
                  </a:lnTo>
                  <a:lnTo>
                    <a:pt x="791" y="415"/>
                  </a:lnTo>
                  <a:lnTo>
                    <a:pt x="838" y="374"/>
                  </a:lnTo>
                  <a:lnTo>
                    <a:pt x="838" y="0"/>
                  </a:lnTo>
                  <a:lnTo>
                    <a:pt x="650" y="0"/>
                  </a:lnTo>
                  <a:lnTo>
                    <a:pt x="650" y="374"/>
                  </a:lnTo>
                  <a:lnTo>
                    <a:pt x="697" y="415"/>
                  </a:lnTo>
                  <a:lnTo>
                    <a:pt x="697" y="1163"/>
                  </a:lnTo>
                  <a:lnTo>
                    <a:pt x="615" y="1050"/>
                  </a:lnTo>
                  <a:lnTo>
                    <a:pt x="411" y="1965"/>
                  </a:lnTo>
                  <a:lnTo>
                    <a:pt x="0" y="1961"/>
                  </a:lnTo>
                  <a:lnTo>
                    <a:pt x="0" y="2055"/>
                  </a:lnTo>
                  <a:lnTo>
                    <a:pt x="389" y="2055"/>
                  </a:lnTo>
                  <a:lnTo>
                    <a:pt x="191" y="2931"/>
                  </a:lnTo>
                  <a:lnTo>
                    <a:pt x="201" y="3031"/>
                  </a:lnTo>
                  <a:lnTo>
                    <a:pt x="207" y="3124"/>
                  </a:lnTo>
                  <a:lnTo>
                    <a:pt x="204" y="3208"/>
                  </a:lnTo>
                  <a:lnTo>
                    <a:pt x="191" y="3285"/>
                  </a:lnTo>
                  <a:lnTo>
                    <a:pt x="173" y="3356"/>
                  </a:lnTo>
                  <a:lnTo>
                    <a:pt x="138" y="3427"/>
                  </a:lnTo>
                  <a:lnTo>
                    <a:pt x="94" y="3491"/>
                  </a:lnTo>
                  <a:lnTo>
                    <a:pt x="38" y="3559"/>
                  </a:lnTo>
                  <a:lnTo>
                    <a:pt x="38" y="4319"/>
                  </a:lnTo>
                  <a:lnTo>
                    <a:pt x="78" y="4139"/>
                  </a:lnTo>
                  <a:lnTo>
                    <a:pt x="100" y="4139"/>
                  </a:lnTo>
                  <a:lnTo>
                    <a:pt x="552" y="2052"/>
                  </a:lnTo>
                  <a:lnTo>
                    <a:pt x="694" y="2052"/>
                  </a:lnTo>
                  <a:lnTo>
                    <a:pt x="694" y="2261"/>
                  </a:lnTo>
                  <a:lnTo>
                    <a:pt x="794" y="2261"/>
                  </a:lnTo>
                  <a:lnTo>
                    <a:pt x="794" y="2052"/>
                  </a:lnTo>
                  <a:lnTo>
                    <a:pt x="794" y="1961"/>
                  </a:lnTo>
                  <a:lnTo>
                    <a:pt x="794" y="1752"/>
                  </a:lnTo>
                  <a:lnTo>
                    <a:pt x="694" y="1752"/>
                  </a:lnTo>
                  <a:lnTo>
                    <a:pt x="694" y="1961"/>
                  </a:lnTo>
                  <a:lnTo>
                    <a:pt x="571" y="1961"/>
                  </a:lnTo>
                  <a:lnTo>
                    <a:pt x="706" y="1337"/>
                  </a:lnTo>
                  <a:lnTo>
                    <a:pt x="785" y="1337"/>
                  </a:lnTo>
                  <a:lnTo>
                    <a:pt x="917" y="1961"/>
                  </a:lnTo>
                  <a:lnTo>
                    <a:pt x="794" y="1961"/>
                  </a:lnTo>
                  <a:lnTo>
                    <a:pt x="794" y="2052"/>
                  </a:lnTo>
                  <a:lnTo>
                    <a:pt x="938" y="2052"/>
                  </a:lnTo>
                  <a:lnTo>
                    <a:pt x="1387" y="4139"/>
                  </a:lnTo>
                  <a:lnTo>
                    <a:pt x="1412" y="4139"/>
                  </a:lnTo>
                  <a:lnTo>
                    <a:pt x="1450" y="4319"/>
                  </a:lnTo>
                  <a:lnTo>
                    <a:pt x="1450" y="3559"/>
                  </a:lnTo>
                  <a:lnTo>
                    <a:pt x="1372" y="3607"/>
                  </a:lnTo>
                  <a:lnTo>
                    <a:pt x="1369" y="3623"/>
                  </a:lnTo>
                  <a:lnTo>
                    <a:pt x="1362" y="3636"/>
                  </a:lnTo>
                  <a:lnTo>
                    <a:pt x="1350" y="3643"/>
                  </a:lnTo>
                  <a:lnTo>
                    <a:pt x="1337" y="3646"/>
                  </a:lnTo>
                  <a:lnTo>
                    <a:pt x="1321" y="3643"/>
                  </a:lnTo>
                  <a:lnTo>
                    <a:pt x="1309" y="3636"/>
                  </a:lnTo>
                  <a:lnTo>
                    <a:pt x="1303" y="3623"/>
                  </a:lnTo>
                  <a:lnTo>
                    <a:pt x="1299" y="3607"/>
                  </a:lnTo>
                  <a:lnTo>
                    <a:pt x="1303" y="3594"/>
                  </a:lnTo>
                  <a:lnTo>
                    <a:pt x="1309" y="3582"/>
                  </a:lnTo>
                  <a:lnTo>
                    <a:pt x="1321" y="3575"/>
                  </a:lnTo>
                  <a:lnTo>
                    <a:pt x="1337" y="3572"/>
                  </a:lnTo>
                  <a:lnTo>
                    <a:pt x="1350" y="3575"/>
                  </a:lnTo>
                  <a:lnTo>
                    <a:pt x="1362" y="3582"/>
                  </a:lnTo>
                  <a:lnTo>
                    <a:pt x="1369" y="3594"/>
                  </a:lnTo>
                  <a:lnTo>
                    <a:pt x="1372" y="3607"/>
                  </a:lnTo>
                  <a:lnTo>
                    <a:pt x="1450" y="355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536200">
              <a:off x="639000" y="3173040"/>
              <a:ext cx="587520" cy="403560"/>
            </a:xfrm>
            <a:custGeom>
              <a:avLst/>
              <a:gdLst/>
              <a:ahLst/>
              <a:rect l="l" t="t" r="r" b="b"/>
              <a:pathLst>
                <a:path w="704" h="721">
                  <a:moveTo>
                    <a:pt x="352" y="90"/>
                  </a:moveTo>
                  <a:lnTo>
                    <a:pt x="299" y="96"/>
                  </a:lnTo>
                  <a:lnTo>
                    <a:pt x="248" y="112"/>
                  </a:lnTo>
                  <a:lnTo>
                    <a:pt x="201" y="135"/>
                  </a:lnTo>
                  <a:lnTo>
                    <a:pt x="164" y="167"/>
                  </a:lnTo>
                  <a:lnTo>
                    <a:pt x="132" y="209"/>
                  </a:lnTo>
                  <a:lnTo>
                    <a:pt x="107" y="254"/>
                  </a:lnTo>
                  <a:lnTo>
                    <a:pt x="91" y="306"/>
                  </a:lnTo>
                  <a:lnTo>
                    <a:pt x="85" y="360"/>
                  </a:lnTo>
                  <a:lnTo>
                    <a:pt x="91" y="415"/>
                  </a:lnTo>
                  <a:lnTo>
                    <a:pt x="107" y="467"/>
                  </a:lnTo>
                  <a:lnTo>
                    <a:pt x="132" y="515"/>
                  </a:lnTo>
                  <a:lnTo>
                    <a:pt x="164" y="554"/>
                  </a:lnTo>
                  <a:lnTo>
                    <a:pt x="201" y="586"/>
                  </a:lnTo>
                  <a:lnTo>
                    <a:pt x="248" y="612"/>
                  </a:lnTo>
                  <a:lnTo>
                    <a:pt x="299" y="628"/>
                  </a:lnTo>
                  <a:lnTo>
                    <a:pt x="352" y="634"/>
                  </a:lnTo>
                  <a:lnTo>
                    <a:pt x="405" y="628"/>
                  </a:lnTo>
                  <a:lnTo>
                    <a:pt x="456" y="612"/>
                  </a:lnTo>
                  <a:lnTo>
                    <a:pt x="503" y="586"/>
                  </a:lnTo>
                  <a:lnTo>
                    <a:pt x="540" y="554"/>
                  </a:lnTo>
                  <a:lnTo>
                    <a:pt x="572" y="515"/>
                  </a:lnTo>
                  <a:lnTo>
                    <a:pt x="597" y="467"/>
                  </a:lnTo>
                  <a:lnTo>
                    <a:pt x="613" y="415"/>
                  </a:lnTo>
                  <a:lnTo>
                    <a:pt x="619" y="360"/>
                  </a:lnTo>
                  <a:lnTo>
                    <a:pt x="613" y="306"/>
                  </a:lnTo>
                  <a:lnTo>
                    <a:pt x="597" y="254"/>
                  </a:lnTo>
                  <a:lnTo>
                    <a:pt x="572" y="209"/>
                  </a:lnTo>
                  <a:lnTo>
                    <a:pt x="540" y="167"/>
                  </a:lnTo>
                  <a:lnTo>
                    <a:pt x="503" y="135"/>
                  </a:lnTo>
                  <a:lnTo>
                    <a:pt x="456" y="112"/>
                  </a:lnTo>
                  <a:lnTo>
                    <a:pt x="405" y="96"/>
                  </a:lnTo>
                  <a:lnTo>
                    <a:pt x="352" y="90"/>
                  </a:lnTo>
                  <a:lnTo>
                    <a:pt x="352" y="0"/>
                  </a:lnTo>
                  <a:lnTo>
                    <a:pt x="424" y="6"/>
                  </a:lnTo>
                  <a:lnTo>
                    <a:pt x="490" y="29"/>
                  </a:lnTo>
                  <a:lnTo>
                    <a:pt x="550" y="61"/>
                  </a:lnTo>
                  <a:lnTo>
                    <a:pt x="600" y="106"/>
                  </a:lnTo>
                  <a:lnTo>
                    <a:pt x="644" y="158"/>
                  </a:lnTo>
                  <a:lnTo>
                    <a:pt x="675" y="219"/>
                  </a:lnTo>
                  <a:lnTo>
                    <a:pt x="697" y="286"/>
                  </a:lnTo>
                  <a:lnTo>
                    <a:pt x="704" y="360"/>
                  </a:lnTo>
                  <a:lnTo>
                    <a:pt x="697" y="435"/>
                  </a:lnTo>
                  <a:lnTo>
                    <a:pt x="675" y="502"/>
                  </a:lnTo>
                  <a:lnTo>
                    <a:pt x="644" y="563"/>
                  </a:lnTo>
                  <a:lnTo>
                    <a:pt x="600" y="615"/>
                  </a:lnTo>
                  <a:lnTo>
                    <a:pt x="550" y="660"/>
                  </a:lnTo>
                  <a:lnTo>
                    <a:pt x="490" y="692"/>
                  </a:lnTo>
                  <a:lnTo>
                    <a:pt x="424" y="715"/>
                  </a:lnTo>
                  <a:lnTo>
                    <a:pt x="352" y="721"/>
                  </a:lnTo>
                  <a:lnTo>
                    <a:pt x="280" y="715"/>
                  </a:lnTo>
                  <a:lnTo>
                    <a:pt x="214" y="692"/>
                  </a:lnTo>
                  <a:lnTo>
                    <a:pt x="154" y="660"/>
                  </a:lnTo>
                  <a:lnTo>
                    <a:pt x="104" y="615"/>
                  </a:lnTo>
                  <a:lnTo>
                    <a:pt x="60" y="563"/>
                  </a:lnTo>
                  <a:lnTo>
                    <a:pt x="29" y="502"/>
                  </a:lnTo>
                  <a:lnTo>
                    <a:pt x="7" y="435"/>
                  </a:lnTo>
                  <a:lnTo>
                    <a:pt x="0" y="360"/>
                  </a:lnTo>
                  <a:lnTo>
                    <a:pt x="7" y="286"/>
                  </a:lnTo>
                  <a:lnTo>
                    <a:pt x="29" y="219"/>
                  </a:lnTo>
                  <a:lnTo>
                    <a:pt x="60" y="158"/>
                  </a:lnTo>
                  <a:lnTo>
                    <a:pt x="104" y="106"/>
                  </a:lnTo>
                  <a:lnTo>
                    <a:pt x="154" y="61"/>
                  </a:lnTo>
                  <a:lnTo>
                    <a:pt x="214" y="29"/>
                  </a:lnTo>
                  <a:lnTo>
                    <a:pt x="280" y="6"/>
                  </a:lnTo>
                  <a:lnTo>
                    <a:pt x="352" y="0"/>
                  </a:lnTo>
                  <a:lnTo>
                    <a:pt x="352" y="9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514520" y="51274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3800" y="47671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88960" y="260280"/>
            <a:ext cx="79344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строение центральной симметрии</a:t>
            </a:r>
            <a:endParaRPr b="1" i="1" lang="en-US" sz="40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126828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Bookman Old Style"/>
              </a:rPr>
              <a:t>Выполним построение точки, симмет-ричной данной, относительно  точки </a:t>
            </a: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O</a:t>
            </a:r>
            <a:r>
              <a:rPr b="1" i="1" lang="ru-RU" sz="2400" spc="-1" strike="noStrike">
                <a:solidFill>
                  <a:srgbClr val="ff0066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6165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4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56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6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906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106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4060"/>
                            </p:stCondLst>
                            <p:childTnLst>
                              <p:par>
                                <p:cTn id="643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6059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1060"/>
                            </p:stCondLst>
                            <p:childTnLst>
                              <p:par>
                                <p:cTn id="65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306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3560"/>
                            </p:stCondLst>
                            <p:childTnLst>
                              <p:par>
                                <p:cTn id="672" nodeType="afterEffect" fill="hold" presetClass="entr" presetID="45">
                                  <p:stCondLst>
                                    <p:cond delay="2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549360"/>
            <a:ext cx="856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Задание №</a:t>
            </a:r>
            <a:r>
              <a:rPr b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Bookman Old Style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ыполнить построение трапеции, симметричной данной, относительно точки </a:t>
            </a:r>
            <a:r>
              <a:rPr b="1" i="1" lang="en-US" sz="2400" spc="-1" strike="noStrike">
                <a:solidFill>
                  <a:srgbClr val="0000ff"/>
                </a:solidFill>
                <a:latin typeface="Bookman Old Style"/>
              </a:rPr>
              <a:t>O</a:t>
            </a: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900000" y="2205000"/>
            <a:ext cx="1511280" cy="1008000"/>
          </a:xfrm>
          <a:custGeom>
            <a:avLst/>
            <a:gdLst>
              <a:gd name="textAreaLeft" fmla="*/ 332280 w 1511280"/>
              <a:gd name="textAreaRight" fmla="*/ 1179000 w 151128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cc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803840"/>
            <a:ext cx="1511280" cy="1008000"/>
          </a:xfrm>
          <a:custGeom>
            <a:avLst/>
            <a:gdLst>
              <a:gd name="textAreaLeft" fmla="*/ 332280 w 1511280"/>
              <a:gd name="textAreaRight" fmla="*/ 1179000 w 1511280"/>
              <a:gd name="textAreaTop" fmla="*/ 221400 h 1008000"/>
              <a:gd name="textAreaBottom" fmla="*/ 7866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82680" y="2206800"/>
            <a:ext cx="762120" cy="3600360"/>
          </a:xfrm>
          <a:custGeom>
            <a:avLst/>
            <a:gdLst/>
            <a:ahLst/>
            <a:rect l="l" t="t" r="r" b="b"/>
            <a:pathLst>
              <a:path w="480" h="2268">
                <a:moveTo>
                  <a:pt x="0" y="0"/>
                </a:moveTo>
                <a:lnTo>
                  <a:pt x="480" y="2268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92400" y="2206800"/>
            <a:ext cx="736560" cy="3603600"/>
          </a:xfrm>
          <a:custGeom>
            <a:avLst/>
            <a:gdLst/>
            <a:ahLst/>
            <a:rect l="l" t="t" r="r" b="b"/>
            <a:pathLst>
              <a:path w="464" h="2270">
                <a:moveTo>
                  <a:pt x="464" y="0"/>
                </a:moveTo>
                <a:lnTo>
                  <a:pt x="0" y="2270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1800" y="3209760"/>
            <a:ext cx="1517400" cy="1594080"/>
          </a:xfrm>
          <a:custGeom>
            <a:avLst/>
            <a:gdLst/>
            <a:ahLst/>
            <a:rect l="l" t="t" r="r" b="b"/>
            <a:pathLst>
              <a:path w="956" h="1004">
                <a:moveTo>
                  <a:pt x="0" y="0"/>
                </a:moveTo>
                <a:lnTo>
                  <a:pt x="956" y="1004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5280" y="30844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1897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95640" y="1901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30542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7640" y="3209760"/>
            <a:ext cx="1488960" cy="1594080"/>
          </a:xfrm>
          <a:custGeom>
            <a:avLst/>
            <a:gdLst/>
            <a:ahLst/>
            <a:rect l="l" t="t" r="r" b="b"/>
            <a:pathLst>
              <a:path w="938" h="1004">
                <a:moveTo>
                  <a:pt x="938" y="0"/>
                </a:moveTo>
                <a:lnTo>
                  <a:pt x="0" y="1004"/>
                </a:lnTo>
              </a:path>
            </a:pathLst>
          </a:custGeom>
          <a:noFill/>
          <a:ln w="2844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593720" y="39402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58136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Bookman Old Style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57182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B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65080" y="57214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C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19040" y="4610160"/>
            <a:ext cx="55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D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79640" y="3429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258560" y="350028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979280" y="4221000"/>
            <a:ext cx="730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08000" y="350028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63520" y="430848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22100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8440" y="4788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00000" y="47880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58920" y="57434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08080" y="57434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7360" y="38005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Bookman Old Style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224460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Bookman Old Style"/>
              </a:rPr>
              <a:t>1) 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Проведём от вершин трапеции через точку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O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 лучи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AO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BO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CO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,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 DO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64000" y="3068640"/>
            <a:ext cx="481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2) Построим на лучах точки, симметричные вершинам тра-пеции, относительно точки</a:t>
            </a:r>
            <a:r>
              <a:rPr b="1" i="1" lang="ru-RU" sz="2000" spc="-1" strike="noStrike">
                <a:solidFill>
                  <a:srgbClr val="800000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O</a:t>
            </a:r>
            <a:r>
              <a:rPr b="1" lang="ru-RU" sz="2000" spc="-1" strike="noStrike">
                <a:solidFill>
                  <a:srgbClr val="8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46640" y="5686560"/>
            <a:ext cx="180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2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606840" y="4246560"/>
            <a:ext cx="5183280" cy="745560"/>
            <a:chOff x="3606840" y="4246560"/>
            <a:chExt cx="5183280" cy="745560"/>
          </a:xfrm>
        </p:grpSpPr>
        <p:sp>
          <p:nvSpPr>
            <p:cNvPr id="296" name=""/>
            <p:cNvSpPr/>
            <p:nvPr/>
          </p:nvSpPr>
          <p:spPr>
            <a:xfrm>
              <a:off x="3606840" y="4246560"/>
              <a:ext cx="51832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800000"/>
                  </a:solidFill>
                  <a:latin typeface="Bookman Old Style"/>
                </a:rPr>
                <a:t>3) Соединим полученные точки. Записывается:</a:t>
              </a:r>
              <a:r>
                <a:rPr b="1" i="1" lang="ru-RU" sz="2000" spc="-1" strike="noStrike">
                  <a:solidFill>
                    <a:srgbClr val="800000"/>
                  </a:solidFill>
                  <a:latin typeface="Bookman Old Style"/>
                </a:rPr>
                <a:t> </a:t>
              </a:r>
              <a:r>
                <a:rPr b="1" i="1" lang="en-US" sz="2000" spc="-1" strike="noStrike">
                  <a:solidFill>
                    <a:srgbClr val="800000"/>
                  </a:solidFill>
                  <a:latin typeface="Bookman Old Style"/>
                </a:rPr>
                <a:t>ABCD</a:t>
              </a:r>
              <a:r>
                <a:rPr b="1" lang="en-US" sz="2000" spc="-1" strike="noStrike">
                  <a:solidFill>
                    <a:srgbClr val="800000"/>
                  </a:solidFill>
                  <a:latin typeface="Bookman Old Style"/>
                </a:rPr>
                <a:t>   </a:t>
              </a:r>
              <a:r>
                <a:rPr b="1" lang="ru-RU" sz="2000" spc="-1" strike="noStrike">
                  <a:solidFill>
                    <a:srgbClr val="800000"/>
                  </a:solidFill>
                  <a:latin typeface="Bookman Old Style"/>
                </a:rPr>
                <a:t>  </a:t>
              </a:r>
              <a:r>
                <a:rPr b="1" i="1" lang="en-US" sz="2000" spc="-1" strike="noStrike">
                  <a:solidFill>
                    <a:srgbClr val="800000"/>
                  </a:solidFill>
                  <a:latin typeface="Bookman Old Style"/>
                </a:rPr>
                <a:t>A</a:t>
              </a:r>
              <a:r>
                <a:rPr b="1" lang="en-US" sz="2000" spc="-1" strike="noStrike" baseline="-25000">
                  <a:solidFill>
                    <a:srgbClr val="800000"/>
                  </a:solidFill>
                  <a:latin typeface="Bookman Old Style"/>
                </a:rPr>
                <a:t>1</a:t>
              </a:r>
              <a:r>
                <a:rPr b="1" i="1" lang="en-US" sz="2000" spc="-1" strike="noStrike">
                  <a:solidFill>
                    <a:srgbClr val="800000"/>
                  </a:solidFill>
                  <a:latin typeface="Bookman Old Style"/>
                </a:rPr>
                <a:t>B</a:t>
              </a:r>
              <a:r>
                <a:rPr b="1" lang="en-US" sz="2000" spc="-1" strike="noStrike" baseline="-25000">
                  <a:solidFill>
                    <a:srgbClr val="800000"/>
                  </a:solidFill>
                  <a:latin typeface="Bookman Old Style"/>
                </a:rPr>
                <a:t>1</a:t>
              </a:r>
              <a:r>
                <a:rPr b="1" i="1" lang="en-US" sz="2000" spc="-1" strike="noStrike">
                  <a:solidFill>
                    <a:srgbClr val="800000"/>
                  </a:solidFill>
                  <a:latin typeface="Bookman Old Style"/>
                </a:rPr>
                <a:t>C</a:t>
              </a:r>
              <a:r>
                <a:rPr b="1" lang="en-US" sz="2000" spc="-1" strike="noStrike" baseline="-25000">
                  <a:solidFill>
                    <a:srgbClr val="800000"/>
                  </a:solidFill>
                  <a:latin typeface="Bookman Old Style"/>
                </a:rPr>
                <a:t>1</a:t>
              </a:r>
              <a:r>
                <a:rPr b="1" i="1" lang="en-US" sz="2000" spc="-1" strike="noStrike">
                  <a:solidFill>
                    <a:srgbClr val="800000"/>
                  </a:solidFill>
                  <a:latin typeface="Bookman Old Style"/>
                </a:rPr>
                <a:t>D</a:t>
              </a:r>
              <a:r>
                <a:rPr b="1" lang="en-US" sz="2000" spc="-1" strike="noStrike" baseline="-25000">
                  <a:solidFill>
                    <a:srgbClr val="800000"/>
                  </a:solidFill>
                  <a:latin typeface="Bookman Old Style"/>
                </a:rPr>
                <a:t>1</a:t>
              </a:r>
              <a:r>
                <a:rPr b="1" lang="ru-RU" sz="2000" spc="-1" strike="noStrike">
                  <a:solidFill>
                    <a:srgbClr val="800000"/>
                  </a:solidFill>
                  <a:latin typeface="Bookman Old Style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59640" y="4789440"/>
              <a:ext cx="288720" cy="0"/>
            </a:xfrm>
            <a:prstGeom prst="line">
              <a:avLst/>
            </a:prstGeom>
            <a:ln w="936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99160" y="4457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Bookman Old Style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5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500"/>
                            </p:stCondLst>
                            <p:childTnLst>
                              <p:par>
                                <p:cTn id="7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8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6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1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225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35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26500"/>
                            </p:stCondLst>
                            <p:childTnLst>
                              <p:par>
                                <p:cTn id="7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75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24000" y="333360"/>
            <a:ext cx="855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имметрия в окружающем нас мире</a:t>
            </a:r>
            <a:endParaRPr b="1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8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2446200"/>
            <a:ext cx="4825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Взгляните на снежинку, бабочку, морскую </a:t>
            </a:r>
            <a:r>
              <a:rPr b="1" i="1" lang="ru-RU" sz="2400" spc="-1" strike="noStrike">
                <a:solidFill>
                  <a:srgbClr val="660066"/>
                </a:solidFill>
                <a:latin typeface="Monotype Corsiva"/>
              </a:rPr>
              <a:t>звезду</a:t>
            </a:r>
            <a:r>
              <a:rPr b="1" lang="ru-RU" sz="2400" spc="-1" strike="noStrike">
                <a:solidFill>
                  <a:srgbClr val="660066"/>
                </a:solidFill>
                <a:latin typeface="Monotype Corsiva"/>
              </a:rPr>
              <a:t>, листья растений, паутинку – это лишь некоторые про-явления симметрии в прир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90792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Monotype Corsiva"/>
              </a:rPr>
              <a:t>Изображения на плоскости многих предметов окружающего нас мира имеют ось симметрии или центр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4640" y="6370560"/>
            <a:ext cx="13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Bookman Old Style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5559480" y="907920"/>
            <a:ext cx="3024000" cy="2905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292720" y="3933720"/>
            <a:ext cx="3508560" cy="26323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1138320" y="4006800"/>
            <a:ext cx="288108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95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8950"/>
                            </p:stCondLst>
                            <p:childTnLst>
                              <p:par>
                                <p:cTn id="8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9950"/>
                            </p:stCondLst>
                            <p:childTnLst>
                              <p:par>
                                <p:cTn id="8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950"/>
                            </p:stCondLst>
                            <p:childTnLst>
                              <p:par>
                                <p:cTn id="8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6950"/>
                            </p:stCondLst>
                            <p:childTnLst>
                              <p:par>
                                <p:cTn id="8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05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Bookman Old Style"/>
              </a:rPr>
              <a:t>С симметрией мы часто встречаемся в искусстве, архитектуре, технике, быту. Так фасады многих зданий обладают осевой симметрией. В большин-стве случаев симметрич-ны относительно оси или центра узоры на коврах, тканях, комнатных обо-ях. Симметричны многие детали механизм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687920" y="3473280"/>
            <a:ext cx="4017960" cy="3152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042920" y="645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Bookman Old Style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417920" y="352440"/>
            <a:ext cx="4391280" cy="2927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264960" y="3859200"/>
            <a:ext cx="395928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0"/>
                            </p:stCondLst>
                            <p:childTnLst>
                              <p:par>
                                <p:cTn id="8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11280" y="538200"/>
            <a:ext cx="5686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 Antiqua"/>
              </a:rPr>
              <a:t>Что такое симметрия?</a:t>
            </a:r>
            <a:endParaRPr b="1" i="1" lang="en-US" sz="44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1640" y="1484280"/>
            <a:ext cx="600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cc0099"/>
                    </a:gs>
                    <a:gs pos="100000">
                      <a:srgbClr val="ff00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севая симметр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cc0099"/>
                  </a:gs>
                  <a:gs pos="100000">
                    <a:srgbClr val="ff00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7280" y="2349360"/>
            <a:ext cx="68011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строение осевой симметрии</a:t>
            </a:r>
            <a:endParaRPr b="1" lang="en-US" sz="4400" spc="1" strike="noStrike">
              <a:ln w="936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87280" y="3284640"/>
            <a:ext cx="6667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9933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urier New"/>
              </a:rPr>
              <a:t>Ценральная симметрия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50000">
                    <a:srgbClr val="9933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71640" y="4292640"/>
            <a:ext cx="7410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99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строение центральной симметрии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cc0066"/>
                  </a:gs>
                  <a:gs pos="100000">
                    <a:srgbClr val="99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5297400"/>
            <a:ext cx="788508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ff00ff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Sylfaen"/>
              </a:rPr>
              <a:t>Симметрия в окружающем нас мире</a:t>
            </a:r>
            <a:endParaRPr b="1" i="1" lang="en-US" sz="4400" spc="1" strike="noStrike">
              <a:ln w="9360">
                <a:solidFill>
                  <a:srgbClr val="ff00ff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Sylfaen"/>
              <a:ea typeface="Sylfae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4848120" y="1978200"/>
            <a:ext cx="41054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В математике рассматрива-ются два вида симметрии: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Monotype Corsiva"/>
              </a:rPr>
              <a:t> осевая и центральная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. Зеркальная сим-метрия считается одним из видов осевой. </a:t>
            </a:r>
            <a:r>
              <a:rPr b="1" i="1" lang="ru-RU" sz="2400" spc="-1" strike="noStrike">
                <a:solidFill>
                  <a:srgbClr val="0000ff"/>
                </a:solidFill>
                <a:latin typeface="Monotype Corsiva"/>
              </a:rPr>
              <a:t>Различные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 геомет-рические фигуры обладают сим-метрией. Наша с вами задача: определить, что называют осевой и центральной симметрией, научиться их различать и строить, определить фигуры, обладающие той или иной симмет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6600" y="62355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Monotype Corsiva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44276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Слово «симметрия», как и многие другие математические термины, пришло к нам из Древней Греции. Оно, как и слово «гармония», означает «соразмерность», «наличие определённого порядка, закономер-ности в расположении част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74680" y="2781360"/>
            <a:ext cx="4392720" cy="3332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10800000">
            <a:off x="6732360" y="835920"/>
            <a:ext cx="1368360" cy="934920"/>
          </a:xfrm>
          <a:custGeom>
            <a:avLst/>
            <a:gdLst>
              <a:gd name="textAreaLeft" fmla="*/ 300960 w 1368360"/>
              <a:gd name="textAreaRight" fmla="*/ 1067400 w 1368360"/>
              <a:gd name="textAreaTop" fmla="*/ 205560 h 934920"/>
              <a:gd name="textAreaBottom" fmla="*/ 7293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50000">
                <a:srgbClr val="ff66cc"/>
              </a:gs>
              <a:gs pos="100000">
                <a:srgbClr val="6600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1640" y="1125360"/>
            <a:ext cx="1224000" cy="792360"/>
          </a:xfrm>
          <a:prstGeom prst="flowChartMagneticDrum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81440" y="260280"/>
            <a:ext cx="6000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cc0066"/>
                    </a:gs>
                    <a:gs pos="100000">
                      <a:srgbClr val="ff00ff"/>
                    </a:gs>
                  </a:gsLst>
                  <a:lin ang="13500000"/>
                </a:gradFill>
                <a:latin typeface="Bookman Old Style"/>
              </a:rPr>
              <a:t>Осевая симметр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cc0066"/>
                  </a:gs>
                  <a:gs pos="100000">
                    <a:srgbClr val="ff00ff"/>
                  </a:gs>
                </a:gsLst>
                <a:lin ang="13500000"/>
              </a:gradFill>
              <a:latin typeface="Bookman Old Style"/>
              <a:ea typeface="Bookman Old Style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3645000"/>
            <a:ext cx="49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60093"/>
                </a:solidFill>
                <a:latin typeface="Bookman Old Style"/>
              </a:rPr>
              <a:t>Фигура называется симмет-ричной относительно прямой</a:t>
            </a: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a</a:t>
            </a: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, </a:t>
            </a:r>
            <a:r>
              <a:rPr b="1" i="1" lang="ru-RU" sz="2000" spc="-1" strike="noStrike">
                <a:solidFill>
                  <a:srgbClr val="d60093"/>
                </a:solidFill>
                <a:latin typeface="Bookman Old Style"/>
              </a:rPr>
              <a:t>если для каждой точки фигуры симметричная ей точка отно-сительно</a:t>
            </a: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d60093"/>
                </a:solidFill>
                <a:latin typeface="Bookman Old Style"/>
              </a:rPr>
              <a:t>прямой</a:t>
            </a:r>
            <a:r>
              <a:rPr b="1" lang="en-US" sz="2000" spc="-1" strike="noStrike">
                <a:solidFill>
                  <a:srgbClr val="d60093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a</a:t>
            </a: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d60093"/>
                </a:solidFill>
                <a:latin typeface="Bookman Old Style"/>
              </a:rPr>
              <a:t>также при-надлежит этой фигуре. Прямая</a:t>
            </a: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 </a:t>
            </a: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a</a:t>
            </a:r>
            <a:r>
              <a:rPr b="1" lang="ru-RU" sz="2000" spc="-1" strike="noStrike">
                <a:solidFill>
                  <a:srgbClr val="d60093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d60093"/>
                </a:solidFill>
                <a:latin typeface="Bookman Old Style"/>
              </a:rPr>
              <a:t>называется осью симметрии фиг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19960" y="6153120"/>
            <a:ext cx="118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3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671400"/>
            <a:ext cx="2736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ff"/>
                </a:solidFill>
                <a:latin typeface="Bookman Old Style"/>
              </a:rPr>
              <a:t>Рассмотрите данные фигуры. Каждая из них состоит как бы из двух полови-нок, одна из ко-торых является зеркальным отра-жением другой. Каждую из этих фигур можно сог-нуть «пополам» так, что эти поло-винки совпадут. Говорят, что эти фигуры симмет-ричны относи-тельно прямой – линии с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76720" y="1413000"/>
            <a:ext cx="1726920" cy="13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435640" y="1844640"/>
            <a:ext cx="1368360" cy="1352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7164360" y="1341360"/>
            <a:ext cx="1511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4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800"/>
                            </p:stCondLst>
                            <p:childTnLst>
                              <p:par>
                                <p:cTn id="1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0" y="-458640"/>
            <a:ext cx="9144000" cy="7316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6600" y="0"/>
            <a:ext cx="41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Ось симметрии имеют плоские </a:t>
            </a:r>
            <a:r>
              <a:rPr b="0" lang="en-US" sz="1800" spc="-1" strike="noStrike">
                <a:solidFill>
                  <a:srgbClr val="993366"/>
                </a:solidFill>
                <a:latin typeface="Bookman Old Style"/>
              </a:rPr>
              <a:t> 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и пространственные фигуры.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36600" y="1065240"/>
            <a:ext cx="863640" cy="1440000"/>
            <a:chOff x="336600" y="1065240"/>
            <a:chExt cx="863640" cy="1440000"/>
          </a:xfrm>
        </p:grpSpPr>
        <p:sp>
          <p:nvSpPr>
            <p:cNvPr id="90" name=""/>
            <p:cNvSpPr/>
            <p:nvPr/>
          </p:nvSpPr>
          <p:spPr>
            <a:xfrm>
              <a:off x="336600" y="1208160"/>
              <a:ext cx="863640" cy="1079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66ff"/>
                </a:gs>
                <a:gs pos="100000">
                  <a:srgbClr val="db57db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8600" y="1065240"/>
              <a:ext cx="0" cy="1440000"/>
            </a:xfrm>
            <a:prstGeom prst="line">
              <a:avLst/>
            </a:prstGeom>
            <a:ln w="936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496960" y="1496880"/>
            <a:ext cx="792360" cy="792360"/>
            <a:chOff x="2496960" y="1496880"/>
            <a:chExt cx="792360" cy="792360"/>
          </a:xfrm>
        </p:grpSpPr>
        <p:sp>
          <p:nvSpPr>
            <p:cNvPr id="93" name=""/>
            <p:cNvSpPr/>
            <p:nvPr/>
          </p:nvSpPr>
          <p:spPr>
            <a:xfrm>
              <a:off x="2496960" y="1496880"/>
              <a:ext cx="792360" cy="720720"/>
            </a:xfrm>
            <a:custGeom>
              <a:avLst/>
              <a:gdLst>
                <a:gd name="textAreaLeft" fmla="*/ 186120 w 792360"/>
                <a:gd name="textAreaRight" fmla="*/ 605520 w 792360"/>
                <a:gd name="textAreaTop" fmla="*/ 84600 h 720720"/>
                <a:gd name="textAreaBottom" fmla="*/ 452160 h 7207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95480" y="1496880"/>
              <a:ext cx="0" cy="792360"/>
            </a:xfrm>
            <a:prstGeom prst="line">
              <a:avLst/>
            </a:prstGeom>
            <a:ln w="9360">
              <a:solidFill>
                <a:srgbClr val="00ff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415520" y="1209600"/>
            <a:ext cx="863640" cy="1152360"/>
            <a:chOff x="1415520" y="1209600"/>
            <a:chExt cx="863640" cy="1152360"/>
          </a:xfrm>
        </p:grpSpPr>
        <p:sp>
          <p:nvSpPr>
            <p:cNvPr id="96" name=""/>
            <p:cNvSpPr/>
            <p:nvPr/>
          </p:nvSpPr>
          <p:spPr>
            <a:xfrm rot="5400000">
              <a:off x="1378800" y="1465200"/>
              <a:ext cx="1008360" cy="649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415520" y="1785960"/>
              <a:ext cx="8636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75960" y="1209600"/>
              <a:ext cx="0" cy="1152360"/>
            </a:xfrm>
            <a:prstGeom prst="line">
              <a:avLst/>
            </a:prstGeom>
            <a:ln w="936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360600" y="1281240"/>
            <a:ext cx="865080" cy="1008000"/>
            <a:chOff x="3360600" y="1281240"/>
            <a:chExt cx="865080" cy="1008000"/>
          </a:xfrm>
        </p:grpSpPr>
        <p:sp>
          <p:nvSpPr>
            <p:cNvPr id="100" name=""/>
            <p:cNvSpPr/>
            <p:nvPr/>
          </p:nvSpPr>
          <p:spPr>
            <a:xfrm>
              <a:off x="3360600" y="1352520"/>
              <a:ext cx="865080" cy="863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2600" y="1281240"/>
              <a:ext cx="0" cy="1008000"/>
            </a:xfrm>
            <a:prstGeom prst="line">
              <a:avLst/>
            </a:prstGeom>
            <a:ln w="9360">
              <a:solidFill>
                <a:srgbClr val="ff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24000" y="26179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Bookman Old Style"/>
              </a:rPr>
              <a:t>Некоторые фигуры имеют не одну ось симмет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3492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Bookman Old Style"/>
              </a:rPr>
              <a:t>Задание№1.</a:t>
            </a:r>
            <a:r>
              <a:rPr b="0" lang="en-US" sz="1800" spc="-1" strike="noStrike">
                <a:solidFill>
                  <a:srgbClr val="cc0066"/>
                </a:solidFill>
                <a:latin typeface="Bookman Old Style"/>
              </a:rPr>
              <a:t>                                 </a:t>
            </a: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Из данных фигур выберите те, которые имеют ось симметрии. Есть ли среди них такие, которые имеют более одной оси симметри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5411880"/>
            <a:ext cx="934920" cy="1257120"/>
            <a:chOff x="324000" y="5411880"/>
            <a:chExt cx="934920" cy="12571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24000" y="5411880"/>
              <a:ext cx="9349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01920" y="6300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32000" y="5430960"/>
            <a:ext cx="934920" cy="1254240"/>
            <a:chOff x="1332000" y="5430960"/>
            <a:chExt cx="934920" cy="125424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1332000" y="5430960"/>
              <a:ext cx="9349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681200" y="6316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340000" y="5411880"/>
            <a:ext cx="1035000" cy="1262160"/>
            <a:chOff x="2340000" y="5411880"/>
            <a:chExt cx="1035000" cy="1262160"/>
          </a:xfrm>
        </p:grpSpPr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2340000" y="5411880"/>
              <a:ext cx="92052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655720" y="63057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48000" y="5388120"/>
            <a:ext cx="1127160" cy="1266840"/>
            <a:chOff x="3348000" y="5388120"/>
            <a:chExt cx="1127160" cy="1266840"/>
          </a:xfrm>
        </p:grpSpPr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3348000" y="5388120"/>
              <a:ext cx="10810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754440" y="62866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г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5508720" y="309600"/>
            <a:ext cx="2592360" cy="186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40200" y="281628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40200" y="2192400"/>
            <a:ext cx="3816360" cy="41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На листе бумаги изображена «ёлочка». Концы её нижних «веток» обозначены буквами </a:t>
            </a: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0" lang="en-US" sz="18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и </a:t>
            </a: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. Если перегнуть «ёлочку» по прямой 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, то точки </a:t>
            </a: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 и </a:t>
            </a: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0" lang="en-US" sz="1800" spc="-1" strike="noStrike" baseline="-25000">
                <a:solidFill>
                  <a:srgbClr val="993366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совпадут. Если посмотреть на рисунок сверху, то точки </a:t>
            </a: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0" lang="en-US" sz="18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1" lang="en-US" sz="1800" spc="-1" strike="noStrike" baseline="-25000">
                <a:solidFill>
                  <a:srgbClr val="993366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будут расположены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на пер-пендикуляре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к прямой 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l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 по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разные стороны 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на равных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расстояниях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 от неё. Такие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точки называют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симмет-ричными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относительно пря-мой </a:t>
            </a:r>
            <a:r>
              <a:rPr b="1" i="1" lang="en-US" sz="2000" spc="-1" strike="noStrike">
                <a:solidFill>
                  <a:srgbClr val="993366"/>
                </a:solidFill>
                <a:latin typeface="Times New Roman"/>
              </a:rPr>
              <a:t>l</a:t>
            </a:r>
            <a:r>
              <a:rPr b="1" i="1" lang="ru-RU" sz="1800" spc="-1" strike="noStrike">
                <a:solidFill>
                  <a:srgbClr val="993366"/>
                </a:solidFill>
                <a:latin typeface="Bookman Old Style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9480" y="6165720"/>
            <a:ext cx="23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8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500"/>
                            </p:stCondLst>
                            <p:childTnLst>
                              <p:par>
                                <p:cTn id="1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230040"/>
            <a:ext cx="7417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1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ff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Bookman Old Style"/>
              </a:rPr>
              <a:t>Построение осевой симметрии</a:t>
            </a:r>
            <a:endParaRPr b="1" i="1" lang="en-US" sz="4000" spc="1" strike="noStrike">
              <a:ln w="9360">
                <a:solidFill>
                  <a:srgbClr val="00ff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321300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2133720"/>
            <a:ext cx="7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2206800"/>
            <a:ext cx="0" cy="3313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3120" y="3935520"/>
            <a:ext cx="3206880" cy="0"/>
            <a:chOff x="573120" y="3935520"/>
            <a:chExt cx="3206880" cy="0"/>
          </a:xfrm>
        </p:grpSpPr>
        <p:sp>
          <p:nvSpPr>
            <p:cNvPr id="126" name=""/>
            <p:cNvSpPr/>
            <p:nvPr/>
          </p:nvSpPr>
          <p:spPr>
            <a:xfrm>
              <a:off x="573120" y="3935520"/>
              <a:ext cx="161280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6840" y="3935520"/>
              <a:ext cx="1613160" cy="0"/>
            </a:xfrm>
            <a:prstGeom prst="line">
              <a:avLst/>
            </a:prstGeom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0920" y="4021200"/>
            <a:ext cx="107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M</a:t>
            </a:r>
            <a:r>
              <a:rPr b="1" lang="en-US" sz="2400" spc="-1" strike="noStrike" baseline="-25000">
                <a:solidFill>
                  <a:srgbClr val="0066ff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6520" y="4081320"/>
            <a:ext cx="7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59280" y="3860640"/>
            <a:ext cx="14436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11480" y="346716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Bookman Old Styl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55640" y="378936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935520"/>
            <a:ext cx="270000" cy="285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156440" y="6299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6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11720" y="1366920"/>
            <a:ext cx="3860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Проведём прямую</a:t>
            </a:r>
            <a:r>
              <a:rPr b="0" lang="en-US" sz="18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 и от-метим точку </a:t>
            </a: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 вне этой пря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9040" y="238428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Bookman Old Style"/>
              </a:rPr>
              <a:t>Построим точку, симметричную данной, относительно прямой </a:t>
            </a:r>
            <a:r>
              <a:rPr b="1" i="1" lang="en-US" sz="1800" spc="-1" strike="noStrike">
                <a:solidFill>
                  <a:srgbClr val="ff0066"/>
                </a:solidFill>
                <a:latin typeface="Bookman Old Style"/>
              </a:rPr>
              <a:t>a</a:t>
            </a:r>
            <a:r>
              <a:rPr b="1" lang="ru-RU" sz="1800" spc="-1" strike="noStrike">
                <a:solidFill>
                  <a:srgbClr val="ff0066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36920" y="32068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1) Проведём через точку </a:t>
            </a: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M</a:t>
            </a: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 пря-мую </a:t>
            </a: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MO</a:t>
            </a: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,перпендикулярную оси симметрии </a:t>
            </a: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0" lang="ru-RU" sz="1800" spc="-1" strike="noStrike">
                <a:solidFill>
                  <a:srgbClr val="0000ff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860640"/>
            <a:ext cx="14472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18920" y="378936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356000" y="4067280"/>
            <a:ext cx="3827520" cy="2363400"/>
            <a:chOff x="4356000" y="4067280"/>
            <a:chExt cx="3827520" cy="2363400"/>
          </a:xfrm>
        </p:grpSpPr>
        <p:sp>
          <p:nvSpPr>
            <p:cNvPr id="141" name=""/>
            <p:cNvSpPr/>
            <p:nvPr/>
          </p:nvSpPr>
          <p:spPr>
            <a:xfrm>
              <a:off x="4356000" y="4067280"/>
              <a:ext cx="3827520" cy="23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2) С помощью циркуля отло-жим на прямой 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</a:rPr>
                <a:t>MO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 отрезок 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</a:rPr>
                <a:t>OM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Bookman Old Style"/>
                </a:rPr>
                <a:t>1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, равный отрезку 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</a:rPr>
                <a:t>OM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. (Симметричные точки обоз-начаются одинаковыми бук-вами с индексами и запи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man Old Style"/>
                </a:rPr>
                <a:t>-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сываются так 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</a:rPr>
                <a:t>M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  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man Old Style"/>
                </a:rPr>
                <a:t>   </a:t>
              </a:r>
              <a:r>
                <a:rPr b="1" lang="en-US" sz="1800" spc="-1" strike="noStrike">
                  <a:solidFill>
                    <a:srgbClr val="0000ff"/>
                  </a:solidFill>
                  <a:latin typeface="Bookman Old Style"/>
                </a:rPr>
                <a:t>M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ff"/>
                  </a:solidFill>
                  <a:latin typeface="Bookman Old Style"/>
                </a:rPr>
                <a:t> 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)</a:t>
              </a:r>
              <a:r>
                <a:rPr b="0" lang="ru-RU" sz="1800" spc="-1" strike="noStrike">
                  <a:solidFill>
                    <a:srgbClr val="0000ff"/>
                  </a:solidFill>
                  <a:latin typeface="Bookman Old Style"/>
                </a:rPr>
                <a:t>	</a:t>
              </a:r>
              <a:r>
                <a:rPr b="0" lang="ru-RU" sz="1800" spc="-1" strike="noStrike">
                  <a:solidFill>
                    <a:srgbClr val="000000"/>
                  </a:solidFill>
                  <a:latin typeface="Bookman Old Style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329520" y="5608800"/>
              <a:ext cx="345960" cy="337320"/>
              <a:chOff x="6329520" y="5608800"/>
              <a:chExt cx="345960" cy="337320"/>
            </a:xfrm>
          </p:grpSpPr>
          <p:sp>
            <p:nvSpPr>
              <p:cNvPr id="143" name=""/>
              <p:cNvSpPr/>
              <p:nvPr/>
            </p:nvSpPr>
            <p:spPr>
              <a:xfrm>
                <a:off x="6386400" y="5915160"/>
                <a:ext cx="2890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29520" y="5608800"/>
                <a:ext cx="28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ff"/>
                    </a:solidFill>
                    <a:latin typeface="Bookman Old Style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50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770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7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47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92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200"/>
                            </p:stCondLst>
                            <p:childTnLst>
                              <p:par>
                                <p:cTn id="30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0798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Bookman Old Style"/>
              </a:rPr>
              <a:t>Задание№2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1" i="1" lang="ru-RU" sz="1800" spc="-1" strike="noStrike">
                <a:solidFill>
                  <a:srgbClr val="0000ff"/>
                </a:solidFill>
                <a:latin typeface="Bookman Old Style"/>
              </a:rPr>
              <a:t>Выполнить построение пря-моугольника, симметричного данному относительно пря-мой </a:t>
            </a:r>
            <a:r>
              <a:rPr b="1" i="1" lang="en-US" sz="18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ff"/>
                </a:solidFill>
                <a:latin typeface="Bookman Old Style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4680" y="5556240"/>
            <a:ext cx="42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ru-RU" sz="1800" spc="-1" strike="noStrike">
                <a:solidFill>
                  <a:srgbClr val="993366"/>
                </a:solidFill>
                <a:latin typeface="Bookman Old Style"/>
              </a:rPr>
              <a:t>1) Проведём от вершин прямоугольника прямые, перпендикулярные данной прямой </a:t>
            </a:r>
            <a:r>
              <a:rPr b="1" i="1" lang="en-US" sz="1800" spc="-1" strike="noStrike">
                <a:solidFill>
                  <a:srgbClr val="993366"/>
                </a:solidFill>
                <a:latin typeface="Bookman Old Style"/>
              </a:rPr>
              <a:t>a</a:t>
            </a:r>
            <a:r>
              <a:rPr b="1" lang="ru-RU" sz="1800" spc="-1" strike="noStrike">
                <a:solidFill>
                  <a:srgbClr val="993366"/>
                </a:solidFill>
                <a:latin typeface="Bookman Old Styl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2637000"/>
            <a:ext cx="3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2735280"/>
            <a:ext cx="77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man Old Style"/>
              </a:rPr>
              <a:t>B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52920" y="26028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9335000">
            <a:off x="1925640" y="1607760"/>
            <a:ext cx="3002040" cy="14540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e399b"/>
              </a:gs>
            </a:gsLst>
            <a:lin ang="7668000"/>
          </a:gra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692440" y="3830760"/>
            <a:ext cx="3681360" cy="0"/>
            <a:chOff x="2692440" y="3830760"/>
            <a:chExt cx="3681360" cy="0"/>
          </a:xfrm>
        </p:grpSpPr>
        <p:sp>
          <p:nvSpPr>
            <p:cNvPr id="153" name=""/>
            <p:cNvSpPr/>
            <p:nvPr/>
          </p:nvSpPr>
          <p:spPr>
            <a:xfrm>
              <a:off x="2692440" y="3830760"/>
              <a:ext cx="18399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33840" y="3830760"/>
              <a:ext cx="18399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795320" y="2679840"/>
            <a:ext cx="5471640" cy="2520"/>
            <a:chOff x="1795320" y="2679840"/>
            <a:chExt cx="5471640" cy="2520"/>
          </a:xfrm>
        </p:grpSpPr>
        <p:sp>
          <p:nvSpPr>
            <p:cNvPr id="156" name=""/>
            <p:cNvSpPr/>
            <p:nvPr/>
          </p:nvSpPr>
          <p:spPr>
            <a:xfrm>
              <a:off x="1795320" y="2679840"/>
              <a:ext cx="2754360" cy="2520"/>
            </a:xfrm>
            <a:custGeom>
              <a:avLst/>
              <a:gdLst/>
              <a:ahLst/>
              <a:rect l="l" t="t" r="r" b="b"/>
              <a:pathLst>
                <a:path w="1290" h="1">
                  <a:moveTo>
                    <a:pt x="0" y="1"/>
                  </a:moveTo>
                  <a:lnTo>
                    <a:pt x="1290" y="0"/>
                  </a:lnTo>
                </a:path>
              </a:pathLst>
            </a:custGeom>
            <a:noFill/>
            <a:ln w="255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55800" y="2682360"/>
              <a:ext cx="2711160" cy="0"/>
            </a:xfrm>
            <a:prstGeom prst="line">
              <a:avLst/>
            </a:prstGeom>
            <a:ln w="255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170240" y="843120"/>
            <a:ext cx="739080" cy="2520"/>
            <a:chOff x="4170240" y="843120"/>
            <a:chExt cx="739080" cy="2520"/>
          </a:xfrm>
        </p:grpSpPr>
        <p:sp>
          <p:nvSpPr>
            <p:cNvPr id="159" name=""/>
            <p:cNvSpPr/>
            <p:nvPr/>
          </p:nvSpPr>
          <p:spPr>
            <a:xfrm>
              <a:off x="4170240" y="843120"/>
              <a:ext cx="370800" cy="2520"/>
            </a:xfrm>
            <a:custGeom>
              <a:avLst/>
              <a:gdLst/>
              <a:ahLst/>
              <a:rect l="l" t="t" r="r" b="b"/>
              <a:pathLst>
                <a:path w="174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255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38520" y="843120"/>
              <a:ext cx="370800" cy="2520"/>
            </a:xfrm>
            <a:custGeom>
              <a:avLst/>
              <a:gdLst/>
              <a:ahLst/>
              <a:rect l="l" t="t" r="r" b="b"/>
              <a:pathLst>
                <a:path w="174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255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022640" y="1990800"/>
            <a:ext cx="1031760" cy="1440"/>
            <a:chOff x="4022640" y="1990800"/>
            <a:chExt cx="1031760" cy="1440"/>
          </a:xfrm>
        </p:grpSpPr>
        <p:sp>
          <p:nvSpPr>
            <p:cNvPr id="162" name=""/>
            <p:cNvSpPr/>
            <p:nvPr/>
          </p:nvSpPr>
          <p:spPr>
            <a:xfrm>
              <a:off x="4539600" y="1990800"/>
              <a:ext cx="514800" cy="1440"/>
            </a:xfrm>
            <a:custGeom>
              <a:avLst/>
              <a:gdLst/>
              <a:ahLst/>
              <a:rect l="l" t="t" r="r" b="b"/>
              <a:pathLst>
                <a:path w="241" h="1">
                  <a:moveTo>
                    <a:pt x="241" y="0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22640" y="1990800"/>
              <a:ext cx="521280" cy="1440"/>
            </a:xfrm>
            <a:custGeom>
              <a:avLst/>
              <a:gdLst/>
              <a:ahLst/>
              <a:rect l="l" t="t" r="r" b="b"/>
              <a:pathLst>
                <a:path w="244" h="1">
                  <a:moveTo>
                    <a:pt x="244" y="0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rot="13068600">
            <a:off x="4152600" y="1607760"/>
            <a:ext cx="3002040" cy="145404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59080" y="378612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63800" y="44784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92840" y="1676520"/>
            <a:ext cx="58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84800" y="3835440"/>
            <a:ext cx="87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man Old Style"/>
              </a:rPr>
              <a:t>A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21280" y="44784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man Old Style"/>
              </a:rPr>
              <a:t>C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73280" y="1752480"/>
            <a:ext cx="77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ookman Old Style"/>
              </a:rPr>
              <a:t>D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763440" y="3740040"/>
            <a:ext cx="1954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24520" y="3740040"/>
            <a:ext cx="193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72920" y="2577960"/>
            <a:ext cx="1954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668760" y="2577960"/>
            <a:ext cx="193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218200" y="2577960"/>
            <a:ext cx="1951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24520" y="2577960"/>
            <a:ext cx="193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46440" y="388800"/>
            <a:ext cx="0" cy="397224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08840" y="632160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3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557208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Bookman Old Style"/>
              </a:rPr>
              <a:t>Выполните построение дан-ного чертежа после прос-мотра слай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99080" y="4329000"/>
            <a:ext cx="44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Bookman Old Style"/>
              </a:rPr>
              <a:t>2) Построим точки, симметрич-ные вершинам прямоугольника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4998960"/>
            <a:ext cx="450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Bookman Old Style"/>
              </a:rPr>
              <a:t>3) Соединим полученные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53040" y="3836880"/>
            <a:ext cx="28872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3280" y="3797280"/>
            <a:ext cx="730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195408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78360" y="804960"/>
            <a:ext cx="730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29520" y="264312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5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500"/>
                            </p:stCondLst>
                            <p:childTnLst>
                              <p:par>
                                <p:cTn id="3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3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1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33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3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4000"/>
                            </p:stCondLst>
                            <p:childTnLst>
                              <p:par>
                                <p:cTn id="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4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70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425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43120" y="473040"/>
            <a:ext cx="7419960" cy="924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Центральная симметрия</a:t>
            </a:r>
            <a:endParaRPr b="1" lang="en-US" sz="60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189" name=""/>
          <p:cNvSpPr/>
          <p:nvPr/>
        </p:nvSpPr>
        <p:spPr>
          <a:xfrm>
            <a:off x="692280" y="1154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Monotype Corsiva"/>
              </a:rPr>
              <a:t>Центральная симметрия является ещё одним видом симмет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4440" y="1484280"/>
            <a:ext cx="81216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Bookman Old Style"/>
              </a:rPr>
              <a:t>Фигура называется симметричной относительно точки </a:t>
            </a:r>
            <a:r>
              <a:rPr b="1" i="1" lang="en-US" sz="2000" spc="-1" strike="noStrike">
                <a:solidFill>
                  <a:srgbClr val="ff0066"/>
                </a:solidFill>
                <a:latin typeface="Bookman Old Style"/>
              </a:rPr>
              <a:t>O</a:t>
            </a:r>
            <a:r>
              <a:rPr b="1" i="1" lang="ru-RU" sz="2000" spc="-1" strike="noStrike">
                <a:solidFill>
                  <a:srgbClr val="ff0066"/>
                </a:solidFill>
                <a:latin typeface="Bookman Old Style"/>
              </a:rPr>
              <a:t>, если для каждой точки фигуры симметричная ей точка относительно точки </a:t>
            </a:r>
            <a:r>
              <a:rPr b="1" i="1" lang="en-US" sz="2000" spc="-1" strike="noStrike">
                <a:solidFill>
                  <a:srgbClr val="ff0066"/>
                </a:solidFill>
                <a:latin typeface="Bookman Old Style"/>
              </a:rPr>
              <a:t>O</a:t>
            </a:r>
            <a:r>
              <a:rPr b="1" i="1" lang="ru-RU" sz="20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Bookman Old Style"/>
              </a:rPr>
              <a:t>также принадлежит этой фигуре. Точка </a:t>
            </a:r>
            <a:r>
              <a:rPr b="1" i="1" lang="en-US" sz="2000" spc="-1" strike="noStrike">
                <a:solidFill>
                  <a:srgbClr val="ff0066"/>
                </a:solidFill>
                <a:latin typeface="Bookman Old Style"/>
              </a:rPr>
              <a:t>O</a:t>
            </a:r>
            <a:r>
              <a:rPr b="1" i="1" lang="ru-RU" sz="20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ff0066"/>
                </a:solidFill>
                <a:latin typeface="Bookman Old Style"/>
              </a:rPr>
              <a:t>называется центром симмет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960" y="301320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ff"/>
                </a:solidFill>
                <a:latin typeface="Copperplate Gothic Bold"/>
              </a:rPr>
              <a:t>Вы знаете, что существуют фигуры, которые имеют ось симметрии, а некоторые и не одну. Но фигура может иметь и центр симметрии. Точка является центром симмет-рии, если при повороте вокруг этой точки на 180</a:t>
            </a:r>
            <a:r>
              <a:rPr b="1" i="1" lang="ru-RU" sz="2000" spc="-1" strike="noStrike" baseline="30000">
                <a:solidFill>
                  <a:srgbClr val="6600ff"/>
                </a:solidFill>
                <a:latin typeface="Copperplate Gothic Bold"/>
              </a:rPr>
              <a:t>0</a:t>
            </a:r>
            <a:r>
              <a:rPr b="1" i="1" lang="ru-RU" sz="2000" spc="-1" strike="noStrike">
                <a:solidFill>
                  <a:srgbClr val="6600ff"/>
                </a:solidFill>
                <a:latin typeface="Copperplate Gothic Bold"/>
              </a:rPr>
              <a:t> фигура переходит сама в себя. Такие фигуры назы-ваются центрально-симмет-ричными</a:t>
            </a:r>
            <a:r>
              <a:rPr b="1" lang="ru-RU" sz="2000" spc="-1" strike="noStrike">
                <a:solidFill>
                  <a:srgbClr val="6600ff"/>
                </a:solidFill>
                <a:latin typeface="Copperplate Gothic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438880" y="3286080"/>
            <a:ext cx="3311280" cy="2886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348160" y="627552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5" action="ppaction://hlinksldjump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426440" y="347760"/>
            <a:ext cx="1296720" cy="1217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2665440" cy="1071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564000" y="476280"/>
            <a:ext cx="1439640" cy="8776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042920" y="1839960"/>
            <a:ext cx="863640" cy="86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00"/>
              </a:gs>
              <a:gs pos="100000">
                <a:srgbClr val="ff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1716120"/>
            <a:ext cx="936720" cy="100800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1773360"/>
            <a:ext cx="936720" cy="936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cc00"/>
              </a:gs>
              <a:gs pos="50000">
                <a:srgbClr val="660033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1700280"/>
            <a:ext cx="1152360" cy="10080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580000" y="404640"/>
            <a:ext cx="1297080" cy="1047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2852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Bookman Old Style"/>
              </a:rPr>
              <a:t>Если внимательно рассмотреть данные орнаменты и фигуры, можно заметить, что все они имеют центр симмет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6480" y="3564000"/>
            <a:ext cx="334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Bookman Old Style"/>
              </a:rPr>
              <a:t>Задание№3.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Bookman Old Style"/>
              </a:rPr>
              <a:t>На рисунке изображены различные геометричес-кие фигуры. Выберите из них те, которые име-ют центр симметрии, и изобразите их в тет-ради. Отметьте центр симметрии и точки, симметричные отмечен-ным точ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97120" y="3803760"/>
            <a:ext cx="1584360" cy="1020600"/>
            <a:chOff x="1797120" y="3803760"/>
            <a:chExt cx="1584360" cy="1020600"/>
          </a:xfrm>
        </p:grpSpPr>
        <p:sp>
          <p:nvSpPr>
            <p:cNvPr id="206" name=""/>
            <p:cNvSpPr/>
            <p:nvPr/>
          </p:nvSpPr>
          <p:spPr>
            <a:xfrm>
              <a:off x="2157480" y="3803760"/>
              <a:ext cx="1224000" cy="1008000"/>
            </a:xfrm>
            <a:prstGeom prst="triangle">
              <a:avLst>
                <a:gd name="adj" fmla="val 50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97120" y="38037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Bookman Old Style"/>
                </a:rPr>
                <a:t>б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800" y="47530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348000" y="3789360"/>
            <a:ext cx="1965240" cy="1093680"/>
            <a:chOff x="3348000" y="3789360"/>
            <a:chExt cx="1965240" cy="1093680"/>
          </a:xfrm>
        </p:grpSpPr>
        <p:sp>
          <p:nvSpPr>
            <p:cNvPr id="210" name=""/>
            <p:cNvSpPr/>
            <p:nvPr/>
          </p:nvSpPr>
          <p:spPr>
            <a:xfrm>
              <a:off x="3944880" y="3803760"/>
              <a:ext cx="1368360" cy="107928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48000" y="3789360"/>
              <a:ext cx="4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Bookman Old Style"/>
                </a:rPr>
                <a:t>в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7200" y="381780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31840" y="5262480"/>
            <a:ext cx="1584360" cy="1017720"/>
            <a:chOff x="231840" y="5262480"/>
            <a:chExt cx="1584360" cy="1017720"/>
          </a:xfrm>
        </p:grpSpPr>
        <p:sp>
          <p:nvSpPr>
            <p:cNvPr id="214" name=""/>
            <p:cNvSpPr/>
            <p:nvPr/>
          </p:nvSpPr>
          <p:spPr>
            <a:xfrm>
              <a:off x="520560" y="5478480"/>
              <a:ext cx="1295640" cy="792000"/>
            </a:xfrm>
            <a:prstGeom prst="parallelogram">
              <a:avLst>
                <a:gd name="adj" fmla="val 40898"/>
              </a:avLst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1840" y="52624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Bookman Old Style"/>
                </a:rPr>
                <a:t>г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28840" y="620856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28600" y="3773520"/>
            <a:ext cx="1536840" cy="1273320"/>
            <a:chOff x="228600" y="3773520"/>
            <a:chExt cx="1536840" cy="1273320"/>
          </a:xfrm>
        </p:grpSpPr>
        <p:sp>
          <p:nvSpPr>
            <p:cNvPr id="218" name=""/>
            <p:cNvSpPr/>
            <p:nvPr/>
          </p:nvSpPr>
          <p:spPr>
            <a:xfrm>
              <a:off x="468360" y="3819600"/>
              <a:ext cx="1297080" cy="1225440"/>
            </a:xfrm>
            <a:prstGeom prst="diamond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8600" y="3773520"/>
              <a:ext cx="5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Bookman Old Style"/>
                </a:rPr>
                <a:t>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7840" y="497520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784520" y="5210280"/>
            <a:ext cx="1801800" cy="1098360"/>
            <a:chOff x="1784520" y="5210280"/>
            <a:chExt cx="1801800" cy="1098360"/>
          </a:xfrm>
        </p:grpSpPr>
        <p:sp>
          <p:nvSpPr>
            <p:cNvPr id="222" name=""/>
            <p:cNvSpPr/>
            <p:nvPr/>
          </p:nvSpPr>
          <p:spPr>
            <a:xfrm>
              <a:off x="2217600" y="5229360"/>
              <a:ext cx="1368720" cy="1079280"/>
            </a:xfrm>
            <a:prstGeom prst="pentagon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84520" y="529272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Bookman Old Style"/>
                </a:rPr>
                <a:t>д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2360" y="521028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629160" y="5267160"/>
            <a:ext cx="1915920" cy="971640"/>
            <a:chOff x="3629160" y="5267160"/>
            <a:chExt cx="1915920" cy="971640"/>
          </a:xfrm>
        </p:grpSpPr>
        <p:sp>
          <p:nvSpPr>
            <p:cNvPr id="226" name=""/>
            <p:cNvSpPr/>
            <p:nvPr/>
          </p:nvSpPr>
          <p:spPr>
            <a:xfrm>
              <a:off x="4032360" y="5373720"/>
              <a:ext cx="1512720" cy="865080"/>
            </a:xfrm>
            <a:custGeom>
              <a:avLst/>
              <a:gdLst>
                <a:gd name="textAreaLeft" fmla="*/ 332640 w 1512720"/>
                <a:gd name="textAreaRight" fmla="*/ 1180080 w 1512720"/>
                <a:gd name="textAreaTop" fmla="*/ 190080 h 865080"/>
                <a:gd name="textAreaBottom" fmla="*/ 67500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29160" y="526716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33"/>
                  </a:solidFill>
                  <a:latin typeface="Bookman Old Style"/>
                </a:rPr>
                <a:t>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5364000"/>
              <a:ext cx="7128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192560" y="8748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37280" y="855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66720" y="8175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989840" y="855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7480" y="21859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21906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19480" y="21528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24720" y="2133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9116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2280" y="6346800"/>
            <a:ext cx="161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Bookman Old Style"/>
                <a:hlinkClick r:id="rId13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4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000"/>
                            </p:stCondLst>
                            <p:childTnLst>
                              <p:par>
                                <p:cTn id="5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9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8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3:16:39Z</dcterms:created>
  <dc:creator> Мансурова Н.Ю.</dc:creator>
  <dc:description/>
  <dc:language>en-US</dc:language>
  <cp:lastModifiedBy>Евгений Мансуров</cp:lastModifiedBy>
  <dcterms:modified xsi:type="dcterms:W3CDTF">2007-01-09T18:18:14Z</dcterms:modified>
  <cp:revision>77</cp:revision>
  <dc:subject>"Осевая и центральная симметрии"</dc:subject>
  <dc:title>Презентация </dc:title>
</cp:coreProperties>
</file>