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0624-24A3-4487-909C-6FFFA65A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D3D26-4972-40C3-A547-D9DE92E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DC00-A4F1-4D37-9988-2741518E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F21D9-F314-449C-ADDC-B73D757B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FBAC-6AC1-41FE-AE89-F309361D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06F0-AE1A-4DE0-9C99-0A6AE79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7471-00E7-4C60-8E53-077B18B8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F314-6DA4-495E-83CA-6B944E31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6E6E-70B0-4132-B36C-A32194BB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514D-0856-4A32-A1F3-FE04478A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2ACE-5D6D-42FE-860B-B7F0765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860D-665D-486E-8FF1-3BF45F06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D82B-71AF-4F10-9A3D-8E22895A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9CAC-E537-4960-89A7-9CD5F6D9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FC14-669C-416F-9670-845A903B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5405-1924-4C40-803E-715EB4C7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2483-798D-4D91-99BF-219C99DF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BAA1-8974-4E7B-8EB3-D6BA6B11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5A3A-2251-42DF-B11D-4B07EE9E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FA9C-A534-43BD-8D8C-7657F467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EE08-9E6D-4B57-8D0C-DF0C13B1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D5812-1C23-43DC-8162-0847824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5DE10-A568-4C5C-879E-E2E2A2A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FEEC-55CF-4340-B2FB-8CFA8CBE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6863-8799-4B8F-8569-23B0490C50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0763-EAA1-4074-8E64-D6309E4A4E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640" y="5445000"/>
            <a:ext cx="568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поп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 работнике его Бал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487224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5734080"/>
            <a:ext cx="878544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ка о царе Сал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сыне его, славном и могучем богатыре князе Гвидоне Салтановиче и о прекрасной царевне Лебе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143840" cy="545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Сказки А.С.Пушки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попе и работнике его Бал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мертвой царевне 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царе Салтане, о сыне его славном и могучем богатыре князе Гвидоне Салтановиче и о прекрасной царевне Лебе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4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л старик со своею старух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самого синего мо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арь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а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тушка подарил Звездоч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 стеречь его гран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нязь Гви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ого превращался князь Гвидон?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акой последовательности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ма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мух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шм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92360" y="1484280"/>
          <a:ext cx="4968360" cy="4530600"/>
        </p:xfrm>
        <a:graphic>
          <a:graphicData uri="http://schemas.openxmlformats.org/drawingml/2006/table">
            <a:tbl>
              <a:tblPr/>
              <a:tblGrid>
                <a:gridCol w="413280"/>
                <a:gridCol w="415440"/>
                <a:gridCol w="413640"/>
                <a:gridCol w="413280"/>
                <a:gridCol w="414000"/>
                <a:gridCol w="415440"/>
                <a:gridCol w="413640"/>
                <a:gridCol w="413280"/>
                <a:gridCol w="413640"/>
                <a:gridCol w="415800"/>
                <a:gridCol w="413640"/>
                <a:gridCol w="4132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63640" y="1413000"/>
          <a:ext cx="5003640" cy="4530600"/>
        </p:xfrm>
        <a:graphic>
          <a:graphicData uri="http://schemas.openxmlformats.org/drawingml/2006/table">
            <a:tbl>
              <a:tblPr/>
              <a:tblGrid>
                <a:gridCol w="416880"/>
                <a:gridCol w="416520"/>
                <a:gridCol w="417240"/>
                <a:gridCol w="416880"/>
                <a:gridCol w="417240"/>
                <a:gridCol w="418680"/>
                <a:gridCol w="415440"/>
                <a:gridCol w="416880"/>
                <a:gridCol w="416880"/>
                <a:gridCol w="419040"/>
                <a:gridCol w="415080"/>
                <a:gridCol w="4168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979640" y="1484280"/>
          <a:ext cx="4679640" cy="4530600"/>
        </p:xfrm>
        <a:graphic>
          <a:graphicData uri="http://schemas.openxmlformats.org/drawingml/2006/table">
            <a:tbl>
              <a:tblPr/>
              <a:tblGrid>
                <a:gridCol w="389880"/>
                <a:gridCol w="389520"/>
                <a:gridCol w="390240"/>
                <a:gridCol w="389880"/>
                <a:gridCol w="390240"/>
                <a:gridCol w="391680"/>
                <a:gridCol w="388440"/>
                <a:gridCol w="389880"/>
                <a:gridCol w="389880"/>
                <a:gridCol w="392040"/>
                <a:gridCol w="388080"/>
                <a:gridCol w="3898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763640" y="1557360"/>
          <a:ext cx="4752720" cy="4530600"/>
        </p:xfrm>
        <a:graphic>
          <a:graphicData uri="http://schemas.openxmlformats.org/drawingml/2006/table">
            <a:tbl>
              <a:tblPr/>
              <a:tblGrid>
                <a:gridCol w="396000"/>
                <a:gridCol w="395640"/>
                <a:gridCol w="396360"/>
                <a:gridCol w="396000"/>
                <a:gridCol w="396000"/>
                <a:gridCol w="398160"/>
                <a:gridCol w="394200"/>
                <a:gridCol w="396360"/>
                <a:gridCol w="395640"/>
                <a:gridCol w="398160"/>
                <a:gridCol w="394200"/>
                <a:gridCol w="39600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92360" y="1484280"/>
          <a:ext cx="4897440" cy="4530600"/>
        </p:xfrm>
        <a:graphic>
          <a:graphicData uri="http://schemas.openxmlformats.org/drawingml/2006/table">
            <a:tbl>
              <a:tblPr/>
              <a:tblGrid>
                <a:gridCol w="407880"/>
                <a:gridCol w="407880"/>
                <a:gridCol w="408240"/>
                <a:gridCol w="407880"/>
                <a:gridCol w="407880"/>
                <a:gridCol w="411120"/>
                <a:gridCol w="406440"/>
                <a:gridCol w="408240"/>
                <a:gridCol w="407880"/>
                <a:gridCol w="409680"/>
                <a:gridCol w="406080"/>
                <a:gridCol w="40824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7240"/>
                <a:gridCol w="68436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0872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.Вруб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а морем царевна есть,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не можно глаз отвесть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8920" y="2204640"/>
            <a:ext cx="72007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ациозная              изящная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рупкая                   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красная             белоснеж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рдая                    неприступ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атная                  цар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чавая              величе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Александр Сергеевич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ушки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99  –  18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23880" y="1125360"/>
            <a:ext cx="4092480" cy="50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95280" y="277560"/>
            <a:ext cx="4691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Царевна Лебедь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2997000" cy="1996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2849760" cy="3500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516720" y="3357720"/>
            <a:ext cx="2419200" cy="3500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359856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684360" y="260280"/>
            <a:ext cx="2840040" cy="29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74400" y="-502704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4680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тупил на двор широко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м под ёлкою высо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елка песенку по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й орех грыз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мрудец вынима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 мешочек опускае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засеян двор больш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ю скорлуп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ости дале торопливо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мотрят-что ж? княгиня – диво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д косой луна блести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во лбу звезда гори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сама-то велич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ступает, будто п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векровь свою ведё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глядит – и узнает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9280" y="333360"/>
            <a:ext cx="42847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нём взыграло ретивое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Что я вижу? что такое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к!» - и дух в нём занялся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лезами залился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нимает он царицу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ынка, и молодицу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адятся все за стол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есёлый пир пошё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ткачиха с поварихой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сватьей бабой Бабарих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бежались по угл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х нашли насилу та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ут во всем они признались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инились, разрыдалис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для радости та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пустил всех трёх дом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96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Что  за   прелесть   эти   сказк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5411" t="2535" r="6223" b="1170"/>
          <a:stretch/>
        </p:blipFill>
        <p:spPr>
          <a:xfrm>
            <a:off x="684360" y="784080"/>
            <a:ext cx="7832520" cy="6073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4937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54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6000" y="551628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а о мертвой царевне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02912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92000" y="5876640"/>
            <a:ext cx="583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98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69440" cy="50547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580500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491868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075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2920" y="558972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мёртвой царевн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74160" cy="5438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640" y="580500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7:43:30Z</dcterms:created>
  <dc:creator>я</dc:creator>
  <dc:description/>
  <dc:language>en-US</dc:language>
  <cp:lastModifiedBy>Vlad</cp:lastModifiedBy>
  <dcterms:modified xsi:type="dcterms:W3CDTF">2010-07-10T20:58:47Z</dcterms:modified>
  <cp:revision>24</cp:revision>
  <dc:subject/>
  <dc:title>Пушкин Александр Сергеевич</dc:title>
</cp:coreProperties>
</file>